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DD4B-A363-46C9-8E15-1D836E7A5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C698-9EB3-472D-8ECD-7408CBC6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FB2B-C355-4522-81D5-84D0A169A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2DDB-47BD-4B8C-A76E-37F56503B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8D98-324B-47B7-8C01-A5D54757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D026-847E-48F1-A1D5-DB652578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DAE1-740B-4780-AAB6-71FABD77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DE7C-32C6-4E66-9683-9C53A2CB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BB70-8C7A-467F-B65E-FCDB74D5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F785-4A00-4B04-B3A3-DA839DB9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B2D5-00DA-4C2E-A548-B29C64BD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E256-4112-4693-8B6F-2A2CCC4A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E6C8-FC34-4A3C-A414-24FA11BD4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79280" y="-25560"/>
            <a:ext cx="9791640" cy="6865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179280" y="6453360"/>
            <a:ext cx="344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来自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依依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PPT-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n</dc:creator>
  <dc:description/>
  <dc:language>en-US</dc:language>
  <cp:lastModifiedBy/>
  <dcterms:modified xsi:type="dcterms:W3CDTF">2013-07-25T14:32:5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47</vt:lpwstr>
  </property>
</Properties>
</file>