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337-45A1-4CD9-AFCF-4DBC84E6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96A-AEAA-4339-B0F5-AA0FEA4E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F6F-C27B-4622-B1FE-5B955EC7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6A1-E6EF-43AA-9457-F6F3FC46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6F5-4F16-436C-B1E8-0B1355C5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FEE-FBC8-44D1-B94A-E7EDA0A4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2ECE-0C13-480F-8B93-31D99926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2BA-1484-4EA5-9F59-B6F780A5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9A3-BC9B-4B31-ABE2-29E24CF3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53E-F1A4-456D-AE0B-0FA3B619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AC6-08C0-41AF-A07C-83B6427C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C0B-7D28-439D-A618-51C745A8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E17D-92C5-430D-8970-B46A3D70B1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9F83-F311-446C-AACC-700669A122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38200" y="-25560"/>
            <a:ext cx="9717120" cy="702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393840" y="6632640"/>
            <a:ext cx="39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陈乔恩版东方不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xiang</cp:lastModifiedBy>
  <dcterms:modified xsi:type="dcterms:W3CDTF">2013-07-25T14:47:08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