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1EE-0138-488E-ABA1-FB1000EA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B0D-5CDA-4B52-BDA8-E94B9919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553-54A1-4B33-94C6-CD92DC4E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D67F-CEB6-4278-878B-C3C2CA77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6017-26DF-4257-BEEB-C7CA21F1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39A1-81F0-431B-A91D-34BDCDBF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3237-2DB0-437D-8404-0F8A3DA9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7DB-66A4-488E-BBD4-9C65E89B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3C4-74F5-4A34-878A-E7CD1A2F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FBC-E90E-4C19-8678-0E6A2959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F05-4F44-462E-A02B-2237D85E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57BD-19D5-442E-9B3E-B95D7DD5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E088-C7F3-49C8-ACF8-3FC5182E3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33440"/>
            <a:ext cx="914400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n</dc:creator>
  <dc:description/>
  <dc:language>en-US</dc:language>
  <cp:lastModifiedBy/>
  <dcterms:modified xsi:type="dcterms:W3CDTF">2013-07-25T15:00:0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