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440-163A-4942-889B-7137DA4F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22A-66B1-4EAB-8CDB-6DB7CA35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46E-AAE8-409C-AB8D-656AC7B7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B53-8AC3-4653-A3B3-C9892252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0CD-114D-46A3-A097-EAE44D3B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55D-DED0-47AC-8FA9-1BDB1650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A7E-4565-4969-962D-846DFA17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756-20E5-49F7-A372-C72A9E11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5A9-F0B1-469A-96B8-41DF73C7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F93-EB13-4D1C-8DDF-2A2E619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6B1-9B32-42BC-91E8-55DFB3B7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139-B896-4BBC-A779-C4E0A0B1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311E-DBF6-4BEC-B7E2-2E0CEB43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6519960"/>
            <a:ext cx="20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来自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n</dc:creator>
  <dc:description/>
  <dc:language>en-US</dc:language>
  <cp:lastModifiedBy/>
  <dcterms:modified xsi:type="dcterms:W3CDTF">2013-07-25T15:04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