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1D9A-DD31-460E-B861-906756067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C736-E634-4C9F-B659-38E306A6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6AE7-7AEC-44CC-A31A-04DEC6250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3BE3-1FDB-4065-82EB-9842F115A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AE59-8F43-4AA0-9BBD-0CCF8D78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3FCA-AB23-4273-8702-312A36EE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ECC2-F309-4F31-86D4-5B272544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7B10-F146-445E-A7BA-B77238E7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3B1D-E7A6-431D-A284-E70CCBFF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873F-0D26-445A-B9B3-3A56F4CD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719C-753F-47F5-A5F8-BAFF201D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4218-C8F2-4339-8BF1-53F153C1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8ACE-49EA-486D-B080-8B2A082F2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48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091280" y="6118200"/>
            <a:ext cx="201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n</dc:creator>
  <dc:description/>
  <dc:language>en-US</dc:language>
  <cp:lastModifiedBy/>
  <dcterms:modified xsi:type="dcterms:W3CDTF">2013-07-25T15:07:5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47</vt:lpwstr>
  </property>
</Properties>
</file>