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63C-2C5D-4473-8429-DC35ECA9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167-934E-45A3-B00D-E8E7E0B3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169-6C05-4FFE-8F02-F79A9A1B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2FB-0389-4A2B-9806-2992BF1E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D34-F8A7-4C23-9726-EB7DB5CC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3A1-EC7E-43E7-8FF5-CC96D2E5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ED4-4B05-4A01-9FD6-AFBF9DB3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21E-1DB7-4B99-B01A-BB13D3DC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0DB-2304-43FA-9D0C-E8A442A2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29F-E416-41C7-A9F3-B4B7D73F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848-A8DE-47AB-B172-582F09E7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A62-F83C-412D-A50B-5F6347C5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1A5B-CB1D-4553-BC47-1CD482A71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n</dc:creator>
  <dc:description/>
  <dc:language>en-US</dc:language>
  <cp:lastModifiedBy/>
  <dcterms:modified xsi:type="dcterms:W3CDTF">2013-07-25T15:10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