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BC5D-146A-4EFE-BADD-B21E5C46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D8F9-329E-4539-B2A2-4D316F6C5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5ABE-2E75-41B5-B08B-71E097B0C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3294-7DD9-4E23-B891-684855668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995B-62DD-4265-9FBF-F6D2353F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70D4F-F96F-4E91-BCAC-24E3C8DA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C33A8-BF49-495B-B9BA-C746E9299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367FA-5667-4CF6-BEED-572468CA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778E3-724E-404A-89BF-DD0317CCC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549A4-1D5E-4C09-8D8E-BB01CCFA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481B-2C24-4952-95A1-FFA9D6D5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BE5-8EB5-4C57-907A-9C8CC5AC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0F665-FD17-4196-B8D6-25EBAEFC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CB134-8DBE-44AC-8598-EAECA9F2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8517-E0E9-4E4E-8D41-0A49239C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CC95-E037-4171-BCB0-864D067B1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E7BB-35BF-49F0-96DC-B78420432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4CF-873A-4B89-B808-40EF0D36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A899-73C1-4325-8F8E-C7592CBC9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2D3-1B19-45F9-9E8E-B64FA72C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AD1-1DA5-447C-AFCD-3A693C1C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DC67-A016-493C-87ED-1BF23F87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08F7-9160-4FAF-A1D3-F00E30EE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259A-130E-473F-B95A-38A7AD59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5a00"/>
            </a:gs>
            <a:gs pos="50000">
              <a:srgbClr val="f8ce0a"/>
            </a:gs>
            <a:gs pos="100000">
              <a:srgbClr val="e05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9ECBD-1D87-4185-B367-2EFEC6089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9D21-39CB-4E26-99E7-AEE1D6F5E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05a00"/>
            </a:gs>
            <a:gs pos="50000">
              <a:srgbClr val="f8ce0a"/>
            </a:gs>
            <a:gs pos="100000">
              <a:srgbClr val="e05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788000" y="-453960"/>
            <a:ext cx="4848120" cy="685152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-30240" y="2925720"/>
            <a:ext cx="4528800" cy="2808360"/>
            <a:chOff x="-30240" y="2925720"/>
            <a:chExt cx="4528800" cy="28083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rcRect l="7448" t="47573" r="40256" b="5954"/>
            <a:stretch/>
          </p:blipFill>
          <p:spPr>
            <a:xfrm>
              <a:off x="391680" y="2925720"/>
              <a:ext cx="4106880" cy="274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rcRect l="0" t="50002" r="72051" b="14305"/>
            <a:stretch/>
          </p:blipFill>
          <p:spPr>
            <a:xfrm>
              <a:off x="-30240" y="3512520"/>
              <a:ext cx="2314440" cy="222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6200" y="1557000"/>
            <a:ext cx="51850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000000"/>
              </a:solidFill>
              <a:latin typeface="Aharoni"/>
              <a:ea typeface="方正舒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2638080"/>
            <a:ext cx="51861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>
            <a:lum bright="100000"/>
          </a:blip>
          <a:stretch/>
        </p:blipFill>
        <p:spPr>
          <a:xfrm>
            <a:off x="2052720" y="333360"/>
            <a:ext cx="776160" cy="1254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66720" y="477720"/>
            <a:ext cx="267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Hap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N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Year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>
            <a:lum bright="100000"/>
          </a:blip>
          <a:stretch/>
        </p:blipFill>
        <p:spPr>
          <a:xfrm>
            <a:off x="1763640" y="382680"/>
            <a:ext cx="523800" cy="525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6"/>
          <a:srcRect l="64168" t="0" r="0" b="37410"/>
          <a:stretch/>
        </p:blipFill>
        <p:spPr>
          <a:xfrm>
            <a:off x="5796000" y="0"/>
            <a:ext cx="3276720" cy="4292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7"/>
          <a:srcRect l="0" t="74148" r="0" b="0"/>
          <a:stretch/>
        </p:blipFill>
        <p:spPr>
          <a:xfrm>
            <a:off x="0" y="4968720"/>
            <a:ext cx="9144000" cy="17719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8"/>
          <a:srcRect l="0" t="86762" r="0" b="0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9"/>
          <a:srcRect l="32675" t="68891" r="0" b="0"/>
          <a:stretch/>
        </p:blipFill>
        <p:spPr>
          <a:xfrm>
            <a:off x="2987640" y="4751280"/>
            <a:ext cx="6156360" cy="2133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10"/>
          <a:srcRect l="0" t="50002" r="49758" b="0"/>
          <a:stretch/>
        </p:blipFill>
        <p:spPr>
          <a:xfrm>
            <a:off x="34920" y="2565360"/>
            <a:ext cx="5003640" cy="37720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11"/>
          <a:srcRect l="14696" t="62527" r="53058" b="3300"/>
          <a:stretch/>
        </p:blipFill>
        <p:spPr>
          <a:xfrm>
            <a:off x="1584360" y="3502080"/>
            <a:ext cx="3238560" cy="2577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2"/>
          <a:srcRect l="80844" t="68925" r="0" b="9439"/>
          <a:stretch/>
        </p:blipFill>
        <p:spPr>
          <a:xfrm>
            <a:off x="7236000" y="4941720"/>
            <a:ext cx="1868400" cy="158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3"/>
          <a:srcRect l="28060" t="69903" r="51272" b="9439"/>
          <a:stretch/>
        </p:blipFill>
        <p:spPr>
          <a:xfrm>
            <a:off x="2916360" y="4078440"/>
            <a:ext cx="2217600" cy="1662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14"/>
          <a:srcRect l="12550" t="67928" r="67532" b="11396"/>
          <a:stretch/>
        </p:blipFill>
        <p:spPr>
          <a:xfrm>
            <a:off x="-293760" y="3500280"/>
            <a:ext cx="2129040" cy="1663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15"/>
          <a:srcRect l="0" t="48245" r="82865" b="28126"/>
          <a:stretch/>
        </p:blipFill>
        <p:spPr>
          <a:xfrm>
            <a:off x="1332000" y="4365720"/>
            <a:ext cx="1838160" cy="1901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16"/>
          <a:stretch/>
        </p:blipFill>
        <p:spPr>
          <a:xfrm>
            <a:off x="0" y="5877000"/>
            <a:ext cx="9167760" cy="528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640" y="6165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mph" presetID="26" repeatCount="indefinite">
                                  <p:stCondLst>
                                    <p:cond delay="2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1000" autoRev="1" fill="hold"/>
                                        <p:tgtEl>
                                          <p:spTgt spid="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6" repeatCount="indefinite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100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 repeatCount="indefinite">
                                  <p:stCondLst>
                                    <p:cond delay="24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100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indefinite">
                                  <p:stCondLst>
                                    <p:cond delay="2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10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0696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3:40:31Z</dcterms:created>
  <dc:creator>曹晨鑫</dc:creator>
  <dc:description/>
  <dc:language>en-US</dc:language>
  <cp:lastModifiedBy/>
  <dcterms:modified xsi:type="dcterms:W3CDTF">2014-10-23T17:00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