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E25D-E97C-49D5-A4D2-5BF70D34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40B6-6788-45F8-B1C8-F43C7D0E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E75E-EEAB-49DA-9C52-5E76EC18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FE86-5DBC-47EE-BB79-D4C70680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0E77-D404-4BF7-A8A8-81CA16AD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E20A-38EE-4B13-9FA9-92A19334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5404-8902-4B45-9A41-AD8789FC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20D8-3352-4D32-A38A-1EE2826E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2BD7-AD55-4109-8AC1-690B70D5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69EA-B5C8-44D4-9334-E7F59006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60C3-9F56-4D2A-888E-B4A7A59A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4777-A94D-4F6B-962C-D5E85B79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20B7-E51D-48B5-B772-A93EAF97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DBC3-8131-4F2D-BCE5-123D67CD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8B26-65F6-41BE-90F0-4E79DFE4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362D-9FA7-433A-97E8-9F965EA1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FCA1-3B41-4DDA-B7E5-0BC7FCBE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673B-B0CB-4063-970F-7437E856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126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92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331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126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92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A6FF-11DD-4CEA-8D41-53FBBA56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126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892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31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126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892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9043-74D9-4213-BDE7-9F7AF28B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20C3-C3FC-496E-9CE6-6FE21071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FFF4-D969-4726-9CEB-C5220A1D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CFAB-4383-4968-A992-7905B46B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D3DF-43FB-4508-B44A-36D10123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26F8-425F-475E-8638-B8577C6F7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25B9-C70F-407A-A647-06505AB44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523520"/>
            <a:ext cx="7924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6733800" y="62485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TW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TW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Microsoft JhengHei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配色方案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格式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幻灯片设计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配色方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编辑配色方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crosoft JhengHei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Microsoft JhengHei"/>
              </a:rPr>
              <a:t>的添加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添加修改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下调整。直接选择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图片删除或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Microsoft JhengHei"/>
              </a:rPr>
              <a:t>字体格式的设置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标题和文本格式的设置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Microsoft JhengHei"/>
              </a:rPr>
              <a:t>默认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首页主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40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号（中文宋体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）加粗加阴影；副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20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号（中文宋体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）加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内页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36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号（中文宋体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）加粗加阴影；内页内容文字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32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号（宋体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130400" y="4221000"/>
            <a:ext cx="7276680" cy="556920"/>
            <a:chOff x="1130400" y="4221000"/>
            <a:chExt cx="7276680" cy="556920"/>
          </a:xfrm>
        </p:grpSpPr>
        <p:sp>
          <p:nvSpPr>
            <p:cNvPr id="163" name="Text Box 6"/>
            <p:cNvSpPr/>
            <p:nvPr/>
          </p:nvSpPr>
          <p:spPr>
            <a:xfrm>
              <a:off x="1240920" y="4282200"/>
              <a:ext cx="701028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eeppt.com- 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为您免费提供大量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PPT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模板下载包括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PPT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模板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,PPT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背景图片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,PPT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素材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,PPT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图表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,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动态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PPT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模板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,PowerPoint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模板等各类幻灯片模板。让您轻松制作出精美好看的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PPT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模板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1130400" y="4221000"/>
              <a:ext cx="727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8"/>
          <p:cNvSpPr/>
          <p:nvPr/>
        </p:nvSpPr>
        <p:spPr>
          <a:xfrm>
            <a:off x="0" y="3822840"/>
            <a:ext cx="90676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分享者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: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5300640" y="2641680"/>
            <a:ext cx="414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iterate type="lt">
                                    <p:tmAbs val="116.666999816895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4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hank You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5:44:32Z</dcterms:created>
  <dc:creator>Rhea</dc:creator>
  <dc:description>www.nordridesign.cn
</dc:description>
  <cp:keywords>教育 英语 Powerbar Rhea</cp:keywords>
  <dc:language>en-US</dc:language>
  <cp:lastModifiedBy>king</cp:lastModifiedBy>
  <dcterms:modified xsi:type="dcterms:W3CDTF">2014-10-23T16:39:10Z</dcterms:modified>
  <cp:revision>6</cp:revision>
  <dc:subject>教育 英语 </dc:subject>
  <dc:title>儿童教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  <property fmtid="{D5CDD505-2E9C-101B-9397-08002B2CF9AE}" pid="3" name="Version">
    <vt:r8>1</vt:r8>
  </property>
</Properties>
</file>