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834-06BD-4636-9260-E4CFF8CA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F42-B573-4D33-BB6D-21B7729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369-4846-49DB-AA86-76C97B63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5B4-B7D9-4C71-92DD-A590BB7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370-0D61-49E0-AE91-70D835D8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E34-AB71-4A09-9815-C80B73D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8F99-8F80-4A75-BB63-35F8707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C566-B002-475B-A510-2E4F653A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EF3-150D-43D6-9EEE-7886C8AF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A0BB-80B7-480D-96C2-CA1CEA3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1D7E-92A8-4EB3-A078-FDA18CA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6F9-B524-43BE-8C23-77D0C541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B23-9506-46B7-BC19-01EF303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881B-3CD6-4EB6-92B4-EFEC5AD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186B-7A28-4E43-9C70-858F8EB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BC1B-B215-46D7-885A-8845B23E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42F-BAA8-4071-B714-30ED0BE1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E71-E595-455E-9EE6-18625176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ED1-D2C4-40F1-9ADE-2F88799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1DC-D43E-42AD-942B-8805595F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D37-DCEB-4158-A099-648E058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F6A-8B99-48EE-ACD4-A833B43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FD8-7F3D-4075-BF6A-B293B47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925-1E28-4220-80AC-21138EA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76" b="0"/>
          <a:stretch/>
        </p:blipFill>
        <p:spPr>
          <a:xfrm>
            <a:off x="0" y="3868560"/>
            <a:ext cx="9144000" cy="126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B940-6328-4830-B73F-5D99E01A1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9974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62A8-5B5B-4403-9757-E37C4E2CD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707840"/>
            <a:ext cx="56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8360" y="2211480"/>
            <a:ext cx="3962160" cy="1235160"/>
            <a:chOff x="468360" y="2211480"/>
            <a:chExt cx="3962160" cy="1235160"/>
          </a:xfrm>
        </p:grpSpPr>
        <p:sp>
          <p:nvSpPr>
            <p:cNvPr id="87" name=""/>
            <p:cNvSpPr/>
            <p:nvPr/>
          </p:nvSpPr>
          <p:spPr>
            <a:xfrm>
              <a:off x="468360" y="2211480"/>
              <a:ext cx="158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3080" y="2211480"/>
              <a:ext cx="2377440" cy="123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2320" y="4803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5548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4000" y="1707840"/>
            <a:ext cx="56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4920" y="4803840"/>
            <a:ext cx="381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cp:lastPrinted>1899-12-30T00:00:00Z</cp:lastPrinted>
  <dcterms:modified xsi:type="dcterms:W3CDTF">2014-05-27T05:57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