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98F-E301-40AA-8B63-8F134D9F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422-9D6C-48BE-A31F-59E0D42D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350-64F7-4DAE-93B1-9F5253F2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68A-EF73-466F-8868-309B7E09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90C7-325B-47F0-A75A-7EC56636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9E91-838B-4C4A-A872-44676EE8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20C5-F07F-4D87-9EDD-20A21A03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CFC7-EE15-4E75-A5FE-3A501BD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473-8E53-4DE6-ACDD-07CDE63F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8043-59EA-48BC-9479-EDD2BC75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CF49-916F-46BF-976E-E49234E9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789-E674-4BAE-BE09-9E1450B7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0AA2-9491-44B4-BBA2-5F2F2766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22BB-2437-44F3-9C5E-C6CE91A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FB00-66FF-439F-9977-DABF940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4998-46A8-4048-A1F5-C7ACC84A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B4BA-F116-4744-98C8-74FEB905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539-E7D5-43E7-8B12-94674AC2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3EE-2DDA-46F4-8130-5D1361FE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482-AF5B-4A5B-AD77-0BE48C2A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D84-4981-4B6E-8FDF-9103592D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DBD-7BD6-404D-B9CD-8220118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891-C0A0-45AB-8FC6-345EF9B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42A-54C7-444C-96F1-A609218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244E-46A2-4EF0-ACAD-9018663BA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35C4-0206-4566-96A0-5CCF86DEC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6108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5360" y="6126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4:32:30Z</dcterms:created>
  <dc:creator>Administrator</dc:creator>
  <dc:description/>
  <dc:language>en-US</dc:language>
  <cp:lastModifiedBy/>
  <cp:lastPrinted>1899-12-30T00:00:00Z</cp:lastPrinted>
  <dcterms:modified xsi:type="dcterms:W3CDTF">2014-05-19T05:35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