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D145F-A718-455F-8141-49A6D739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A21A-DF47-48D9-93F7-FB44C717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C5E12-240A-4515-BEB4-30B4CF1D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A121A-AFFB-4376-A0D4-FE2D059A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3D448-A63D-4F13-8FA1-C1A474C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FFF4-219D-410E-BFAD-531BBA63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4570A-E542-4081-95E8-B913A559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3C7B-05F7-4668-8C1F-5E37462C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1F50B-B1CA-4F16-82A5-0CF1C09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84EA7-A3D8-4B88-935F-91A80E53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DE1DF-92A2-4D63-8801-B585BBDC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46377-7D7E-4406-8B80-9E9F7482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5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2D25BB92-9CB0-4612-A8DA-50AA65DA2D6C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CFFF-45DC-4E04-81B6-1222E9984A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BDDE-0625-4D90-8907-736EDCF40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2924280"/>
            <a:ext cx="8207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7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27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28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05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bc000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3a0004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7575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446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1479600" y="371628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59600" y="630864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FF5B1-A644-43A7-94B2-01C2B5E677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0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963d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DBA30-0E1D-4103-994E-841BE6813F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ERICLAU</cp:lastModifiedBy>
  <cp:lastPrinted>1899-12-30T00:00:00Z</cp:lastPrinted>
  <dcterms:modified xsi:type="dcterms:W3CDTF">2014-05-26T06:19:22Z</dcterms:modified>
  <cp:revision>27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