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6C1D-3A81-42D2-9A56-FFD710D2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208-125B-41BD-B661-0C29F260A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ECE1-36F0-468A-83C3-075630D4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CFE5-6E63-4B8B-8CDB-638A850D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7E3-AB44-4A98-A79E-2E258FE7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F38-3CC5-4AE1-8130-6B0089E7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CE49-2AC0-4E3E-9C5B-89D3175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71E0-EA92-4CF4-84BF-8CB26862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B43-8335-4D81-BC43-970D050D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1D1-92EC-46F0-B84C-4529BCA5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B9F-272D-4520-8871-3D7DD189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137-0F3D-4169-872B-D45CFA3A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256600" y="6594480"/>
            <a:ext cx="903240" cy="2635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62800" y="62510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995A-8E40-4C16-BE77-8281A64FF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800000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2493720"/>
            <a:ext cx="4537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800000"/>
                </a:solidFill>
                <a:latin typeface="Arial"/>
              </a:rPr>
              <a:t>Subheading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6624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cp:lastPrinted>1899-12-30T00:00:00Z</cp:lastPrinted>
  <dcterms:modified xsi:type="dcterms:W3CDTF">2014-05-16T06:49:18Z</dcterms:modified>
  <cp:revision>56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