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6D9-6BF1-4F60-9709-A107593F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84A2-95A1-4E4C-A6A0-C76BD1EF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2CDE-A9E5-419C-A20C-CCA915FD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F7D2-D028-4F67-AF7F-BBD67343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7D1-4797-4853-A17B-B2E396C0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E08-3EC3-4671-BD18-FECCC68C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696-2A20-4452-8B2B-F9613E72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6E12-7181-457A-BA3A-F113AA99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F83-042C-49A5-A843-09896A0C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023-7F44-4EB9-A2EF-E73C30E6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F82-9401-4555-A079-E405C103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C66-F5B5-4F56-9D52-17C19030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245440" y="6485040"/>
            <a:ext cx="844560" cy="264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C958-DDCC-46C9-BF1E-736AFC2CC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858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752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cp:lastPrinted>1899-12-30T00:00:00Z</cp:lastPrinted>
  <dcterms:modified xsi:type="dcterms:W3CDTF">2014-05-30T07:27:36Z</dcterms:modified>
  <cp:revision>11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