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ECF-9517-4F60-AE8F-2FA97FB4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DF4-A829-476C-9504-E7DAD69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2A4-F4EE-4841-9645-B0E9843D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043-349E-4056-8D0F-4BF3A0A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8A1-AEE4-4B11-BFAD-5F888FD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1D-ACDD-4B9E-B88D-BA43268E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32D-6B30-40CA-BC10-18958F6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15F-BB6C-49CE-A753-5BAC2015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1FB-83A9-402C-A940-BC956E41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E10-817B-4AC2-83F7-C08C1D5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FBC-B080-44A9-87D0-AC623AA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00C-7512-44AD-AC57-52306619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79F1-CF77-46A9-BBF3-D7279E66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4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4:14:14Z</dcterms:created>
  <dc:creator/>
  <dc:description/>
  <dc:language>en-US</dc:language>
  <cp:lastModifiedBy>微软用户</cp:lastModifiedBy>
  <dcterms:modified xsi:type="dcterms:W3CDTF">2014-10-23T16:04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