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172-7975-4908-9511-B32D00EA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A73-68E1-4D78-B02A-225A9C9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3EC-3FB5-4E02-8A92-F6669891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E3F-0873-4D33-A522-4821DA9D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376-8676-4628-8B00-A83BB59F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2C0-4A52-4868-88C5-5D38B975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385-7B06-485B-A823-439E5589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A24-6AE5-48D8-B0FE-3FEF74F1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76D-3502-4A41-BC14-5A46881A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6C7-3E2A-455D-8C74-86CAC47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FA4-DA61-4A52-8FAC-6CDB704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858-BA27-4EAC-AAE8-98BA0B2C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411-5B20-4F12-BD15-3191BCAEEE2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F21D-5584-47C7-AC89-16EDED5D2D0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2450160" y="28576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01276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71980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342792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413604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484380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555192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01276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271980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342792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413604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484380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555192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981600" y="333216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879480" y="53071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699939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5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59994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699939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59994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939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5"/>
          <p:cNvSpPr/>
          <p:nvPr/>
        </p:nvSpPr>
        <p:spPr>
          <a:xfrm>
            <a:off x="5649840" y="-738360"/>
            <a:ext cx="28584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"/>
          <p:cNvSpPr/>
          <p:nvPr/>
        </p:nvSpPr>
        <p:spPr>
          <a:xfrm>
            <a:off x="6006960" y="-738360"/>
            <a:ext cx="7164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6305400" y="-738360"/>
            <a:ext cx="14292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6519960" y="-738360"/>
            <a:ext cx="21420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6864480" y="-738360"/>
            <a:ext cx="7128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649840" y="2259000"/>
            <a:ext cx="285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601020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6307200" y="2259000"/>
            <a:ext cx="14292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6521400" y="2259000"/>
            <a:ext cx="21420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686736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537228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616428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7"/>
          <p:cNvSpPr/>
          <p:nvPr/>
        </p:nvSpPr>
        <p:spPr>
          <a:xfrm>
            <a:off x="5649840" y="-738360"/>
            <a:ext cx="285840" cy="264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8"/>
          <p:cNvSpPr/>
          <p:nvPr/>
        </p:nvSpPr>
        <p:spPr>
          <a:xfrm>
            <a:off x="6006960" y="-738360"/>
            <a:ext cx="71640" cy="264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9"/>
          <p:cNvSpPr/>
          <p:nvPr/>
        </p:nvSpPr>
        <p:spPr>
          <a:xfrm>
            <a:off x="6305400" y="-738360"/>
            <a:ext cx="142920" cy="27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0"/>
          <p:cNvSpPr/>
          <p:nvPr/>
        </p:nvSpPr>
        <p:spPr>
          <a:xfrm>
            <a:off x="6519960" y="-738360"/>
            <a:ext cx="214200" cy="27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1"/>
          <p:cNvSpPr/>
          <p:nvPr/>
        </p:nvSpPr>
        <p:spPr>
          <a:xfrm>
            <a:off x="6864480" y="-738360"/>
            <a:ext cx="71280" cy="27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22" descr=""/>
          <p:cNvPicPr/>
          <p:nvPr/>
        </p:nvPicPr>
        <p:blipFill>
          <a:blip r:embed="rId2"/>
          <a:stretch/>
        </p:blipFill>
        <p:spPr>
          <a:xfrm>
            <a:off x="1933560" y="1131840"/>
            <a:ext cx="2349360" cy="2540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-284400" y="5162400"/>
            <a:ext cx="625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"/>
                            </p:stCondLst>
                            <p:childTnLst>
                              <p:par>
                                <p:cTn id="432" dur="indefinite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7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dur="indefinite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400"/>
                            </p:stCondLst>
                            <p:childTnLst>
                              <p:par>
                                <p:cTn id="4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-335880" y="0"/>
            <a:ext cx="8802000" cy="5714640"/>
            <a:chOff x="-335880" y="0"/>
            <a:chExt cx="8802000" cy="5714640"/>
          </a:xfrm>
        </p:grpSpPr>
        <p:sp>
          <p:nvSpPr>
            <p:cNvPr id="204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8"/>
          <p:cNvSpPr/>
          <p:nvPr/>
        </p:nvSpPr>
        <p:spPr>
          <a:xfrm>
            <a:off x="-3407040" y="490536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7"/>
          <p:cNvSpPr/>
          <p:nvPr/>
        </p:nvSpPr>
        <p:spPr>
          <a:xfrm>
            <a:off x="-66600" y="5160960"/>
            <a:ext cx="3346200" cy="1440"/>
          </a:xfrm>
          <a:prstGeom prst="line">
            <a:avLst/>
          </a:prstGeom>
          <a:ln w="316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1"/>
          <p:cNvSpPr/>
          <p:nvPr/>
        </p:nvSpPr>
        <p:spPr>
          <a:xfrm>
            <a:off x="5889600" y="5160960"/>
            <a:ext cx="3349800" cy="1440"/>
          </a:xfrm>
          <a:prstGeom prst="line">
            <a:avLst/>
          </a:prstGeom>
          <a:ln w="31680">
            <a:solidFill>
              <a:srgbClr val="ffc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3"/>
          <p:cNvSpPr/>
          <p:nvPr/>
        </p:nvSpPr>
        <p:spPr>
          <a:xfrm>
            <a:off x="1979640" y="3002040"/>
            <a:ext cx="1299960" cy="215892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41"/>
          <p:cNvSpPr/>
          <p:nvPr/>
        </p:nvSpPr>
        <p:spPr>
          <a:xfrm flipH="1">
            <a:off x="5889240" y="3578400"/>
            <a:ext cx="1058760" cy="15825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4"/>
          <p:cNvSpPr/>
          <p:nvPr/>
        </p:nvSpPr>
        <p:spPr>
          <a:xfrm>
            <a:off x="-66600" y="5160960"/>
            <a:ext cx="103824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"/>
          <p:cNvSpPr/>
          <p:nvPr/>
        </p:nvSpPr>
        <p:spPr>
          <a:xfrm flipV="1">
            <a:off x="971640" y="2641680"/>
            <a:ext cx="1800000" cy="251928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2"/>
          <p:cNvSpPr/>
          <p:nvPr/>
        </p:nvSpPr>
        <p:spPr>
          <a:xfrm>
            <a:off x="6732720" y="2658960"/>
            <a:ext cx="934920" cy="250200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7"/>
          <p:cNvSpPr/>
          <p:nvPr/>
        </p:nvSpPr>
        <p:spPr>
          <a:xfrm>
            <a:off x="7667640" y="5160960"/>
            <a:ext cx="158436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8B8-EE39-4C00-B513-B32295287897}" type="slidenum">
              <a:t>3</a:t>
            </a:fld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2"/>
          <p:cNvSpPr/>
          <p:nvPr/>
        </p:nvSpPr>
        <p:spPr>
          <a:xfrm rot="19164600">
            <a:off x="-844560" y="318960"/>
            <a:ext cx="359712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132960" y="-1765800"/>
            <a:ext cx="3620520" cy="1458360"/>
            <a:chOff x="6132960" y="-1765800"/>
            <a:chExt cx="3620520" cy="1458360"/>
          </a:xfrm>
        </p:grpSpPr>
        <p:sp>
          <p:nvSpPr>
            <p:cNvPr id="81" name="椭圆​​ 24"/>
            <p:cNvSpPr/>
            <p:nvPr/>
          </p:nvSpPr>
          <p:spPr>
            <a:xfrm>
              <a:off x="7179840" y="-10346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​​ 25"/>
            <p:cNvSpPr/>
            <p:nvPr/>
          </p:nvSpPr>
          <p:spPr>
            <a:xfrm>
              <a:off x="8464680" y="-10346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​​ 26"/>
            <p:cNvSpPr/>
            <p:nvPr/>
          </p:nvSpPr>
          <p:spPr>
            <a:xfrm>
              <a:off x="6956280" y="-9028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3"/>
            <p:cNvSpPr/>
            <p:nvPr/>
          </p:nvSpPr>
          <p:spPr>
            <a:xfrm>
              <a:off x="6132960" y="-830880"/>
              <a:ext cx="362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2"/>
            <p:cNvSpPr/>
            <p:nvPr/>
          </p:nvSpPr>
          <p:spPr>
            <a:xfrm flipV="1">
              <a:off x="7289640" y="-1765800"/>
              <a:ext cx="936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​​ 23"/>
            <p:cNvSpPr/>
            <p:nvPr/>
          </p:nvSpPr>
          <p:spPr>
            <a:xfrm flipV="1">
              <a:off x="8574120" y="-1765800"/>
              <a:ext cx="28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35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2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3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4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169200" y="1906560"/>
            <a:ext cx="3216600" cy="1511280"/>
            <a:chOff x="-169200" y="1906560"/>
            <a:chExt cx="3216600" cy="1511280"/>
          </a:xfrm>
        </p:grpSpPr>
        <p:sp>
          <p:nvSpPr>
            <p:cNvPr id="99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​​ 11"/>
            <p:cNvSpPr/>
            <p:nvPr/>
          </p:nvSpPr>
          <p:spPr>
            <a:xfrm>
              <a:off x="-169200" y="2458800"/>
              <a:ext cx="32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945520" y="1916280"/>
            <a:ext cx="3545640" cy="1942920"/>
            <a:chOff x="2945520" y="1916280"/>
            <a:chExt cx="3545640" cy="1942920"/>
          </a:xfrm>
        </p:grpSpPr>
        <p:sp>
          <p:nvSpPr>
            <p:cNvPr id="102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12"/>
            <p:cNvSpPr/>
            <p:nvPr/>
          </p:nvSpPr>
          <p:spPr>
            <a:xfrm>
              <a:off x="2945520" y="2693880"/>
              <a:ext cx="354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206760" y="1906560"/>
            <a:ext cx="3196800" cy="1511280"/>
            <a:chOff x="6206760" y="1906560"/>
            <a:chExt cx="3196800" cy="1511280"/>
          </a:xfrm>
        </p:grpSpPr>
        <p:sp>
          <p:nvSpPr>
            <p:cNvPr id="105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​​ 13"/>
            <p:cNvSpPr/>
            <p:nvPr/>
          </p:nvSpPr>
          <p:spPr>
            <a:xfrm>
              <a:off x="6206760" y="2353320"/>
              <a:ext cx="31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13800" y="-1765800"/>
            <a:ext cx="3844440" cy="1458360"/>
            <a:chOff x="6013800" y="-1765800"/>
            <a:chExt cx="3844440" cy="1458360"/>
          </a:xfrm>
        </p:grpSpPr>
        <p:sp>
          <p:nvSpPr>
            <p:cNvPr id="110" name="椭圆​​ 24"/>
            <p:cNvSpPr/>
            <p:nvPr/>
          </p:nvSpPr>
          <p:spPr>
            <a:xfrm>
              <a:off x="7173720" y="-10346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​​ 25"/>
            <p:cNvSpPr/>
            <p:nvPr/>
          </p:nvSpPr>
          <p:spPr>
            <a:xfrm>
              <a:off x="8458560" y="-10346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​​ 26"/>
            <p:cNvSpPr/>
            <p:nvPr/>
          </p:nvSpPr>
          <p:spPr>
            <a:xfrm>
              <a:off x="6950160" y="-9028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2"/>
            <p:cNvSpPr/>
            <p:nvPr/>
          </p:nvSpPr>
          <p:spPr>
            <a:xfrm>
              <a:off x="6013800" y="-812160"/>
              <a:ext cx="38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2"/>
            <p:cNvSpPr/>
            <p:nvPr/>
          </p:nvSpPr>
          <p:spPr>
            <a:xfrm flipV="1">
              <a:off x="7283520" y="-1765800"/>
              <a:ext cx="936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​​ 23"/>
            <p:cNvSpPr/>
            <p:nvPr/>
          </p:nvSpPr>
          <p:spPr>
            <a:xfrm flipV="1">
              <a:off x="8566200" y="-1765800"/>
              <a:ext cx="46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-879480" y="53071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2316240" y="207792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 rot="2700000">
            <a:off x="6354360" y="541080"/>
            <a:ext cx="35971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0920" y="-1763640"/>
            <a:ext cx="3550320" cy="1457640"/>
            <a:chOff x="430920" y="-1763640"/>
            <a:chExt cx="3550320" cy="1457640"/>
          </a:xfrm>
        </p:grpSpPr>
        <p:sp>
          <p:nvSpPr>
            <p:cNvPr id="120" name="椭圆​​ 24"/>
            <p:cNvSpPr/>
            <p:nvPr/>
          </p:nvSpPr>
          <p:spPr>
            <a:xfrm>
              <a:off x="1428480" y="-103320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​​ 25"/>
            <p:cNvSpPr/>
            <p:nvPr/>
          </p:nvSpPr>
          <p:spPr>
            <a:xfrm>
              <a:off x="2712960" y="-103320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​​ 26"/>
            <p:cNvSpPr/>
            <p:nvPr/>
          </p:nvSpPr>
          <p:spPr>
            <a:xfrm>
              <a:off x="1204920" y="-901440"/>
              <a:ext cx="193032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3"/>
            <p:cNvSpPr/>
            <p:nvPr/>
          </p:nvSpPr>
          <p:spPr>
            <a:xfrm>
              <a:off x="430920" y="-829440"/>
              <a:ext cx="35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​​ 22"/>
            <p:cNvSpPr/>
            <p:nvPr/>
          </p:nvSpPr>
          <p:spPr>
            <a:xfrm flipV="1">
              <a:off x="1538280" y="-176364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​​ 23"/>
            <p:cNvSpPr/>
            <p:nvPr/>
          </p:nvSpPr>
          <p:spPr>
            <a:xfrm flipV="1">
              <a:off x="2822760" y="-1763640"/>
              <a:ext cx="28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直接连接符 35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1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2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3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4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99940">
                                      <p:cBhvr>
                                        <p:cTn id="3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直接连接符 43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2071800" y="24447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7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9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1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3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-104760" y="534960"/>
            <a:ext cx="470520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1734840" y="3433680"/>
            <a:ext cx="58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-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直接连接符 43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124000" y="19638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9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1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3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14"/>
          <p:cNvSpPr/>
          <p:nvPr/>
        </p:nvSpPr>
        <p:spPr>
          <a:xfrm>
            <a:off x="-1473120" y="4886280"/>
            <a:ext cx="1439640" cy="50472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7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直接连接符 43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7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9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1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3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914400" y="53071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直接连接符 43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燕尾形 54"/>
          <p:cNvSpPr/>
          <p:nvPr/>
        </p:nvSpPr>
        <p:spPr>
          <a:xfrm>
            <a:off x="488484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lylover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57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9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1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3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/>
  <dc:description/>
  <dc:language>en-US</dc:language>
  <cp:lastModifiedBy>微软用户</cp:lastModifiedBy>
  <cp:lastPrinted>1899-12-30T00:00:00Z</cp:lastPrinted>
  <dcterms:modified xsi:type="dcterms:W3CDTF">2014-05-19T05:38:16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