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135-3DE1-4504-AE95-3991D72A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78868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8560" y="3762720"/>
            <a:ext cx="78868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6B9-BB5D-4DA9-B0E7-0C111935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856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A3E-4E61-44A9-A6AE-8CBEB9BE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440" y="112248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2320" y="112248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8560" y="376272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440" y="376272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2320" y="376272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143-FCC7-4D8D-88A6-78DB9119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07CA-9D97-4F1F-B148-FF7322E3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B671-ACD9-4E06-9458-65BE853F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37D3-E422-4EFE-B561-09D67134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395D-5161-4C8E-8420-E5523096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A370-1ECD-4006-A227-FBD6E47B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28560" y="15480"/>
            <a:ext cx="78868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296B-801D-4953-B117-4CF977AA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471B-CC07-4A31-94F4-77BE19D3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A81-FC46-43AE-8B91-1698B5FB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54DB-F641-44A1-BC5B-3A7F2965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3762720"/>
            <a:ext cx="78868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8D80-8993-42DD-89A0-332F6080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78868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8560" y="3762720"/>
            <a:ext cx="78868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5ED2-D2BB-45C5-8DA4-4B85C8C3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856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0438-B9BE-499D-9B2A-BD7DDC53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95440" y="112248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2320" y="112248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8560" y="376272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95440" y="376272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2320" y="3762720"/>
            <a:ext cx="25394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1688-88CA-479E-AC5D-D7C3AF47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072-5162-4DE8-8DAF-93E4DA21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25C-F1EC-4406-BE8F-683D19FC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7BD-F22C-45ED-A360-5875F7FE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28560" y="15480"/>
            <a:ext cx="78868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D1B-C271-4F22-9641-588C60B3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D5E-B9CF-449F-A42E-337E3D34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376272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CCA-0F9A-4356-ADC7-B453423C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122480"/>
            <a:ext cx="384876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3762720"/>
            <a:ext cx="78868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8F5-9279-42C8-B940-1359139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2704-7FFC-4BC9-BFD3-DFD4F5879F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图片 6" descr=""/>
          <p:cNvPicPr/>
          <p:nvPr/>
        </p:nvPicPr>
        <p:blipFill>
          <a:blip r:embed="rId2"/>
          <a:srcRect l="0" t="20795" r="0" b="67007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657360"/>
            <a:ext cx="9144000" cy="85680"/>
          </a:xfrm>
          <a:prstGeom prst="rect">
            <a:avLst/>
          </a:prstGeom>
          <a:solidFill>
            <a:srgbClr val="59aaf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7" name="图片 9" descr=""/>
          <p:cNvPicPr/>
          <p:nvPr/>
        </p:nvPicPr>
        <p:blipFill>
          <a:blip r:embed="rId3"/>
          <a:srcRect l="1517" t="0" r="1586" b="0"/>
          <a:stretch/>
        </p:blipFill>
        <p:spPr>
          <a:xfrm>
            <a:off x="0" y="601560"/>
            <a:ext cx="9150480" cy="3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768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0" y="4724280"/>
            <a:ext cx="9144000" cy="2133720"/>
            <a:chOff x="0" y="4724280"/>
            <a:chExt cx="9144000" cy="2133720"/>
          </a:xfrm>
        </p:grpSpPr>
        <p:pic>
          <p:nvPicPr>
            <p:cNvPr id="46" name="矩形 11" descr=""/>
            <p:cNvPicPr/>
            <p:nvPr/>
          </p:nvPicPr>
          <p:blipFill>
            <a:blip r:embed="rId3"/>
            <a:stretch/>
          </p:blipFill>
          <p:spPr>
            <a:xfrm>
              <a:off x="0" y="4724280"/>
              <a:ext cx="91440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4724280"/>
              <a:ext cx="91440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矩形 12"/>
          <p:cNvSpPr/>
          <p:nvPr/>
        </p:nvSpPr>
        <p:spPr>
          <a:xfrm>
            <a:off x="0" y="4462560"/>
            <a:ext cx="9144000" cy="261720"/>
          </a:xfrm>
          <a:prstGeom prst="rect">
            <a:avLst/>
          </a:prstGeom>
          <a:solidFill>
            <a:srgbClr val="59aa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13" descr=""/>
          <p:cNvPicPr/>
          <p:nvPr/>
        </p:nvPicPr>
        <p:blipFill>
          <a:blip r:embed="rId4"/>
          <a:srcRect l="1580" t="0" r="1649" b="0"/>
          <a:stretch/>
        </p:blipFill>
        <p:spPr>
          <a:xfrm>
            <a:off x="-3240" y="4595760"/>
            <a:ext cx="9147240" cy="335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4E9B-F7A1-41CC-AE50-88D571DB39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626880" y="6237360"/>
            <a:ext cx="2297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15480"/>
            <a:ext cx="7886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此处添加标题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122480"/>
            <a:ext cx="78868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172296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491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491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491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491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04:37Z</dcterms:created>
  <dc:creator>邹恩栋</dc:creator>
  <dc:description/>
  <cp:keywords>XS-普屏 4：3;SC-淡蓝色;BG-浅色;DH-静态</cp:keywords>
  <dc:language>en-US</dc:language>
  <cp:lastModifiedBy>D13001</cp:lastModifiedBy>
  <dcterms:modified xsi:type="dcterms:W3CDTF">2014-10-23T16:59:30Z</dcterms:modified>
  <cp:revision>3</cp:revision>
  <dc:subject>TP-通用纹理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