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375-F55B-471C-86EE-AE1D1249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4581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D7D-D0CB-4244-9D3A-16858F23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BA2-971B-4A34-AB1E-D237290F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B5D-7293-44C8-8BBF-B3949148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46240"/>
            <a:ext cx="8229600" cy="40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F37-2E69-4271-8711-F7436B38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4581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458160"/>
            <a:ext cx="264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F19-8843-43C0-AE8B-D7E322D4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B41-DCD1-4DE1-8E92-71C2619B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E6E-6461-4DCD-A956-81B9438B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6240"/>
            <a:ext cx="8229600" cy="40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790-77BE-43ED-B1B1-BB8636AC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B76-48D2-4DE2-B51E-693923C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4581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671-7A24-4CD5-ACAE-1F96C894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581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E14-1F87-436E-96D1-FC972E76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712B-2188-4CF2-BE67-22AFAB767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400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400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205056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5880" y="5653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7520" y="54673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6119280"/>
            <a:chOff x="0" y="0"/>
            <a:chExt cx="8466120" cy="611928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29640"/>
              <a:ext cx="846612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32120" y="31863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4:37:27Z</dcterms:created>
  <dc:creator>Administrator</dc:creator>
  <dc:description/>
  <dc:language>en-US</dc:language>
  <cp:lastModifiedBy/>
  <cp:lastPrinted>1899-12-30T00:00:00Z</cp:lastPrinted>
  <dcterms:modified xsi:type="dcterms:W3CDTF">2014-05-30T07:28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