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BC4-997C-45BA-8F58-677DA5B4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2BE-EE98-4804-BE9B-C7C8A60E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9E5-DE67-4741-B691-1BFF9CE8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152-A7E9-480B-8B08-F045391A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620D-4858-4E3C-BC17-E26D0FBD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FF4D-714B-4802-B255-039F1CFE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6B9D-858C-411B-A492-80B557D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3C69-A47E-48EC-AE8E-57C3DF3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5438-B600-4E2F-9F6C-ED0B95D8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BC97-6A69-4D71-8BCE-178539E2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3FBC-8E35-4958-93DF-F268395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9CA-16AB-4226-AAEB-6832D0A5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DB52-F42C-4B00-94E7-5938203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48F3-1978-494B-8FA9-4317E57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CD61-9E52-41AC-AFD4-605382A0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AFEF-0C08-4811-AFB2-90D4036B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01E-2D4E-4882-B21B-5F9DB5E0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7B5-859E-4677-B755-880A493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B1E-D3DF-4A60-8292-FFC5AE2E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6AE-355C-466F-BFC5-A4867D7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350-42A9-4818-8C31-DAB647AB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53D-AA46-42ED-866D-7F10B95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DE0-FD42-4660-ACB2-CD2514B5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0CF-E2B5-4571-998A-F5C053A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9E64-E2F1-4ED2-A6DD-ED766F92C0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2421-56DD-4534-B4FC-C268FFF73B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1960" y="2997360"/>
            <a:ext cx="698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Microsoft JhengHei"/>
              </a:rPr>
              <a:t>单击此处添加标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4640" y="274320"/>
            <a:ext cx="7921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566720"/>
            <a:ext cx="84978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微软正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微软正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微软正黑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微软正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093680" y="4187880"/>
            <a:ext cx="7276680" cy="739080"/>
            <a:chOff x="1093680" y="4187880"/>
            <a:chExt cx="7276680" cy="739080"/>
          </a:xfrm>
        </p:grpSpPr>
        <p:sp>
          <p:nvSpPr>
            <p:cNvPr id="87" name=""/>
            <p:cNvSpPr/>
            <p:nvPr/>
          </p:nvSpPr>
          <p:spPr>
            <a:xfrm>
              <a:off x="1204200" y="4249080"/>
              <a:ext cx="70102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eeppt.com- 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为您免费提供大量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下载包括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背景图片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素材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图表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动态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owerPoin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等各类幻灯片模板。让您轻松制作出精美好看的</a:t>
              </a:r>
              <a:r>
                <a:rPr b="0" lang="en-US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93680" y="41878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8:47:46Z</dcterms:created>
  <dc:creator/>
  <dc:description/>
  <dc:language>en-US</dc:language>
  <cp:lastModifiedBy>MC SYSTEM</cp:lastModifiedBy>
  <dcterms:modified xsi:type="dcterms:W3CDTF">2014-10-23T16:42:25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