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0CA-E1CA-4CC8-8404-04953FA6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22D-20C2-4839-93C9-90FF3EB0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E7C-577B-478C-B638-2B5C4C31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EB3-941B-4AD8-837C-AA07263C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4916-6D6B-413D-AE87-9545F67F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9CA-4A7A-4553-951F-A9269B8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396A-9823-4A40-9B8B-2843364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BB99-91A4-4015-B6EF-40A46BC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1D94-0FC0-4980-9F11-376FE90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20F-FDE6-4083-AC42-7DDD4D6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F4E-31DA-4B1A-8891-80D6F26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DEF-6D5B-4035-A913-ADF0D9A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AB19-135D-45E1-9D1A-14EADB8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B3A-6B4C-4CA9-8B9F-897960A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CD33-DB75-4C3F-83A5-5917317C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7BA2-BD85-4200-9154-50EF72B5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5FDE-12C1-4092-A143-68743C84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FD84-8931-4EF2-A0D1-6D87F7C0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810E-4A49-47B9-AE19-29EEF108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5D0A-0480-4AA5-B1BF-8FA21F59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AE34-A2BE-41CB-AC00-9162295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C71B-75DA-4AB4-8B20-2120BBF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217-F04F-4E0B-8E0C-EDDFC41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2E8C-E883-4217-ADB2-75FE2994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A3E3-FEA5-4558-8199-6DA2636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F0FE-8EAB-4458-88AE-D1F2735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401B-5FE6-4D7B-B1EC-A0DF138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0995-9F87-462C-9C7D-B593F45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9ABA-8ABC-48EE-B8A0-3171A733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5F14-F434-4467-A40E-2694BF6C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2999-7821-4E19-9901-9B99BEC4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73E2-D718-4BAD-B1D0-7D2563A7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5133-6F59-449A-B2D7-34367CC7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6B4-F737-463D-8E2F-AD8F046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22AC-2A45-4B40-846E-B87130E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CFF8-1127-454E-B7F5-7DA4B887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79EC-ADF2-483D-A97E-B4D527D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42FA-FF6B-4476-8286-76F99103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7CB7-EDFC-4BE3-8C33-6B7289A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6C13-8A2E-4C0C-A983-2B277EA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1502-E4F7-48FB-AE55-E6CBCDC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FC39-BC06-4FF5-89FA-C6289B6A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6DEF-A627-4162-B832-77F91AB2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AC4-EFB2-4C8C-8B80-44E82E8F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314-E589-47D4-8967-C02AC88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7CB-294B-4443-8F0B-1C21F37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865-3A73-4FF4-910A-6183808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915-8797-4187-9B7A-B380CC0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9C7-37EF-4B85-87E0-CE7C0043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BA1F-B924-408B-9947-4222F8A28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2195_032_8GWlWcEe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DD2-B18B-4846-B489-79E35D19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02208_019_C8leBoRz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F239-C0A9-40A6-8030-F51DC504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02208_020_sZmgysws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2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09:35:07Z</dcterms:created>
  <dc:creator>Administrator</dc:creator>
  <dc:description/>
  <dc:language>en-US</dc:language>
  <cp:lastModifiedBy/>
  <cp:lastPrinted>1899-12-30T00:00:00Z</cp:lastPrinted>
  <dcterms:modified xsi:type="dcterms:W3CDTF">2014-05-15T07:27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