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E5C-48B6-4ADD-9EBE-8507077D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D94-61B5-4F28-8C73-4BEA1A3F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13C-086E-48DB-81BB-4533B317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940-5F78-4954-B3AF-358427B6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471-B413-4063-9F4E-D3E3038D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A97-F069-44B0-B7DD-8E693A0D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945-BD94-444B-96F2-FD094BDE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022-AF9A-4D29-BE7D-1F21C0B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899-E039-43E3-AE17-4C5D0CDC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ECE-B7A6-4D1F-96A6-03F6D59B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59D-6893-4AFA-AD74-0ED72E5E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41A-CC33-4DA5-8D64-64E2650B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5560" y="115920"/>
            <a:ext cx="8812440" cy="436680"/>
            <a:chOff x="115560" y="115920"/>
            <a:chExt cx="88124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115560" y="13500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79280" y="549360"/>
              <a:ext cx="8748720" cy="1440"/>
              <a:chOff x="179280" y="549360"/>
              <a:chExt cx="8748720" cy="1440"/>
            </a:xfrm>
          </p:grpSpPr>
          <p:sp>
            <p:nvSpPr>
              <p:cNvPr id="4" name="Line 113"/>
              <p:cNvSpPr/>
              <p:nvPr/>
            </p:nvSpPr>
            <p:spPr>
              <a:xfrm>
                <a:off x="179280" y="54936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179280" y="54936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179280" y="115920"/>
              <a:ext cx="8748720" cy="1440"/>
              <a:chOff x="179280" y="115920"/>
              <a:chExt cx="8748720" cy="1440"/>
            </a:xfrm>
          </p:grpSpPr>
          <p:sp>
            <p:nvSpPr>
              <p:cNvPr id="7" name="Line 114"/>
              <p:cNvSpPr/>
              <p:nvPr/>
            </p:nvSpPr>
            <p:spPr>
              <a:xfrm>
                <a:off x="179280" y="11592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179280" y="11592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763640" y="189000"/>
              <a:ext cx="1440" cy="287280"/>
              <a:chOff x="1763640" y="189000"/>
              <a:chExt cx="1440" cy="287280"/>
            </a:xfrm>
          </p:grpSpPr>
          <p:sp>
            <p:nvSpPr>
              <p:cNvPr id="10" name="Line 115"/>
              <p:cNvSpPr/>
              <p:nvPr/>
            </p:nvSpPr>
            <p:spPr>
              <a:xfrm>
                <a:off x="1763640" y="189000"/>
                <a:ext cx="1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1763640" y="189000"/>
                <a:ext cx="14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" name="矩形 2"/>
          <p:cNvSpPr/>
          <p:nvPr/>
        </p:nvSpPr>
        <p:spPr>
          <a:xfrm>
            <a:off x="1685520" y="8388360"/>
            <a:ext cx="58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42E1-E3B9-4A5E-9014-6ABDD6C45F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76"/>
          <p:cNvSpPr/>
          <p:nvPr/>
        </p:nvSpPr>
        <p:spPr>
          <a:xfrm>
            <a:off x="4643280" y="1989000"/>
            <a:ext cx="4392720" cy="281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3" name="Object 22" descr=""/>
          <p:cNvPicPr/>
          <p:nvPr/>
        </p:nvPicPr>
        <p:blipFill>
          <a:blip r:embed="rId1"/>
          <a:stretch/>
        </p:blipFill>
        <p:spPr>
          <a:xfrm>
            <a:off x="4600440" y="177336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94" name="Oval 10"/>
          <p:cNvSpPr/>
          <p:nvPr/>
        </p:nvSpPr>
        <p:spPr>
          <a:xfrm>
            <a:off x="395280" y="1989000"/>
            <a:ext cx="4392720" cy="281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5" name="Object 11" descr=""/>
          <p:cNvPicPr/>
          <p:nvPr/>
        </p:nvPicPr>
        <p:blipFill>
          <a:blip r:embed="rId2"/>
          <a:stretch/>
        </p:blipFill>
        <p:spPr>
          <a:xfrm>
            <a:off x="325440" y="1773360"/>
            <a:ext cx="4533840" cy="3022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71640" y="5122800"/>
            <a:ext cx="3671640" cy="11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666800" y="2700360"/>
            <a:ext cx="1726920" cy="872640"/>
            <a:chOff x="1666800" y="2700360"/>
            <a:chExt cx="1726920" cy="872640"/>
          </a:xfrm>
        </p:grpSpPr>
        <p:sp>
          <p:nvSpPr>
            <p:cNvPr id="98" name="AutoShape 13"/>
            <p:cNvSpPr/>
            <p:nvPr/>
          </p:nvSpPr>
          <p:spPr>
            <a:xfrm>
              <a:off x="1666800" y="2700360"/>
              <a:ext cx="1726920" cy="87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1675800" y="2709360"/>
              <a:ext cx="1708920" cy="854640"/>
            </a:xfrm>
            <a:prstGeom prst="pie">
              <a:avLst/>
            </a:prstGeom>
            <a:solidFill>
              <a:srgbClr val="d9d9d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1675800" y="2709360"/>
              <a:ext cx="1708920" cy="854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2103120" y="2922840"/>
              <a:ext cx="854280" cy="42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2103120" y="2922840"/>
              <a:ext cx="854280" cy="427320"/>
            </a:xfrm>
            <a:prstGeom prst="pie">
              <a:avLst/>
            </a:prstGeom>
            <a:solidFill>
              <a:srgbClr val="b9b9b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2103120" y="2922840"/>
              <a:ext cx="854280" cy="42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975280" y="2700360"/>
            <a:ext cx="1726920" cy="872640"/>
            <a:chOff x="5975280" y="2700360"/>
            <a:chExt cx="1726920" cy="872640"/>
          </a:xfrm>
        </p:grpSpPr>
        <p:sp>
          <p:nvSpPr>
            <p:cNvPr id="105" name="AutoShape 24"/>
            <p:cNvSpPr/>
            <p:nvPr/>
          </p:nvSpPr>
          <p:spPr>
            <a:xfrm>
              <a:off x="5975280" y="2700360"/>
              <a:ext cx="1726920" cy="87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" name="Freeform 25"/>
            <p:cNvSpPr/>
            <p:nvPr/>
          </p:nvSpPr>
          <p:spPr>
            <a:xfrm>
              <a:off x="5984280" y="2709360"/>
              <a:ext cx="1708920" cy="854640"/>
            </a:xfrm>
            <a:prstGeom prst="pie">
              <a:avLst/>
            </a:prstGeom>
            <a:solidFill>
              <a:srgbClr val="d9d9d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" name="Freeform 26"/>
            <p:cNvSpPr/>
            <p:nvPr/>
          </p:nvSpPr>
          <p:spPr>
            <a:xfrm>
              <a:off x="5984280" y="2709360"/>
              <a:ext cx="1708920" cy="854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" name="Freeform 27"/>
            <p:cNvSpPr/>
            <p:nvPr/>
          </p:nvSpPr>
          <p:spPr>
            <a:xfrm>
              <a:off x="6411600" y="2922840"/>
              <a:ext cx="854280" cy="42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6411600" y="2922840"/>
              <a:ext cx="854280" cy="427320"/>
            </a:xfrm>
            <a:prstGeom prst="pie">
              <a:avLst/>
            </a:prstGeom>
            <a:solidFill>
              <a:srgbClr val="b9b9b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6411600" y="2922840"/>
              <a:ext cx="854280" cy="42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1" name="Rectangle 30"/>
          <p:cNvSpPr/>
          <p:nvPr/>
        </p:nvSpPr>
        <p:spPr>
          <a:xfrm>
            <a:off x="879840" y="162864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87480" y="1844640"/>
            <a:ext cx="1295280" cy="647640"/>
            <a:chOff x="987480" y="1844640"/>
            <a:chExt cx="1295280" cy="647640"/>
          </a:xfrm>
        </p:grpSpPr>
        <p:grpSp>
          <p:nvGrpSpPr>
            <p:cNvPr id="113" name=""/>
            <p:cNvGrpSpPr/>
            <p:nvPr/>
          </p:nvGrpSpPr>
          <p:grpSpPr>
            <a:xfrm>
              <a:off x="987480" y="1844640"/>
              <a:ext cx="863640" cy="1440"/>
              <a:chOff x="987480" y="1844640"/>
              <a:chExt cx="863640" cy="1440"/>
            </a:xfrm>
          </p:grpSpPr>
          <p:sp>
            <p:nvSpPr>
              <p:cNvPr id="114" name="Line 32"/>
              <p:cNvSpPr/>
              <p:nvPr/>
            </p:nvSpPr>
            <p:spPr>
              <a:xfrm>
                <a:off x="987480" y="1844640"/>
                <a:ext cx="86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4280" bIns="-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987480" y="1844640"/>
                <a:ext cx="863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-44640" bIns="-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851120" y="1844640"/>
              <a:ext cx="431640" cy="647640"/>
              <a:chOff x="1851120" y="1844640"/>
              <a:chExt cx="431640" cy="647640"/>
            </a:xfrm>
          </p:grpSpPr>
          <p:sp>
            <p:nvSpPr>
              <p:cNvPr id="117" name="Line 33"/>
              <p:cNvSpPr/>
              <p:nvPr/>
            </p:nvSpPr>
            <p:spPr>
              <a:xfrm>
                <a:off x="1851120" y="1844640"/>
                <a:ext cx="43164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1851120" y="1844640"/>
                <a:ext cx="4316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19" name="Rectangle 34"/>
          <p:cNvSpPr/>
          <p:nvPr/>
        </p:nvSpPr>
        <p:spPr>
          <a:xfrm>
            <a:off x="2297520" y="257976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Dotum"/>
                <a:ea typeface="Dotum"/>
              </a:rPr>
              <a:t>SEASON_001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1859040" y="4273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Dotum"/>
              </a:rPr>
              <a:t>TYPE_01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6300720" y="4273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Dotum"/>
              </a:rPr>
              <a:t>TYPE_02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10560" y="4869000"/>
            <a:ext cx="719640" cy="758160"/>
            <a:chOff x="610560" y="4869000"/>
            <a:chExt cx="719640" cy="758160"/>
          </a:xfrm>
        </p:grpSpPr>
        <p:sp>
          <p:nvSpPr>
            <p:cNvPr id="123" name="AutoShape 38"/>
            <p:cNvSpPr/>
            <p:nvPr/>
          </p:nvSpPr>
          <p:spPr>
            <a:xfrm>
              <a:off x="611280" y="4869000"/>
              <a:ext cx="718920" cy="7189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10560" y="5013000"/>
              <a:ext cx="712440" cy="614160"/>
              <a:chOff x="610560" y="5013000"/>
              <a:chExt cx="712440" cy="614160"/>
            </a:xfrm>
          </p:grpSpPr>
          <p:sp>
            <p:nvSpPr>
              <p:cNvPr id="125" name="Text Box 40"/>
              <p:cNvSpPr/>
              <p:nvPr/>
            </p:nvSpPr>
            <p:spPr>
              <a:xfrm>
                <a:off x="678960" y="5108040"/>
                <a:ext cx="581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Dotum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" name="Text Box 41"/>
              <p:cNvSpPr/>
              <p:nvPr/>
            </p:nvSpPr>
            <p:spPr>
              <a:xfrm>
                <a:off x="610560" y="5013000"/>
                <a:ext cx="712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  <a:ea typeface="Dotum"/>
                  </a:rPr>
                  <a:t>MENU_01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7" name="Text Box 42"/>
          <p:cNvSpPr/>
          <p:nvPr/>
        </p:nvSpPr>
        <p:spPr>
          <a:xfrm>
            <a:off x="971640" y="5661000"/>
            <a:ext cx="3457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宋体"/>
              </a:rPr>
              <a:t>请输入文字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Rectangle 43"/>
          <p:cNvSpPr/>
          <p:nvPr/>
        </p:nvSpPr>
        <p:spPr>
          <a:xfrm>
            <a:off x="5221440" y="5122800"/>
            <a:ext cx="3671640" cy="111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58920" y="4881600"/>
            <a:ext cx="721080" cy="731880"/>
            <a:chOff x="4858920" y="4881600"/>
            <a:chExt cx="721080" cy="731880"/>
          </a:xfrm>
        </p:grpSpPr>
        <p:sp>
          <p:nvSpPr>
            <p:cNvPr id="130" name="AutoShape 46"/>
            <p:cNvSpPr/>
            <p:nvPr/>
          </p:nvSpPr>
          <p:spPr>
            <a:xfrm>
              <a:off x="4860720" y="4881600"/>
              <a:ext cx="719280" cy="7192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58920" y="4998960"/>
              <a:ext cx="712440" cy="614520"/>
              <a:chOff x="4858920" y="4998960"/>
              <a:chExt cx="712440" cy="614520"/>
            </a:xfrm>
          </p:grpSpPr>
          <p:sp>
            <p:nvSpPr>
              <p:cNvPr id="132" name="Text Box 48"/>
              <p:cNvSpPr/>
              <p:nvPr/>
            </p:nvSpPr>
            <p:spPr>
              <a:xfrm>
                <a:off x="4927680" y="5094360"/>
                <a:ext cx="581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Dotum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" name="Text Box 49"/>
              <p:cNvSpPr/>
              <p:nvPr/>
            </p:nvSpPr>
            <p:spPr>
              <a:xfrm>
                <a:off x="4858920" y="4998960"/>
                <a:ext cx="712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  <a:ea typeface="Dotum"/>
                  </a:rPr>
                  <a:t>MENU_01</a:t>
                </a:r>
                <a:endParaRPr b="0" lang="en-US" sz="9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34" name="Rectangle 50"/>
          <p:cNvSpPr/>
          <p:nvPr/>
        </p:nvSpPr>
        <p:spPr>
          <a:xfrm>
            <a:off x="4407480" y="206064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14760" y="2276640"/>
            <a:ext cx="1295280" cy="647640"/>
            <a:chOff x="4514760" y="2276640"/>
            <a:chExt cx="1295280" cy="647640"/>
          </a:xfrm>
        </p:grpSpPr>
        <p:grpSp>
          <p:nvGrpSpPr>
            <p:cNvPr id="136" name=""/>
            <p:cNvGrpSpPr/>
            <p:nvPr/>
          </p:nvGrpSpPr>
          <p:grpSpPr>
            <a:xfrm>
              <a:off x="4514760" y="2276640"/>
              <a:ext cx="863640" cy="1440"/>
              <a:chOff x="4514760" y="2276640"/>
              <a:chExt cx="863640" cy="1440"/>
            </a:xfrm>
          </p:grpSpPr>
          <p:sp>
            <p:nvSpPr>
              <p:cNvPr id="137" name="Line 52"/>
              <p:cNvSpPr/>
              <p:nvPr/>
            </p:nvSpPr>
            <p:spPr>
              <a:xfrm>
                <a:off x="4514760" y="2276640"/>
                <a:ext cx="86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4280" bIns="-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4514760" y="2276640"/>
                <a:ext cx="863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-44640" bIns="-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78400" y="2276640"/>
              <a:ext cx="431640" cy="647640"/>
              <a:chOff x="5378400" y="2276640"/>
              <a:chExt cx="431640" cy="647640"/>
            </a:xfrm>
          </p:grpSpPr>
          <p:sp>
            <p:nvSpPr>
              <p:cNvPr id="140" name="Line 53"/>
              <p:cNvSpPr/>
              <p:nvPr/>
            </p:nvSpPr>
            <p:spPr>
              <a:xfrm>
                <a:off x="5378400" y="2276640"/>
                <a:ext cx="43164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5378400" y="2276640"/>
                <a:ext cx="4316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42" name="Text Box 54"/>
          <p:cNvSpPr/>
          <p:nvPr/>
        </p:nvSpPr>
        <p:spPr>
          <a:xfrm>
            <a:off x="1342440" y="5229360"/>
            <a:ext cx="272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Dotum"/>
              </a:rPr>
              <a:t>MORE MARKETING STORIES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Text Box 55"/>
          <p:cNvSpPr/>
          <p:nvPr/>
        </p:nvSpPr>
        <p:spPr>
          <a:xfrm>
            <a:off x="5722200" y="5229360"/>
            <a:ext cx="272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Dotum"/>
              </a:rPr>
              <a:t>MORE MARKETING STORIES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875520" y="182088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otum"/>
              </a:rPr>
              <a:t>65%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4442400" y="226368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otum"/>
              </a:rPr>
              <a:t>23%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59"/>
          <p:cNvSpPr/>
          <p:nvPr/>
        </p:nvSpPr>
        <p:spPr>
          <a:xfrm>
            <a:off x="2642040" y="335772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Dotum"/>
                <a:ea typeface="Dotum"/>
              </a:rPr>
              <a:t>SEASON_002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Rectangle 60"/>
          <p:cNvSpPr/>
          <p:nvPr/>
        </p:nvSpPr>
        <p:spPr>
          <a:xfrm>
            <a:off x="1130760" y="292428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Dotum"/>
                <a:ea typeface="Dotum"/>
              </a:rPr>
              <a:t>SEASON_002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Rectangle 61"/>
          <p:cNvSpPr/>
          <p:nvPr/>
        </p:nvSpPr>
        <p:spPr>
          <a:xfrm>
            <a:off x="6458400" y="249228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Dotum"/>
                <a:ea typeface="Dotum"/>
              </a:rPr>
              <a:t>SEASON_001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Rectangle 62"/>
          <p:cNvSpPr/>
          <p:nvPr/>
        </p:nvSpPr>
        <p:spPr>
          <a:xfrm>
            <a:off x="7395120" y="306864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Dotum"/>
                <a:ea typeface="Dotum"/>
              </a:rPr>
              <a:t>SEASON_002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Rectangle 63"/>
          <p:cNvSpPr/>
          <p:nvPr/>
        </p:nvSpPr>
        <p:spPr>
          <a:xfrm>
            <a:off x="5666400" y="3284640"/>
            <a:ext cx="95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Dotum"/>
                <a:ea typeface="Dotum"/>
              </a:rPr>
              <a:t>SEASON_002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Text Box 65"/>
          <p:cNvSpPr/>
          <p:nvPr/>
        </p:nvSpPr>
        <p:spPr>
          <a:xfrm>
            <a:off x="5249880" y="5661000"/>
            <a:ext cx="3457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Gulim"/>
                <a:ea typeface="宋体"/>
              </a:rPr>
              <a:t>请输入文字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VitaminD</dc:creator>
  <dc:description>更多精彩_x005F_x000d_
让PPT飞起来_x005F_x000d_
http://pptshare.qzone.qq.com</dc:description>
  <dc:language>en-US</dc:language>
  <cp:lastModifiedBy>a</cp:lastModifiedBy>
  <dcterms:modified xsi:type="dcterms:W3CDTF">2014-10-23T15:33:28Z</dcterms:modified>
  <cp:revision>112</cp:revision>
  <dc:subject/>
  <dc:title>PowerDiagram数据分析类PPT图表5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