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0DB-361D-4B47-A15E-0EA8CF3F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11076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C88-0040-4864-9D13-99DA3EF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1107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1107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137-CA18-4BFF-B0BC-BA54DDA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1107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1107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110760"/>
            <a:ext cx="264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FAD-BF96-438F-9D74-D63DE51D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B4F-DF3D-419A-9875-68DEBAA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538-7A83-4446-83C8-7E8994F0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01D-FE1B-47BE-8FBB-5D3F2B1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EDE-D95F-4ACA-9526-A5B89772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54372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ADA-D509-4A52-A06D-E92A861C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1107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193-D9F1-483C-804E-B27DE61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11076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56D-A492-4E39-A6E8-8C8E173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11076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EF0-01A4-49A8-A237-CC58D1A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模板-wdPPT\图形21.jpg"/>
          <p:cNvPicPr/>
          <p:nvPr/>
        </p:nvPicPr>
        <p:blipFill>
          <a:blip r:embed="rId2"/>
          <a:stretch/>
        </p:blipFill>
        <p:spPr>
          <a:xfrm flipH="1">
            <a:off x="5955840" y="0"/>
            <a:ext cx="3187800" cy="200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543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88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2ED553DD-5D78-4FDB-BC96-F63FF1D79747}" type="datetime">
              <a:rPr b="1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711531DF-C0D3-4A3B-A3FB-1AAC5D3CFD31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模板-wdPPT\图形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4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ainbown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"/>
          <p:cNvSpPr/>
          <p:nvPr/>
        </p:nvSpPr>
        <p:spPr>
          <a:xfrm>
            <a:off x="6372000" y="5302080"/>
            <a:ext cx="36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模板-wdPPT\图形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42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43280" y="3289320"/>
            <a:ext cx="3957840" cy="1225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5162400"/>
            <a:ext cx="6852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fc0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335880" y="0"/>
            <a:ext cx="8802000" cy="5714640"/>
            <a:chOff x="-335880" y="0"/>
            <a:chExt cx="8802000" cy="5714640"/>
          </a:xfrm>
        </p:grpSpPr>
        <p:sp>
          <p:nvSpPr>
            <p:cNvPr id="183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c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c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c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5760" y="1673280"/>
            <a:ext cx="1236600" cy="2197080"/>
            <a:chOff x="1085760" y="1673280"/>
            <a:chExt cx="1236600" cy="2197080"/>
          </a:xfrm>
        </p:grpSpPr>
        <p:sp>
          <p:nvSpPr>
            <p:cNvPr id="47" name="圆角矩形标注 7"/>
            <p:cNvSpPr/>
            <p:nvPr/>
          </p:nvSpPr>
          <p:spPr>
            <a:xfrm>
              <a:off x="1085760" y="1673280"/>
              <a:ext cx="1236600" cy="2197080"/>
            </a:xfrm>
            <a:prstGeom prst="wedgeRoundRectCallout">
              <a:avLst>
                <a:gd name="adj1" fmla="val 10624"/>
                <a:gd name="adj2" fmla="val 58435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1158840" y="1810440"/>
              <a:ext cx="207720" cy="1922400"/>
            </a:xfrm>
            <a:custGeom>
              <a:avLst/>
              <a:gdLst>
                <a:gd name="textAreaLeft" fmla="*/ 10080 w 207720"/>
                <a:gd name="textAreaRight" fmla="*/ 197640 w 207720"/>
                <a:gd name="textAreaTop" fmla="*/ 10080 h 1922400"/>
                <a:gd name="textAreaBottom" fmla="*/ 1912320 h 1922400"/>
              </a:gdLst>
              <a:ahLst/>
              <a:rect l="textAreaLeft" t="textAreaTop" r="textAreaRight" b="textAreaBottom"/>
              <a:pathLst>
                <a:path w="21600" h="199594">
                  <a:moveTo>
                    <a:pt x="3600" y="0"/>
                  </a:moveTo>
                  <a:arcTo wR="3600" hR="3600" stAng="16200000" swAng="-5400000"/>
                  <a:lnTo>
                    <a:pt x="0" y="195994"/>
                  </a:lnTo>
                  <a:arcTo wR="3600" hR="3600" stAng="10800000" swAng="-5400000"/>
                  <a:lnTo>
                    <a:pt x="18000" y="1995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009960" y="1673280"/>
            <a:ext cx="1235160" cy="2197080"/>
            <a:chOff x="3009960" y="1673280"/>
            <a:chExt cx="1235160" cy="2197080"/>
          </a:xfrm>
        </p:grpSpPr>
        <p:sp>
          <p:nvSpPr>
            <p:cNvPr id="50" name="圆角矩形标注 13"/>
            <p:cNvSpPr/>
            <p:nvPr/>
          </p:nvSpPr>
          <p:spPr>
            <a:xfrm>
              <a:off x="3009960" y="1673280"/>
              <a:ext cx="1235160" cy="2197080"/>
            </a:xfrm>
            <a:prstGeom prst="wedgeRoundRectCallout">
              <a:avLst>
                <a:gd name="adj1" fmla="val 10624"/>
                <a:gd name="adj2" fmla="val 58435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6"/>
            <p:cNvSpPr/>
            <p:nvPr/>
          </p:nvSpPr>
          <p:spPr>
            <a:xfrm>
              <a:off x="3083040" y="1810440"/>
              <a:ext cx="207360" cy="1922400"/>
            </a:xfrm>
            <a:custGeom>
              <a:avLst/>
              <a:gdLst>
                <a:gd name="textAreaLeft" fmla="*/ 10080 w 207360"/>
                <a:gd name="textAreaRight" fmla="*/ 197280 w 207360"/>
                <a:gd name="textAreaTop" fmla="*/ 10080 h 1922400"/>
                <a:gd name="textAreaBottom" fmla="*/ 1912320 h 1922400"/>
              </a:gdLst>
              <a:ahLst/>
              <a:rect l="textAreaLeft" t="textAreaTop" r="textAreaRight" b="textAreaBottom"/>
              <a:pathLst>
                <a:path w="21600" h="199940">
                  <a:moveTo>
                    <a:pt x="3600" y="0"/>
                  </a:moveTo>
                  <a:arcTo wR="3600" hR="3600" stAng="16200000" swAng="-5400000"/>
                  <a:lnTo>
                    <a:pt x="0" y="196340"/>
                  </a:lnTo>
                  <a:arcTo wR="3600" hR="3600" stAng="10800000" swAng="-5400000"/>
                  <a:lnTo>
                    <a:pt x="18000" y="199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32360" y="1673280"/>
            <a:ext cx="1236600" cy="2197080"/>
            <a:chOff x="4932360" y="1673280"/>
            <a:chExt cx="1236600" cy="2197080"/>
          </a:xfrm>
        </p:grpSpPr>
        <p:sp>
          <p:nvSpPr>
            <p:cNvPr id="53" name="圆角矩形标注 19"/>
            <p:cNvSpPr/>
            <p:nvPr/>
          </p:nvSpPr>
          <p:spPr>
            <a:xfrm>
              <a:off x="4932360" y="1673280"/>
              <a:ext cx="1236600" cy="2197080"/>
            </a:xfrm>
            <a:prstGeom prst="wedgeRoundRectCallout">
              <a:avLst>
                <a:gd name="adj1" fmla="val 10624"/>
                <a:gd name="adj2" fmla="val 5843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22"/>
            <p:cNvSpPr/>
            <p:nvPr/>
          </p:nvSpPr>
          <p:spPr>
            <a:xfrm>
              <a:off x="5005440" y="1810440"/>
              <a:ext cx="207720" cy="1922400"/>
            </a:xfrm>
            <a:custGeom>
              <a:avLst/>
              <a:gdLst>
                <a:gd name="textAreaLeft" fmla="*/ 10080 w 207720"/>
                <a:gd name="textAreaRight" fmla="*/ 197640 w 207720"/>
                <a:gd name="textAreaTop" fmla="*/ 10080 h 1922400"/>
                <a:gd name="textAreaBottom" fmla="*/ 1912320 h 1922400"/>
              </a:gdLst>
              <a:ahLst/>
              <a:rect l="textAreaLeft" t="textAreaTop" r="textAreaRight" b="textAreaBottom"/>
              <a:pathLst>
                <a:path w="21600" h="199594">
                  <a:moveTo>
                    <a:pt x="3600" y="0"/>
                  </a:moveTo>
                  <a:arcTo wR="3600" hR="3600" stAng="16200000" swAng="-5400000"/>
                  <a:lnTo>
                    <a:pt x="0" y="195994"/>
                  </a:lnTo>
                  <a:arcTo wR="3600" hR="3600" stAng="10800000" swAng="-5400000"/>
                  <a:lnTo>
                    <a:pt x="18000" y="1995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54760" y="1673280"/>
            <a:ext cx="1236600" cy="2197080"/>
            <a:chOff x="6854760" y="1673280"/>
            <a:chExt cx="1236600" cy="2197080"/>
          </a:xfrm>
        </p:grpSpPr>
        <p:sp>
          <p:nvSpPr>
            <p:cNvPr id="56" name="圆角矩形标注 25"/>
            <p:cNvSpPr/>
            <p:nvPr/>
          </p:nvSpPr>
          <p:spPr>
            <a:xfrm>
              <a:off x="6854760" y="1673280"/>
              <a:ext cx="1236600" cy="2197080"/>
            </a:xfrm>
            <a:prstGeom prst="wedgeRoundRectCallout">
              <a:avLst>
                <a:gd name="adj1" fmla="val 10624"/>
                <a:gd name="adj2" fmla="val 58435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28"/>
            <p:cNvSpPr/>
            <p:nvPr/>
          </p:nvSpPr>
          <p:spPr>
            <a:xfrm>
              <a:off x="6927840" y="1810440"/>
              <a:ext cx="207720" cy="1922400"/>
            </a:xfrm>
            <a:custGeom>
              <a:avLst/>
              <a:gdLst>
                <a:gd name="textAreaLeft" fmla="*/ 10080 w 207720"/>
                <a:gd name="textAreaRight" fmla="*/ 197640 w 207720"/>
                <a:gd name="textAreaTop" fmla="*/ 10080 h 1922400"/>
                <a:gd name="textAreaBottom" fmla="*/ 1912320 h 1922400"/>
              </a:gdLst>
              <a:ahLst/>
              <a:rect l="textAreaLeft" t="textAreaTop" r="textAreaRight" b="textAreaBottom"/>
              <a:pathLst>
                <a:path w="21600" h="199594">
                  <a:moveTo>
                    <a:pt x="3600" y="0"/>
                  </a:moveTo>
                  <a:arcTo wR="3600" hR="3600" stAng="16200000" swAng="-5400000"/>
                  <a:lnTo>
                    <a:pt x="0" y="195994"/>
                  </a:lnTo>
                  <a:arcTo wR="3600" hR="3600" stAng="10800000" swAng="-5400000"/>
                  <a:lnTo>
                    <a:pt x="18000" y="1995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10"/>
          <p:cNvSpPr/>
          <p:nvPr/>
        </p:nvSpPr>
        <p:spPr>
          <a:xfrm>
            <a:off x="228600" y="4060800"/>
            <a:ext cx="2444760" cy="87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2157480" y="4060800"/>
            <a:ext cx="2442960" cy="87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0"/>
          <p:cNvSpPr/>
          <p:nvPr/>
        </p:nvSpPr>
        <p:spPr>
          <a:xfrm>
            <a:off x="4086360" y="4060800"/>
            <a:ext cx="2444760" cy="87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6014880" y="4060800"/>
            <a:ext cx="2443320" cy="87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矩形 33"/>
          <p:cNvSpPr/>
          <p:nvPr/>
        </p:nvSpPr>
        <p:spPr>
          <a:xfrm>
            <a:off x="898560" y="271296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4"/>
          <p:cNvSpPr/>
          <p:nvPr/>
        </p:nvSpPr>
        <p:spPr>
          <a:xfrm>
            <a:off x="4911840" y="271296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5"/>
          <p:cNvSpPr/>
          <p:nvPr/>
        </p:nvSpPr>
        <p:spPr>
          <a:xfrm>
            <a:off x="2771640" y="2513160"/>
            <a:ext cx="1940040" cy="2404800"/>
          </a:xfrm>
          <a:prstGeom prst="rect">
            <a:avLst/>
          </a:prstGeom>
          <a:solidFill>
            <a:srgbClr val="ffefef"/>
          </a:solidFill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6"/>
          <p:cNvSpPr/>
          <p:nvPr/>
        </p:nvSpPr>
        <p:spPr>
          <a:xfrm>
            <a:off x="6718320" y="271296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70040" y="781920"/>
            <a:ext cx="2332080" cy="1865880"/>
            <a:chOff x="2570040" y="781920"/>
            <a:chExt cx="2332080" cy="1865880"/>
          </a:xfrm>
        </p:grpSpPr>
        <p:sp>
          <p:nvSpPr>
            <p:cNvPr id="68" name="圆角矩形标注 4"/>
            <p:cNvSpPr/>
            <p:nvPr/>
          </p:nvSpPr>
          <p:spPr>
            <a:xfrm>
              <a:off x="2570040" y="841320"/>
              <a:ext cx="2332080" cy="1806480"/>
            </a:xfrm>
            <a:prstGeom prst="wedgeEllipseCallout">
              <a:avLst>
                <a:gd name="adj1" fmla="val 10624"/>
                <a:gd name="adj2" fmla="val 58435"/>
              </a:avLst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5"/>
            <p:cNvSpPr/>
            <p:nvPr/>
          </p:nvSpPr>
          <p:spPr>
            <a:xfrm rot="4556400">
              <a:off x="3094200" y="612360"/>
              <a:ext cx="663840" cy="1298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23760" y="1407240"/>
            <a:ext cx="1479600" cy="1218600"/>
            <a:chOff x="923760" y="1407240"/>
            <a:chExt cx="1479600" cy="1218600"/>
          </a:xfrm>
        </p:grpSpPr>
        <p:sp>
          <p:nvSpPr>
            <p:cNvPr id="71" name="圆角矩形标注 4"/>
            <p:cNvSpPr/>
            <p:nvPr/>
          </p:nvSpPr>
          <p:spPr>
            <a:xfrm>
              <a:off x="923760" y="144288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5"/>
            <p:cNvSpPr/>
            <p:nvPr/>
          </p:nvSpPr>
          <p:spPr>
            <a:xfrm rot="4556400">
              <a:off x="1249200" y="130572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70600" y="1407240"/>
            <a:ext cx="1479600" cy="1218600"/>
            <a:chOff x="5070600" y="1407240"/>
            <a:chExt cx="1479600" cy="1218600"/>
          </a:xfrm>
        </p:grpSpPr>
        <p:sp>
          <p:nvSpPr>
            <p:cNvPr id="74" name="圆角矩形标注 4"/>
            <p:cNvSpPr/>
            <p:nvPr/>
          </p:nvSpPr>
          <p:spPr>
            <a:xfrm>
              <a:off x="5070600" y="144288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 rot="4556400">
              <a:off x="5396040" y="130572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718320" y="1407240"/>
            <a:ext cx="1479600" cy="1218600"/>
            <a:chOff x="6718320" y="1407240"/>
            <a:chExt cx="1479600" cy="1218600"/>
          </a:xfrm>
        </p:grpSpPr>
        <p:sp>
          <p:nvSpPr>
            <p:cNvPr id="77" name="圆角矩形标注 4"/>
            <p:cNvSpPr/>
            <p:nvPr/>
          </p:nvSpPr>
          <p:spPr>
            <a:xfrm>
              <a:off x="6718320" y="144288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"/>
            <p:cNvSpPr/>
            <p:nvPr/>
          </p:nvSpPr>
          <p:spPr>
            <a:xfrm rot="4556400">
              <a:off x="7043760" y="130572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29"/>
          <p:cNvSpPr/>
          <p:nvPr/>
        </p:nvSpPr>
        <p:spPr>
          <a:xfrm>
            <a:off x="324000" y="19000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2345760" y="152712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1"/>
          <p:cNvSpPr/>
          <p:nvPr/>
        </p:nvSpPr>
        <p:spPr>
          <a:xfrm>
            <a:off x="4503600" y="19000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2"/>
          <p:cNvSpPr/>
          <p:nvPr/>
        </p:nvSpPr>
        <p:spPr>
          <a:xfrm>
            <a:off x="6142680" y="19000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1031760" y="2847960"/>
            <a:ext cx="1338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8"/>
          <p:cNvSpPr/>
          <p:nvPr/>
        </p:nvSpPr>
        <p:spPr>
          <a:xfrm>
            <a:off x="5045040" y="2847960"/>
            <a:ext cx="1338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9"/>
          <p:cNvSpPr/>
          <p:nvPr/>
        </p:nvSpPr>
        <p:spPr>
          <a:xfrm>
            <a:off x="6851520" y="2822400"/>
            <a:ext cx="1336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0"/>
          <p:cNvSpPr/>
          <p:nvPr/>
        </p:nvSpPr>
        <p:spPr>
          <a:xfrm>
            <a:off x="2971800" y="2847960"/>
            <a:ext cx="133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填写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填写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填写内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8200" y="1633680"/>
            <a:ext cx="1452600" cy="1452600"/>
            <a:chOff x="538200" y="1633680"/>
            <a:chExt cx="1452600" cy="1452600"/>
          </a:xfrm>
        </p:grpSpPr>
        <p:sp>
          <p:nvSpPr>
            <p:cNvPr id="89" name="椭圆 4"/>
            <p:cNvSpPr/>
            <p:nvPr/>
          </p:nvSpPr>
          <p:spPr>
            <a:xfrm>
              <a:off x="538200" y="1633680"/>
              <a:ext cx="1452600" cy="145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5"/>
            <p:cNvSpPr/>
            <p:nvPr/>
          </p:nvSpPr>
          <p:spPr>
            <a:xfrm>
              <a:off x="659880" y="1755360"/>
              <a:ext cx="1208880" cy="120888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110360" y="1633680"/>
            <a:ext cx="1454040" cy="1452600"/>
            <a:chOff x="7110360" y="1633680"/>
            <a:chExt cx="1454040" cy="1452600"/>
          </a:xfrm>
        </p:grpSpPr>
        <p:sp>
          <p:nvSpPr>
            <p:cNvPr id="92" name="椭圆 7"/>
            <p:cNvSpPr/>
            <p:nvPr/>
          </p:nvSpPr>
          <p:spPr>
            <a:xfrm>
              <a:off x="7110360" y="1633680"/>
              <a:ext cx="1454040" cy="145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8"/>
            <p:cNvSpPr/>
            <p:nvPr/>
          </p:nvSpPr>
          <p:spPr>
            <a:xfrm>
              <a:off x="7232400" y="1755360"/>
              <a:ext cx="1209960" cy="1208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椭圆 9"/>
          <p:cNvSpPr/>
          <p:nvPr/>
        </p:nvSpPr>
        <p:spPr>
          <a:xfrm>
            <a:off x="3660840" y="3138480"/>
            <a:ext cx="1781280" cy="1781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fa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5392"/>
                </a:solidFill>
                <a:latin typeface="微软雅黑"/>
                <a:ea typeface="微软雅黑"/>
              </a:rPr>
              <a:t>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2181240" y="2306520"/>
            <a:ext cx="4714920" cy="1800"/>
          </a:xfrm>
          <a:prstGeom prst="line">
            <a:avLst/>
          </a:prstGeom>
          <a:ln w="28440">
            <a:solidFill>
              <a:srgbClr val="9fa1a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2181240" y="2455920"/>
            <a:ext cx="4714920" cy="1440"/>
          </a:xfrm>
          <a:prstGeom prst="line">
            <a:avLst/>
          </a:prstGeom>
          <a:ln w="28440">
            <a:solidFill>
              <a:srgbClr val="9fa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半闭框 12"/>
          <p:cNvSpPr/>
          <p:nvPr/>
        </p:nvSpPr>
        <p:spPr>
          <a:xfrm rot="18900000">
            <a:off x="6784560" y="2228400"/>
            <a:ext cx="158760" cy="15732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半闭框 13"/>
          <p:cNvSpPr/>
          <p:nvPr/>
        </p:nvSpPr>
        <p:spPr>
          <a:xfrm rot="8100000">
            <a:off x="2139480" y="2378160"/>
            <a:ext cx="158760" cy="15696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形状 14"/>
          <p:cNvCxnSpPr>
            <a:stCxn id="92" idx="4"/>
            <a:endCxn id="94" idx="6"/>
          </p:cNvCxnSpPr>
          <p:nvPr/>
        </p:nvCxnSpPr>
        <p:spPr>
          <a:xfrm rot="5400000">
            <a:off x="6166800" y="2359080"/>
            <a:ext cx="941760" cy="2396160"/>
          </a:xfrm>
          <a:prstGeom prst="bentConnector2">
            <a:avLst/>
          </a:prstGeom>
          <a:ln w="28440">
            <a:solidFill>
              <a:srgbClr val="9fa1ad"/>
            </a:solidFill>
            <a:prstDash val="sysDash"/>
            <a:miter/>
          </a:ln>
        </p:spPr>
      </p:cxnSp>
      <p:cxnSp>
        <p:nvCxnSpPr>
          <p:cNvPr id="100" name="形状 18"/>
          <p:cNvCxnSpPr/>
          <p:nvPr/>
        </p:nvCxnSpPr>
        <p:spPr>
          <a:xfrm flipV="1" rot="10800000">
            <a:off x="5466600" y="3061080"/>
            <a:ext cx="2572560" cy="1143720"/>
          </a:xfrm>
          <a:prstGeom prst="bentConnector3">
            <a:avLst>
              <a:gd name="adj1" fmla="val 1105"/>
            </a:avLst>
          </a:prstGeom>
          <a:ln w="28440">
            <a:solidFill>
              <a:srgbClr val="9fa1ad"/>
            </a:solidFill>
            <a:miter/>
          </a:ln>
        </p:spPr>
      </p:cxnSp>
      <p:cxnSp>
        <p:nvCxnSpPr>
          <p:cNvPr id="101" name="形状 16"/>
          <p:cNvCxnSpPr/>
          <p:nvPr/>
        </p:nvCxnSpPr>
        <p:spPr>
          <a:xfrm flipH="1" rot="16200000">
            <a:off x="1952640" y="2358000"/>
            <a:ext cx="941760" cy="2397960"/>
          </a:xfrm>
          <a:prstGeom prst="bentConnector2">
            <a:avLst/>
          </a:prstGeom>
          <a:ln w="28440">
            <a:solidFill>
              <a:srgbClr val="9fa1ad"/>
            </a:solidFill>
            <a:prstDash val="sysDash"/>
            <a:miter/>
          </a:ln>
        </p:spPr>
      </p:cxnSp>
      <p:cxnSp>
        <p:nvCxnSpPr>
          <p:cNvPr id="102" name="形状 18"/>
          <p:cNvCxnSpPr/>
          <p:nvPr/>
        </p:nvCxnSpPr>
        <p:spPr>
          <a:xfrm>
            <a:off x="1038240" y="3061080"/>
            <a:ext cx="2572560" cy="1143720"/>
          </a:xfrm>
          <a:prstGeom prst="bentConnector3">
            <a:avLst>
              <a:gd name="adj1" fmla="val 1105"/>
            </a:avLst>
          </a:prstGeom>
          <a:ln w="28440">
            <a:solidFill>
              <a:srgbClr val="9fa1ad"/>
            </a:solidFill>
            <a:miter/>
          </a:ln>
        </p:spPr>
      </p:cxnSp>
      <p:sp>
        <p:nvSpPr>
          <p:cNvPr id="103" name="半闭框 22"/>
          <p:cNvSpPr/>
          <p:nvPr/>
        </p:nvSpPr>
        <p:spPr>
          <a:xfrm rot="13500000">
            <a:off x="999720" y="3021840"/>
            <a:ext cx="157320" cy="15732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半闭框 23"/>
          <p:cNvSpPr/>
          <p:nvPr/>
        </p:nvSpPr>
        <p:spPr>
          <a:xfrm rot="13500000">
            <a:off x="7777080" y="3093480"/>
            <a:ext cx="156960" cy="15732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半闭框 26"/>
          <p:cNvSpPr/>
          <p:nvPr/>
        </p:nvSpPr>
        <p:spPr>
          <a:xfrm rot="18900000">
            <a:off x="3517920" y="3970080"/>
            <a:ext cx="157320" cy="15696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半闭框 27"/>
          <p:cNvSpPr/>
          <p:nvPr/>
        </p:nvSpPr>
        <p:spPr>
          <a:xfrm rot="8100000">
            <a:off x="5468040" y="4107960"/>
            <a:ext cx="157320" cy="157320"/>
          </a:xfrm>
          <a:prstGeom prst="pie">
            <a:avLst/>
          </a:prstGeom>
          <a:solidFill>
            <a:srgbClr val="9fa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"/>
                            </p:stCondLst>
                            <p:childTnLst>
                              <p:par>
                                <p:cTn id="14" dur="indefinite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00139 L -0.50799 -0.00139 E">
                                      <p:cBhvr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093 L 0.49775 0.00093 E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5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83 L -0.00261 0.13187 C -0.00261 0.16435 -0.06945 0.14992 -0.12518 0.14992 L -0.25347 0.15214 E">
                                      <p:cBhvr>
                                        <p:cTn id="1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4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8 L 0.00035 0.18489 C 0.00052 0.20155 -0.0026 0.18989 0.01736 0.19183 C 0.03733 0.19378 0.08143 0.19628 0.12014 0.19628 L 0.24965 0.19183 E">
                                      <p:cBhvr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5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34314E-006 L -0.22049 -0.00139 C -0.27431 -0.00139 -0.26076 -0.00139 -0.26076 -0.03693 L -0.26076 -0.15408 E">
                                      <p:cBhvr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4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528 L 0.25972 0.005 C 0.28212 0.005 0.26666 0.00667 0.26909 -0.00749 C 0.27048 -0.02137 0.26823 -0.04775 0.26805 -0.07884 L 0.26805 -0.19378 E">
                                      <p:cBhvr>
                                        <p:cTn id="3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5399940">
                                      <p:cBhvr>
                                        <p:cTn id="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0"/>
          <p:cNvSpPr/>
          <p:nvPr/>
        </p:nvSpPr>
        <p:spPr>
          <a:xfrm>
            <a:off x="5003640" y="1200240"/>
            <a:ext cx="2883240" cy="35305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左弧形箭头 3"/>
          <p:cNvSpPr/>
          <p:nvPr/>
        </p:nvSpPr>
        <p:spPr>
          <a:xfrm flipV="1" rot="20118000">
            <a:off x="2976120" y="2593080"/>
            <a:ext cx="617760" cy="2568600"/>
          </a:xfrm>
          <a:custGeom>
            <a:avLst/>
            <a:gdLst>
              <a:gd name="textAreaLeft" fmla="*/ 82800 w 617760"/>
              <a:gd name="textAreaRight" fmla="*/ 534960 w 617760"/>
              <a:gd name="textAreaTop" fmla="*/ 570960 h 2568600"/>
              <a:gd name="textAreaBottom" fmla="*/ 1973880 h 25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03" stAng="-5400000" swAng="-5400000"/>
                <a:lnTo>
                  <a:pt x="0" y="11797"/>
                </a:lnTo>
                <a:arcTo wR="21600" hR="9603" stAng="10800000" swAng="-3591206"/>
                <a:lnTo>
                  <a:pt x="16200" y="21295"/>
                </a:lnTo>
                <a:lnTo>
                  <a:pt x="21600" y="20303"/>
                </a:lnTo>
                <a:lnTo>
                  <a:pt x="16200" y="18701"/>
                </a:lnTo>
                <a:lnTo>
                  <a:pt x="16200" y="18901"/>
                </a:lnTo>
                <a:arcTo wR="21600" hR="9603" stAng="7208794" swAng="3415616"/>
                <a:lnTo>
                  <a:pt x="141" y="10700"/>
                </a:lnTo>
                <a:arcTo wR="21600" hR="9603" stAng="-10624409" swAng="5224409"/>
                <a:close/>
              </a:path>
              <a:path fill="darkenLess" w="21600" h="21600">
                <a:moveTo>
                  <a:pt x="21600" y="0"/>
                </a:moveTo>
                <a:arcTo wR="21600" hR="9603" stAng="-5400000" swAng="-5400000"/>
                <a:lnTo>
                  <a:pt x="0" y="9603"/>
                </a:lnTo>
                <a:arcTo wR="21600" hR="9603" stAng="10800000" swAng="-175591"/>
                <a:lnTo>
                  <a:pt x="141" y="10700"/>
                </a:lnTo>
                <a:arcTo wR="21600" hR="9603" stAng="-10624409" swAng="5224409"/>
                <a:close/>
              </a:path>
            </a:pathLst>
          </a:custGeom>
          <a:solidFill>
            <a:srgbClr val="0298c2"/>
          </a:solidFill>
          <a:ln w="9360">
            <a:solidFill>
              <a:srgbClr val="008e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4"/>
          <p:cNvSpPr/>
          <p:nvPr/>
        </p:nvSpPr>
        <p:spPr>
          <a:xfrm>
            <a:off x="2297160" y="1871640"/>
            <a:ext cx="1512720" cy="168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5"/>
          <p:cNvSpPr/>
          <p:nvPr/>
        </p:nvSpPr>
        <p:spPr>
          <a:xfrm rot="2289000">
            <a:off x="2545920" y="1056960"/>
            <a:ext cx="1793880" cy="1793880"/>
          </a:xfrm>
          <a:custGeom>
            <a:avLst/>
            <a:gdLst>
              <a:gd name="textAreaLeft" fmla="*/ 421560 w 1793880"/>
              <a:gd name="textAreaRight" fmla="*/ 1371240 w 1793880"/>
              <a:gd name="textAreaTop" fmla="*/ 210960 h 1793880"/>
              <a:gd name="textAreaBottom" fmla="*/ 1125360 h 1793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29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6"/>
          <p:cNvSpPr/>
          <p:nvPr/>
        </p:nvSpPr>
        <p:spPr>
          <a:xfrm flipV="1" rot="2289000">
            <a:off x="1368000" y="2554920"/>
            <a:ext cx="1793880" cy="1793880"/>
          </a:xfrm>
          <a:custGeom>
            <a:avLst/>
            <a:gdLst>
              <a:gd name="textAreaLeft" fmla="*/ 421560 w 1793880"/>
              <a:gd name="textAreaRight" fmla="*/ 1371240 w 1793880"/>
              <a:gd name="textAreaTop" fmla="*/ 210600 h 1793880"/>
              <a:gd name="textAreaBottom" fmla="*/ 1125000 h 1793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7"/>
          <p:cNvSpPr/>
          <p:nvPr/>
        </p:nvSpPr>
        <p:spPr>
          <a:xfrm rot="18489000">
            <a:off x="1118880" y="1147320"/>
            <a:ext cx="1793880" cy="1793880"/>
          </a:xfrm>
          <a:custGeom>
            <a:avLst/>
            <a:gdLst>
              <a:gd name="textAreaLeft" fmla="*/ 421560 w 1793880"/>
              <a:gd name="textAreaRight" fmla="*/ 1371240 w 1793880"/>
              <a:gd name="textAreaTop" fmla="*/ 210960 h 1793880"/>
              <a:gd name="textAreaBottom" fmla="*/ 1125360 h 1793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8"/>
          <p:cNvSpPr/>
          <p:nvPr/>
        </p:nvSpPr>
        <p:spPr>
          <a:xfrm rot="7689000">
            <a:off x="2750760" y="2428560"/>
            <a:ext cx="1793880" cy="1793880"/>
          </a:xfrm>
          <a:custGeom>
            <a:avLst/>
            <a:gdLst>
              <a:gd name="textAreaLeft" fmla="*/ 421560 w 1793880"/>
              <a:gd name="textAreaRight" fmla="*/ 1371240 w 1793880"/>
              <a:gd name="textAreaTop" fmla="*/ 210960 h 1793880"/>
              <a:gd name="textAreaBottom" fmla="*/ 1125360 h 1793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泪滴形 9"/>
          <p:cNvSpPr/>
          <p:nvPr/>
        </p:nvSpPr>
        <p:spPr>
          <a:xfrm rot="18574200">
            <a:off x="1041840" y="3869280"/>
            <a:ext cx="449280" cy="4478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075760" y="17049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2328840" y="300348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901800" y="3132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642960" y="183528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7"/>
          <p:cNvSpPr/>
          <p:nvPr/>
        </p:nvSpPr>
        <p:spPr>
          <a:xfrm>
            <a:off x="4038480" y="1468440"/>
            <a:ext cx="1325520" cy="382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5292720" y="1633680"/>
            <a:ext cx="237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`````````````````````````````````````````````````````````````````````````````````````````````````````````````````````````````````````````````````````````````````````````````````````````````````````````````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000" y="5302080"/>
            <a:ext cx="36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842-1353-4754-A0F9-890DE4CCE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13440" y="2136600"/>
            <a:ext cx="1643040" cy="1644840"/>
            <a:chOff x="6013440" y="2136600"/>
            <a:chExt cx="1643040" cy="1644840"/>
          </a:xfrm>
        </p:grpSpPr>
        <p:sp>
          <p:nvSpPr>
            <p:cNvPr id="125" name="任意多边形 4"/>
            <p:cNvSpPr/>
            <p:nvPr/>
          </p:nvSpPr>
          <p:spPr>
            <a:xfrm>
              <a:off x="6013440" y="2136600"/>
              <a:ext cx="1643040" cy="16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5"/>
            <p:cNvSpPr/>
            <p:nvPr/>
          </p:nvSpPr>
          <p:spPr>
            <a:xfrm>
              <a:off x="6013440" y="2136600"/>
              <a:ext cx="864720" cy="16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6"/>
            <p:cNvSpPr/>
            <p:nvPr/>
          </p:nvSpPr>
          <p:spPr>
            <a:xfrm>
              <a:off x="7051320" y="2867760"/>
              <a:ext cx="172800" cy="182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25440" y="2208240"/>
            <a:ext cx="1625760" cy="1515960"/>
            <a:chOff x="1225440" y="2208240"/>
            <a:chExt cx="1625760" cy="1515960"/>
          </a:xfrm>
        </p:grpSpPr>
        <p:sp>
          <p:nvSpPr>
            <p:cNvPr id="129" name="任意多边形 8"/>
            <p:cNvSpPr/>
            <p:nvPr/>
          </p:nvSpPr>
          <p:spPr>
            <a:xfrm>
              <a:off x="1225440" y="2208240"/>
              <a:ext cx="1625760" cy="15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9"/>
            <p:cNvSpPr/>
            <p:nvPr/>
          </p:nvSpPr>
          <p:spPr>
            <a:xfrm>
              <a:off x="1225440" y="2208240"/>
              <a:ext cx="903240" cy="15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10"/>
          <p:cNvSpPr/>
          <p:nvPr/>
        </p:nvSpPr>
        <p:spPr>
          <a:xfrm flipV="1">
            <a:off x="2851200" y="2959200"/>
            <a:ext cx="3606840" cy="7920"/>
          </a:xfrm>
          <a:prstGeom prst="line">
            <a:avLst/>
          </a:prstGeom>
          <a:ln w="7632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69040" y="1311120"/>
            <a:ext cx="725400" cy="3254400"/>
            <a:chOff x="5369040" y="1311120"/>
            <a:chExt cx="725400" cy="3254400"/>
          </a:xfrm>
        </p:grpSpPr>
        <p:sp>
          <p:nvSpPr>
            <p:cNvPr id="133" name="任意多边形 12"/>
            <p:cNvSpPr/>
            <p:nvPr/>
          </p:nvSpPr>
          <p:spPr>
            <a:xfrm>
              <a:off x="5369040" y="1355760"/>
              <a:ext cx="437040" cy="3209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ff9f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3"/>
            <p:cNvSpPr/>
            <p:nvPr/>
          </p:nvSpPr>
          <p:spPr>
            <a:xfrm>
              <a:off x="5379480" y="1311120"/>
              <a:ext cx="714960" cy="159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ff9f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4"/>
            <p:cNvSpPr/>
            <p:nvPr/>
          </p:nvSpPr>
          <p:spPr>
            <a:xfrm flipV="1">
              <a:off x="5379480" y="2921040"/>
              <a:ext cx="714960" cy="159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ff9f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99120" y="1565280"/>
            <a:ext cx="652320" cy="2787480"/>
            <a:chOff x="4299120" y="1565280"/>
            <a:chExt cx="652320" cy="2787480"/>
          </a:xfrm>
        </p:grpSpPr>
        <p:sp>
          <p:nvSpPr>
            <p:cNvPr id="137" name="任意多边形 16"/>
            <p:cNvSpPr/>
            <p:nvPr/>
          </p:nvSpPr>
          <p:spPr>
            <a:xfrm>
              <a:off x="4299120" y="1603440"/>
              <a:ext cx="392760" cy="274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7"/>
            <p:cNvSpPr/>
            <p:nvPr/>
          </p:nvSpPr>
          <p:spPr>
            <a:xfrm>
              <a:off x="4308480" y="1565280"/>
              <a:ext cx="642960" cy="136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8"/>
            <p:cNvSpPr/>
            <p:nvPr/>
          </p:nvSpPr>
          <p:spPr>
            <a:xfrm flipV="1">
              <a:off x="4308480" y="2944080"/>
              <a:ext cx="642960" cy="136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56120" y="1636560"/>
            <a:ext cx="652320" cy="2643480"/>
            <a:chOff x="3156120" y="1636560"/>
            <a:chExt cx="652320" cy="2643480"/>
          </a:xfrm>
        </p:grpSpPr>
        <p:sp>
          <p:nvSpPr>
            <p:cNvPr id="141" name="任意多边形 20"/>
            <p:cNvSpPr/>
            <p:nvPr/>
          </p:nvSpPr>
          <p:spPr>
            <a:xfrm>
              <a:off x="3156120" y="1672920"/>
              <a:ext cx="392760" cy="26071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d7eb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21"/>
            <p:cNvSpPr/>
            <p:nvPr/>
          </p:nvSpPr>
          <p:spPr>
            <a:xfrm>
              <a:off x="3165480" y="1636560"/>
              <a:ext cx="642960" cy="12927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d7eb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22"/>
            <p:cNvSpPr/>
            <p:nvPr/>
          </p:nvSpPr>
          <p:spPr>
            <a:xfrm flipV="1">
              <a:off x="3165480" y="2944080"/>
              <a:ext cx="642960" cy="129276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d7eb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3"/>
          <p:cNvSpPr/>
          <p:nvPr/>
        </p:nvSpPr>
        <p:spPr>
          <a:xfrm>
            <a:off x="3701520" y="148896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4"/>
          <p:cNvSpPr/>
          <p:nvPr/>
        </p:nvSpPr>
        <p:spPr>
          <a:xfrm>
            <a:off x="3629160" y="321804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5"/>
          <p:cNvSpPr/>
          <p:nvPr/>
        </p:nvSpPr>
        <p:spPr>
          <a:xfrm>
            <a:off x="2476800" y="163368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6"/>
          <p:cNvSpPr/>
          <p:nvPr/>
        </p:nvSpPr>
        <p:spPr>
          <a:xfrm>
            <a:off x="2549160" y="314640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bf9000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1396440" y="171756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8"/>
          <p:cNvSpPr/>
          <p:nvPr/>
        </p:nvSpPr>
        <p:spPr>
          <a:xfrm>
            <a:off x="1468080" y="3230640"/>
            <a:ext cx="28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11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22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6115"/>
                </a:solidFill>
                <a:latin typeface="Arial"/>
                <a:ea typeface="宋体"/>
              </a:rPr>
              <a:t>333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54200" y="1930320"/>
            <a:ext cx="4430520" cy="2543400"/>
            <a:chOff x="754200" y="1930320"/>
            <a:chExt cx="4430520" cy="2543400"/>
          </a:xfrm>
        </p:grpSpPr>
        <p:sp>
          <p:nvSpPr>
            <p:cNvPr id="152" name="椭圆 10"/>
            <p:cNvSpPr/>
            <p:nvPr/>
          </p:nvSpPr>
          <p:spPr>
            <a:xfrm>
              <a:off x="754200" y="3687120"/>
              <a:ext cx="4430520" cy="7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"/>
            <p:cNvSpPr/>
            <p:nvPr/>
          </p:nvSpPr>
          <p:spPr>
            <a:xfrm>
              <a:off x="2365560" y="1930320"/>
              <a:ext cx="1207800" cy="22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3013560" y="3282120"/>
              <a:ext cx="179280" cy="76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7"/>
            <p:cNvSpPr/>
            <p:nvPr/>
          </p:nvSpPr>
          <p:spPr>
            <a:xfrm>
              <a:off x="2194920" y="1930320"/>
              <a:ext cx="187560" cy="227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8"/>
            <p:cNvSpPr/>
            <p:nvPr/>
          </p:nvSpPr>
          <p:spPr>
            <a:xfrm flipH="1">
              <a:off x="2310120" y="2022480"/>
              <a:ext cx="394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" descr="C:\Documents and Settings\user\桌面\图片1.png"/>
          <p:cNvPicPr/>
          <p:nvPr/>
        </p:nvPicPr>
        <p:blipFill>
          <a:blip r:embed="rId1"/>
          <a:srcRect l="-1336" t="0" r="74435" b="0"/>
          <a:stretch/>
        </p:blipFill>
        <p:spPr>
          <a:xfrm>
            <a:off x="998640" y="2195640"/>
            <a:ext cx="1220760" cy="1787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C:\Documents and Settings\user\桌面\图片1.png"/>
          <p:cNvPicPr/>
          <p:nvPr/>
        </p:nvPicPr>
        <p:blipFill>
          <a:blip r:embed="rId2"/>
          <a:srcRect l="43907" t="38901" r="47372" b="22232"/>
          <a:stretch/>
        </p:blipFill>
        <p:spPr>
          <a:xfrm>
            <a:off x="2952720" y="3098880"/>
            <a:ext cx="243000" cy="4269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9560" y="1808280"/>
            <a:ext cx="4822920" cy="2817720"/>
            <a:chOff x="1609560" y="1808280"/>
            <a:chExt cx="4822920" cy="2817720"/>
          </a:xfrm>
        </p:grpSpPr>
        <p:sp>
          <p:nvSpPr>
            <p:cNvPr id="160" name="椭圆 12"/>
            <p:cNvSpPr/>
            <p:nvPr/>
          </p:nvSpPr>
          <p:spPr>
            <a:xfrm>
              <a:off x="1609560" y="3754800"/>
              <a:ext cx="4822920" cy="87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5"/>
            <p:cNvSpPr/>
            <p:nvPr/>
          </p:nvSpPr>
          <p:spPr>
            <a:xfrm>
              <a:off x="3363480" y="1808280"/>
              <a:ext cx="1314720" cy="252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4"/>
            <p:cNvSpPr/>
            <p:nvPr/>
          </p:nvSpPr>
          <p:spPr>
            <a:xfrm>
              <a:off x="4051440" y="3119400"/>
              <a:ext cx="212400" cy="84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5"/>
            <p:cNvSpPr/>
            <p:nvPr/>
          </p:nvSpPr>
          <p:spPr>
            <a:xfrm>
              <a:off x="3177720" y="1808280"/>
              <a:ext cx="204120" cy="2525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6"/>
            <p:cNvSpPr/>
            <p:nvPr/>
          </p:nvSpPr>
          <p:spPr>
            <a:xfrm flipH="1">
              <a:off x="3338640" y="1910160"/>
              <a:ext cx="394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" descr="C:\Documents and Settings\user\桌面\图片1.png"/>
          <p:cNvPicPr/>
          <p:nvPr/>
        </p:nvPicPr>
        <p:blipFill>
          <a:blip r:embed="rId3"/>
          <a:srcRect l="43507" t="40916" r="47372" b="27277"/>
          <a:stretch/>
        </p:blipFill>
        <p:spPr>
          <a:xfrm>
            <a:off x="3990960" y="2914560"/>
            <a:ext cx="311040" cy="4287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585880" y="1633680"/>
            <a:ext cx="5227920" cy="3052800"/>
            <a:chOff x="2585880" y="1633680"/>
            <a:chExt cx="5227920" cy="3052800"/>
          </a:xfrm>
        </p:grpSpPr>
        <p:sp>
          <p:nvSpPr>
            <p:cNvPr id="167" name="椭圆 10"/>
            <p:cNvSpPr/>
            <p:nvPr/>
          </p:nvSpPr>
          <p:spPr>
            <a:xfrm>
              <a:off x="2585880" y="3706200"/>
              <a:ext cx="5227920" cy="98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5"/>
            <p:cNvSpPr/>
            <p:nvPr/>
          </p:nvSpPr>
          <p:spPr>
            <a:xfrm>
              <a:off x="4487040" y="1633680"/>
              <a:ext cx="1425240" cy="2835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1"/>
            <p:cNvSpPr/>
            <p:nvPr/>
          </p:nvSpPr>
          <p:spPr>
            <a:xfrm>
              <a:off x="5199840" y="3029400"/>
              <a:ext cx="263520" cy="8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2"/>
            <p:cNvSpPr/>
            <p:nvPr/>
          </p:nvSpPr>
          <p:spPr>
            <a:xfrm>
              <a:off x="4285800" y="1633680"/>
              <a:ext cx="221400" cy="284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3"/>
            <p:cNvSpPr/>
            <p:nvPr/>
          </p:nvSpPr>
          <p:spPr>
            <a:xfrm flipH="1">
              <a:off x="4493160" y="1742400"/>
              <a:ext cx="394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" descr="C:\Documents and Settings\user\桌面\图片1.png"/>
          <p:cNvPicPr/>
          <p:nvPr/>
        </p:nvPicPr>
        <p:blipFill>
          <a:blip r:embed="rId4"/>
          <a:srcRect l="41717" t="0" r="0" b="0"/>
          <a:stretch/>
        </p:blipFill>
        <p:spPr>
          <a:xfrm>
            <a:off x="5010120" y="1860480"/>
            <a:ext cx="264492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 flipH="1" rot="20856000">
            <a:off x="5593320" y="248400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图表 5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72000" y="5302080"/>
            <a:ext cx="36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10960"/>
            <a:ext cx="6543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8" name="图表 4" descr=""/>
          <p:cNvPicPr/>
          <p:nvPr/>
        </p:nvPicPr>
        <p:blipFill>
          <a:blip r:embed="rId1"/>
          <a:stretch/>
        </p:blipFill>
        <p:spPr>
          <a:xfrm>
            <a:off x="1185840" y="912960"/>
            <a:ext cx="6843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23:35:00Z</dcterms:created>
  <dc:creator>lidan</dc:creator>
  <dc:description/>
  <dc:language>en-US</dc:language>
  <cp:lastModifiedBy>Admin</cp:lastModifiedBy>
  <dcterms:modified xsi:type="dcterms:W3CDTF">2014-05-15T06:50:2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