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3742-9855-440C-8526-B8115C44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821-083D-4F88-9F84-05B65099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720-F6E8-4176-A24E-04DD08AC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9077-6C49-49E9-B41E-D7708B38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9452-2CA7-4415-ACDA-547348C9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2F3F-5AE9-43D8-91EF-A4B8A829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E9F0-E01D-4AE9-AD9C-F725B8B8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1107-6806-49F5-9530-12A977FA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0666-8580-4E62-90CF-5D17B588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129D-B7BF-43A9-9668-9BB011F4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0445-F902-4637-9BC2-C59A322B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8AC-5F42-4A5D-B545-B49395AC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D4DE-6BE7-48D6-8603-188D6E17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145E-DA4D-418C-A01C-8731B483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F28B-C37D-4FAE-882E-F07766EE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E444-65D5-4BCD-A30D-AD3E5992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A1AC-FAB3-42DF-AC50-0A54AE59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8A8-51D2-4919-AC81-ED7B857B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834F-7911-40EE-8AC0-C75A407C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CE5-4B63-4C35-9B84-7152E833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475F-FB96-40D3-82CE-02D98601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15CC-326F-4CDA-A78E-3D0942D1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CEE1-0490-4F10-83A3-789DD065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B6A-5719-4CC5-BDA3-ED0CB198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bbs.ruideppt.com/forum.php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C5E7-1F26-450B-A89E-8EDAA64349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>
            <a:hlinkClick r:id="rId2"/>
          </p:cNvPr>
          <p:cNvSpPr/>
          <p:nvPr/>
        </p:nvSpPr>
        <p:spPr>
          <a:xfrm>
            <a:off x="5337000" y="4389480"/>
            <a:ext cx="38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本</a:t>
            </a:r>
            <a:r>
              <a:rPr b="0" lang="en-US" sz="14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版权归北京锐得幻演广告有限公司所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免费供广大锐得网友发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3E16-A8E4-4A0E-88AF-6993C5DF6B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6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6.png"/><Relationship Id="rId20" Type="http://schemas.openxmlformats.org/officeDocument/2006/relationships/image" Target="../media/image11.png"/><Relationship Id="rId21" Type="http://schemas.openxmlformats.org/officeDocument/2006/relationships/image" Target="../media/image6.png"/><Relationship Id="rId22" Type="http://schemas.openxmlformats.org/officeDocument/2006/relationships/image" Target="../media/image12.png"/><Relationship Id="rId23" Type="http://schemas.openxmlformats.org/officeDocument/2006/relationships/image" Target="../media/image6.png"/><Relationship Id="rId24" Type="http://schemas.openxmlformats.org/officeDocument/2006/relationships/image" Target="../media/image13.png"/><Relationship Id="rId25" Type="http://schemas.openxmlformats.org/officeDocument/2006/relationships/image" Target="../media/image14.png"/><Relationship Id="rId26" Type="http://schemas.openxmlformats.org/officeDocument/2006/relationships/image" Target="../media/image15.png"/><Relationship Id="rId27" Type="http://schemas.openxmlformats.org/officeDocument/2006/relationships/image" Target="../media/image14.png"/><Relationship Id="rId28" Type="http://schemas.openxmlformats.org/officeDocument/2006/relationships/image" Target="../media/image15.png"/><Relationship Id="rId29" Type="http://schemas.openxmlformats.org/officeDocument/2006/relationships/image" Target="../media/image9.png"/><Relationship Id="rId30" Type="http://schemas.openxmlformats.org/officeDocument/2006/relationships/image" Target="../media/image10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6.png"/><Relationship Id="rId34" Type="http://schemas.openxmlformats.org/officeDocument/2006/relationships/image" Target="../media/image8.png"/><Relationship Id="rId35" Type="http://schemas.openxmlformats.org/officeDocument/2006/relationships/image" Target="../media/image6.png"/><Relationship Id="rId36" Type="http://schemas.openxmlformats.org/officeDocument/2006/relationships/image" Target="../media/image8.png"/><Relationship Id="rId37" Type="http://schemas.openxmlformats.org/officeDocument/2006/relationships/image" Target="../media/image6.png"/><Relationship Id="rId38" Type="http://schemas.openxmlformats.org/officeDocument/2006/relationships/image" Target="../media/image8.png"/><Relationship Id="rId39" Type="http://schemas.openxmlformats.org/officeDocument/2006/relationships/image" Target="../media/image9.png"/><Relationship Id="rId40" Type="http://schemas.openxmlformats.org/officeDocument/2006/relationships/image" Target="../media/image10.png"/><Relationship Id="rId41" Type="http://schemas.openxmlformats.org/officeDocument/2006/relationships/image" Target="../media/image9.png"/><Relationship Id="rId42" Type="http://schemas.openxmlformats.org/officeDocument/2006/relationships/image" Target="../media/image10.png"/><Relationship Id="rId43" Type="http://schemas.openxmlformats.org/officeDocument/2006/relationships/image" Target="../media/image9.png"/><Relationship Id="rId44" Type="http://schemas.openxmlformats.org/officeDocument/2006/relationships/image" Target="../media/image10.png"/><Relationship Id="rId45" Type="http://schemas.openxmlformats.org/officeDocument/2006/relationships/image" Target="../media/image6.png"/><Relationship Id="rId46" Type="http://schemas.openxmlformats.org/officeDocument/2006/relationships/image" Target="../media/image11.png"/><Relationship Id="rId47" Type="http://schemas.openxmlformats.org/officeDocument/2006/relationships/image" Target="../media/image6.png"/><Relationship Id="rId48" Type="http://schemas.openxmlformats.org/officeDocument/2006/relationships/image" Target="../media/image12.png"/><Relationship Id="rId49" Type="http://schemas.openxmlformats.org/officeDocument/2006/relationships/image" Target="../media/image6.png"/><Relationship Id="rId50" Type="http://schemas.openxmlformats.org/officeDocument/2006/relationships/image" Target="../media/image13.png"/><Relationship Id="rId51" Type="http://schemas.openxmlformats.org/officeDocument/2006/relationships/image" Target="../media/image14.png"/><Relationship Id="rId52" Type="http://schemas.openxmlformats.org/officeDocument/2006/relationships/image" Target="../media/image15.png"/><Relationship Id="rId53" Type="http://schemas.openxmlformats.org/officeDocument/2006/relationships/image" Target="../media/image14.png"/><Relationship Id="rId54" Type="http://schemas.openxmlformats.org/officeDocument/2006/relationships/image" Target="../media/image15.png"/><Relationship Id="rId55" Type="http://schemas.openxmlformats.org/officeDocument/2006/relationships/image" Target="../media/image9.png"/><Relationship Id="rId56" Type="http://schemas.openxmlformats.org/officeDocument/2006/relationships/image" Target="../media/image10.png"/><Relationship Id="rId5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hyperlink" Target="http://bbs.ruideppt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hyperlink" Target="http://bbs.ruideppt.com/" TargetMode="External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hyperlink" Target="http://bbs.ruideppt.com/" TargetMode="External"/><Relationship Id="rId8" Type="http://schemas.openxmlformats.org/officeDocument/2006/relationships/image" Target="../media/image17.png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3631"/>
          <p:cNvSpPr/>
          <p:nvPr/>
        </p:nvSpPr>
        <p:spPr>
          <a:xfrm>
            <a:off x="0" y="-46080"/>
            <a:ext cx="9144000" cy="5194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组合 105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3864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4542120" y="105120"/>
            <a:ext cx="181800" cy="181440"/>
            <a:chOff x="4542120" y="105120"/>
            <a:chExt cx="181800" cy="181440"/>
          </a:xfrm>
        </p:grpSpPr>
        <p:sp>
          <p:nvSpPr>
            <p:cNvPr id="86" name="AutoShape 15"/>
            <p:cNvSpPr/>
            <p:nvPr/>
          </p:nvSpPr>
          <p:spPr>
            <a:xfrm rot="19020000">
              <a:off x="4565520" y="134640"/>
              <a:ext cx="135000" cy="122040"/>
            </a:xfrm>
            <a:custGeom>
              <a:avLst/>
              <a:gdLst>
                <a:gd name="textAreaLeft" fmla="*/ 50760 w 135000"/>
                <a:gd name="textAreaRight" fmla="*/ 84240 w 135000"/>
                <a:gd name="textAreaTop" fmla="*/ 45720 h 122040"/>
                <a:gd name="textAreaBottom" fmla="*/ 7632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AutoShape 16"/>
            <p:cNvSpPr/>
            <p:nvPr/>
          </p:nvSpPr>
          <p:spPr>
            <a:xfrm rot="16500000">
              <a:off x="4572360" y="131400"/>
              <a:ext cx="119160" cy="131760"/>
            </a:xfrm>
            <a:custGeom>
              <a:avLst/>
              <a:gdLst>
                <a:gd name="textAreaLeft" fmla="*/ 47520 w 119160"/>
                <a:gd name="textAreaRight" fmla="*/ 71640 w 119160"/>
                <a:gd name="textAreaTop" fmla="*/ 52560 h 131760"/>
                <a:gd name="textAreaBottom" fmla="*/ 7920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857320" y="3144600"/>
            <a:ext cx="180720" cy="180360"/>
            <a:chOff x="2857320" y="3144600"/>
            <a:chExt cx="180720" cy="180360"/>
          </a:xfrm>
        </p:grpSpPr>
        <p:sp>
          <p:nvSpPr>
            <p:cNvPr id="89" name="AutoShape 18"/>
            <p:cNvSpPr/>
            <p:nvPr/>
          </p:nvSpPr>
          <p:spPr>
            <a:xfrm rot="19020000">
              <a:off x="2881080" y="3173400"/>
              <a:ext cx="133200" cy="122400"/>
            </a:xfrm>
            <a:custGeom>
              <a:avLst/>
              <a:gdLst>
                <a:gd name="textAreaLeft" fmla="*/ 50040 w 133200"/>
                <a:gd name="textAreaRight" fmla="*/ 83160 w 133200"/>
                <a:gd name="textAreaTop" fmla="*/ 46080 h 122400"/>
                <a:gd name="textAreaBottom" fmla="*/ 7632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AutoShape 19"/>
            <p:cNvSpPr/>
            <p:nvPr/>
          </p:nvSpPr>
          <p:spPr>
            <a:xfrm rot="16500000">
              <a:off x="2886840" y="3171240"/>
              <a:ext cx="119520" cy="129960"/>
            </a:xfrm>
            <a:custGeom>
              <a:avLst/>
              <a:gdLst>
                <a:gd name="textAreaLeft" fmla="*/ 47520 w 119520"/>
                <a:gd name="textAreaRight" fmla="*/ 72000 w 119520"/>
                <a:gd name="textAreaTop" fmla="*/ 51840 h 129960"/>
                <a:gd name="textAreaBottom" fmla="*/ 78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050640" y="2957400"/>
            <a:ext cx="121680" cy="120960"/>
            <a:chOff x="3050640" y="2957400"/>
            <a:chExt cx="121680" cy="120960"/>
          </a:xfrm>
        </p:grpSpPr>
        <p:sp>
          <p:nvSpPr>
            <p:cNvPr id="92" name="AutoShape 21"/>
            <p:cNvSpPr/>
            <p:nvPr/>
          </p:nvSpPr>
          <p:spPr>
            <a:xfrm rot="19020000">
              <a:off x="3066840" y="2976120"/>
              <a:ext cx="88920" cy="82800"/>
            </a:xfrm>
            <a:custGeom>
              <a:avLst/>
              <a:gdLst>
                <a:gd name="textAreaLeft" fmla="*/ 33480 w 88920"/>
                <a:gd name="textAreaRight" fmla="*/ 55440 w 88920"/>
                <a:gd name="textAreaTop" fmla="*/ 30960 h 82800"/>
                <a:gd name="textAreaBottom" fmla="*/ 51840 h 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AutoShape 22"/>
            <p:cNvSpPr/>
            <p:nvPr/>
          </p:nvSpPr>
          <p:spPr>
            <a:xfrm rot="16500000">
              <a:off x="3070080" y="2975040"/>
              <a:ext cx="81000" cy="86760"/>
            </a:xfrm>
            <a:custGeom>
              <a:avLst/>
              <a:gdLst>
                <a:gd name="textAreaLeft" fmla="*/ 32400 w 81000"/>
                <a:gd name="textAreaRight" fmla="*/ 48600 w 81000"/>
                <a:gd name="textAreaTop" fmla="*/ 34560 h 86760"/>
                <a:gd name="textAreaBottom" fmla="*/ 52200 h 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109680" y="728280"/>
            <a:ext cx="121320" cy="120600"/>
            <a:chOff x="3109680" y="728280"/>
            <a:chExt cx="121320" cy="120600"/>
          </a:xfrm>
        </p:grpSpPr>
        <p:sp>
          <p:nvSpPr>
            <p:cNvPr id="95" name="AutoShape 24"/>
            <p:cNvSpPr/>
            <p:nvPr/>
          </p:nvSpPr>
          <p:spPr>
            <a:xfrm rot="19020000">
              <a:off x="3125520" y="747000"/>
              <a:ext cx="88920" cy="82440"/>
            </a:xfrm>
            <a:custGeom>
              <a:avLst/>
              <a:gdLst>
                <a:gd name="textAreaLeft" fmla="*/ 33480 w 88920"/>
                <a:gd name="textAreaRight" fmla="*/ 55440 w 8892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AutoShape 25"/>
            <p:cNvSpPr/>
            <p:nvPr/>
          </p:nvSpPr>
          <p:spPr>
            <a:xfrm rot="16500000">
              <a:off x="3128760" y="745920"/>
              <a:ext cx="80640" cy="8676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4560 h 86760"/>
                <a:gd name="textAreaBottom" fmla="*/ 52200 h 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814200" y="2279880"/>
            <a:ext cx="181800" cy="181440"/>
            <a:chOff x="3814200" y="2279880"/>
            <a:chExt cx="181800" cy="181440"/>
          </a:xfrm>
        </p:grpSpPr>
        <p:sp>
          <p:nvSpPr>
            <p:cNvPr id="98" name="AutoShape 30"/>
            <p:cNvSpPr/>
            <p:nvPr/>
          </p:nvSpPr>
          <p:spPr>
            <a:xfrm rot="19020000">
              <a:off x="3838320" y="2308320"/>
              <a:ext cx="133200" cy="123840"/>
            </a:xfrm>
            <a:custGeom>
              <a:avLst/>
              <a:gdLst>
                <a:gd name="textAreaLeft" fmla="*/ 50040 w 133200"/>
                <a:gd name="textAreaRight" fmla="*/ 83160 w 13320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AutoShape 31"/>
            <p:cNvSpPr/>
            <p:nvPr/>
          </p:nvSpPr>
          <p:spPr>
            <a:xfrm rot="16500000">
              <a:off x="3843360" y="2306880"/>
              <a:ext cx="120960" cy="12996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1840 h 129960"/>
                <a:gd name="textAreaBottom" fmla="*/ 78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389120" y="1363320"/>
            <a:ext cx="121320" cy="120600"/>
            <a:chOff x="4389120" y="1363320"/>
            <a:chExt cx="121320" cy="120600"/>
          </a:xfrm>
        </p:grpSpPr>
        <p:sp>
          <p:nvSpPr>
            <p:cNvPr id="101" name="AutoShape 33"/>
            <p:cNvSpPr/>
            <p:nvPr/>
          </p:nvSpPr>
          <p:spPr>
            <a:xfrm rot="19020000">
              <a:off x="4404960" y="1382040"/>
              <a:ext cx="88920" cy="82440"/>
            </a:xfrm>
            <a:custGeom>
              <a:avLst/>
              <a:gdLst>
                <a:gd name="textAreaLeft" fmla="*/ 33480 w 88920"/>
                <a:gd name="textAreaRight" fmla="*/ 55440 w 8892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AutoShape 34"/>
            <p:cNvSpPr/>
            <p:nvPr/>
          </p:nvSpPr>
          <p:spPr>
            <a:xfrm rot="16500000">
              <a:off x="4408200" y="1380960"/>
              <a:ext cx="80640" cy="8676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4560 h 86760"/>
                <a:gd name="textAreaBottom" fmla="*/ 52200 h 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522600" y="2544120"/>
            <a:ext cx="122400" cy="122040"/>
            <a:chOff x="3522600" y="2544120"/>
            <a:chExt cx="122400" cy="122040"/>
          </a:xfrm>
        </p:grpSpPr>
        <p:sp>
          <p:nvSpPr>
            <p:cNvPr id="104" name="AutoShape 36"/>
            <p:cNvSpPr/>
            <p:nvPr/>
          </p:nvSpPr>
          <p:spPr>
            <a:xfrm rot="19020000">
              <a:off x="3538440" y="2563920"/>
              <a:ext cx="90720" cy="82440"/>
            </a:xfrm>
            <a:custGeom>
              <a:avLst/>
              <a:gdLst>
                <a:gd name="textAreaLeft" fmla="*/ 34200 w 90720"/>
                <a:gd name="textAreaRight" fmla="*/ 56520 w 9072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AutoShape 37"/>
            <p:cNvSpPr/>
            <p:nvPr/>
          </p:nvSpPr>
          <p:spPr>
            <a:xfrm rot="16500000">
              <a:off x="3542400" y="2561400"/>
              <a:ext cx="80640" cy="8856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5280 h 88560"/>
                <a:gd name="textAreaBottom" fmla="*/ 5328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523320" y="3418560"/>
            <a:ext cx="180000" cy="179280"/>
            <a:chOff x="3523320" y="3418560"/>
            <a:chExt cx="180000" cy="179280"/>
          </a:xfrm>
        </p:grpSpPr>
        <p:sp>
          <p:nvSpPr>
            <p:cNvPr id="107" name="AutoShape 39"/>
            <p:cNvSpPr/>
            <p:nvPr/>
          </p:nvSpPr>
          <p:spPr>
            <a:xfrm rot="19020000">
              <a:off x="3546360" y="3447720"/>
              <a:ext cx="133560" cy="120600"/>
            </a:xfrm>
            <a:custGeom>
              <a:avLst/>
              <a:gdLst>
                <a:gd name="textAreaLeft" fmla="*/ 50040 w 133560"/>
                <a:gd name="textAreaRight" fmla="*/ 83520 w 133560"/>
                <a:gd name="textAreaTop" fmla="*/ 45360 h 120600"/>
                <a:gd name="textAreaBottom" fmla="*/ 75240 h 12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AutoShape 40"/>
            <p:cNvSpPr/>
            <p:nvPr/>
          </p:nvSpPr>
          <p:spPr>
            <a:xfrm rot="16500000">
              <a:off x="3552840" y="3444480"/>
              <a:ext cx="117720" cy="130320"/>
            </a:xfrm>
            <a:custGeom>
              <a:avLst/>
              <a:gdLst>
                <a:gd name="textAreaLeft" fmla="*/ 46800 w 117720"/>
                <a:gd name="textAreaRight" fmla="*/ 70920 w 117720"/>
                <a:gd name="textAreaTop" fmla="*/ 51840 h 130320"/>
                <a:gd name="textAreaBottom" fmla="*/ 7848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96840" y="2206440"/>
            <a:ext cx="121680" cy="120960"/>
            <a:chOff x="4596840" y="2206440"/>
            <a:chExt cx="121680" cy="120960"/>
          </a:xfrm>
        </p:grpSpPr>
        <p:sp>
          <p:nvSpPr>
            <p:cNvPr id="110" name="AutoShape 48"/>
            <p:cNvSpPr/>
            <p:nvPr/>
          </p:nvSpPr>
          <p:spPr>
            <a:xfrm rot="19020000">
              <a:off x="4613040" y="2225160"/>
              <a:ext cx="88920" cy="82800"/>
            </a:xfrm>
            <a:custGeom>
              <a:avLst/>
              <a:gdLst>
                <a:gd name="textAreaLeft" fmla="*/ 33480 w 88920"/>
                <a:gd name="textAreaRight" fmla="*/ 55440 w 88920"/>
                <a:gd name="textAreaTop" fmla="*/ 30960 h 82800"/>
                <a:gd name="textAreaBottom" fmla="*/ 51840 h 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AutoShape 49"/>
            <p:cNvSpPr/>
            <p:nvPr/>
          </p:nvSpPr>
          <p:spPr>
            <a:xfrm rot="16500000">
              <a:off x="4616280" y="2224080"/>
              <a:ext cx="81000" cy="86760"/>
            </a:xfrm>
            <a:custGeom>
              <a:avLst/>
              <a:gdLst>
                <a:gd name="textAreaLeft" fmla="*/ 32400 w 81000"/>
                <a:gd name="textAreaRight" fmla="*/ 48600 w 81000"/>
                <a:gd name="textAreaTop" fmla="*/ 34560 h 86760"/>
                <a:gd name="textAreaBottom" fmla="*/ 52200 h 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344400" y="1537200"/>
            <a:ext cx="183240" cy="182880"/>
            <a:chOff x="3344400" y="1537200"/>
            <a:chExt cx="183240" cy="182880"/>
          </a:xfrm>
        </p:grpSpPr>
        <p:sp>
          <p:nvSpPr>
            <p:cNvPr id="113" name="AutoShape 51"/>
            <p:cNvSpPr/>
            <p:nvPr/>
          </p:nvSpPr>
          <p:spPr>
            <a:xfrm rot="19020000">
              <a:off x="3368160" y="1566360"/>
              <a:ext cx="135000" cy="123840"/>
            </a:xfrm>
            <a:custGeom>
              <a:avLst/>
              <a:gdLst>
                <a:gd name="textAreaLeft" fmla="*/ 50760 w 135000"/>
                <a:gd name="textAreaRight" fmla="*/ 84240 w 13500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AutoShape 52"/>
            <p:cNvSpPr/>
            <p:nvPr/>
          </p:nvSpPr>
          <p:spPr>
            <a:xfrm rot="16500000">
              <a:off x="3373920" y="1564200"/>
              <a:ext cx="120960" cy="13176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2560 h 131760"/>
                <a:gd name="textAreaBottom" fmla="*/ 7920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354920" y="501480"/>
            <a:ext cx="180720" cy="180000"/>
            <a:chOff x="4354920" y="501480"/>
            <a:chExt cx="180720" cy="180000"/>
          </a:xfrm>
        </p:grpSpPr>
        <p:sp>
          <p:nvSpPr>
            <p:cNvPr id="116" name="AutoShape 54"/>
            <p:cNvSpPr/>
            <p:nvPr/>
          </p:nvSpPr>
          <p:spPr>
            <a:xfrm rot="19020000">
              <a:off x="4378320" y="530280"/>
              <a:ext cx="133200" cy="122040"/>
            </a:xfrm>
            <a:custGeom>
              <a:avLst/>
              <a:gdLst>
                <a:gd name="textAreaLeft" fmla="*/ 50040 w 133200"/>
                <a:gd name="textAreaRight" fmla="*/ 83160 w 133200"/>
                <a:gd name="textAreaTop" fmla="*/ 45720 h 122040"/>
                <a:gd name="textAreaBottom" fmla="*/ 7632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AutoShape 55"/>
            <p:cNvSpPr/>
            <p:nvPr/>
          </p:nvSpPr>
          <p:spPr>
            <a:xfrm rot="16500000">
              <a:off x="4383720" y="527760"/>
              <a:ext cx="119160" cy="129960"/>
            </a:xfrm>
            <a:custGeom>
              <a:avLst/>
              <a:gdLst>
                <a:gd name="textAreaLeft" fmla="*/ 47520 w 119160"/>
                <a:gd name="textAreaRight" fmla="*/ 71640 w 119160"/>
                <a:gd name="textAreaTop" fmla="*/ 51840 h 129960"/>
                <a:gd name="textAreaBottom" fmla="*/ 78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090320" y="907920"/>
            <a:ext cx="121680" cy="120960"/>
            <a:chOff x="4090320" y="907920"/>
            <a:chExt cx="121680" cy="120960"/>
          </a:xfrm>
        </p:grpSpPr>
        <p:sp>
          <p:nvSpPr>
            <p:cNvPr id="119" name="AutoShape 57"/>
            <p:cNvSpPr/>
            <p:nvPr/>
          </p:nvSpPr>
          <p:spPr>
            <a:xfrm rot="19020000">
              <a:off x="4106520" y="926640"/>
              <a:ext cx="88920" cy="82800"/>
            </a:xfrm>
            <a:custGeom>
              <a:avLst/>
              <a:gdLst>
                <a:gd name="textAreaLeft" fmla="*/ 33480 w 88920"/>
                <a:gd name="textAreaRight" fmla="*/ 55440 w 88920"/>
                <a:gd name="textAreaTop" fmla="*/ 30960 h 82800"/>
                <a:gd name="textAreaBottom" fmla="*/ 51840 h 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AutoShape 58"/>
            <p:cNvSpPr/>
            <p:nvPr/>
          </p:nvSpPr>
          <p:spPr>
            <a:xfrm rot="16500000">
              <a:off x="4109760" y="925560"/>
              <a:ext cx="81000" cy="86760"/>
            </a:xfrm>
            <a:custGeom>
              <a:avLst/>
              <a:gdLst>
                <a:gd name="textAreaLeft" fmla="*/ 32400 w 81000"/>
                <a:gd name="textAreaRight" fmla="*/ 48600 w 81000"/>
                <a:gd name="textAreaTop" fmla="*/ 34560 h 86760"/>
                <a:gd name="textAreaBottom" fmla="*/ 52200 h 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083560" y="3255840"/>
            <a:ext cx="180720" cy="180000"/>
            <a:chOff x="5083560" y="3255840"/>
            <a:chExt cx="180720" cy="180000"/>
          </a:xfrm>
        </p:grpSpPr>
        <p:sp>
          <p:nvSpPr>
            <p:cNvPr id="122" name="AutoShape 60"/>
            <p:cNvSpPr/>
            <p:nvPr/>
          </p:nvSpPr>
          <p:spPr>
            <a:xfrm rot="19020000">
              <a:off x="5106960" y="3284640"/>
              <a:ext cx="133200" cy="122040"/>
            </a:xfrm>
            <a:custGeom>
              <a:avLst/>
              <a:gdLst>
                <a:gd name="textAreaLeft" fmla="*/ 50040 w 133200"/>
                <a:gd name="textAreaRight" fmla="*/ 83160 w 133200"/>
                <a:gd name="textAreaTop" fmla="*/ 45720 h 122040"/>
                <a:gd name="textAreaBottom" fmla="*/ 7632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AutoShape 61"/>
            <p:cNvSpPr/>
            <p:nvPr/>
          </p:nvSpPr>
          <p:spPr>
            <a:xfrm rot="16500000">
              <a:off x="5112360" y="3282120"/>
              <a:ext cx="119160" cy="129960"/>
            </a:xfrm>
            <a:custGeom>
              <a:avLst/>
              <a:gdLst>
                <a:gd name="textAreaLeft" fmla="*/ 47520 w 119160"/>
                <a:gd name="textAreaRight" fmla="*/ 71640 w 119160"/>
                <a:gd name="textAreaTop" fmla="*/ 51840 h 129960"/>
                <a:gd name="textAreaBottom" fmla="*/ 78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173560" y="3839400"/>
            <a:ext cx="122400" cy="122040"/>
            <a:chOff x="5173560" y="3839400"/>
            <a:chExt cx="122400" cy="122040"/>
          </a:xfrm>
        </p:grpSpPr>
        <p:sp>
          <p:nvSpPr>
            <p:cNvPr id="125" name="AutoShape 63"/>
            <p:cNvSpPr/>
            <p:nvPr/>
          </p:nvSpPr>
          <p:spPr>
            <a:xfrm rot="19020000">
              <a:off x="5189400" y="3859200"/>
              <a:ext cx="90720" cy="82440"/>
            </a:xfrm>
            <a:custGeom>
              <a:avLst/>
              <a:gdLst>
                <a:gd name="textAreaLeft" fmla="*/ 34200 w 90720"/>
                <a:gd name="textAreaRight" fmla="*/ 56520 w 9072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AutoShape 64"/>
            <p:cNvSpPr/>
            <p:nvPr/>
          </p:nvSpPr>
          <p:spPr>
            <a:xfrm rot="16500000">
              <a:off x="5193360" y="3856680"/>
              <a:ext cx="80640" cy="8856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5280 h 88560"/>
                <a:gd name="textAreaBottom" fmla="*/ 5328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833720" y="2691360"/>
            <a:ext cx="363960" cy="362520"/>
            <a:chOff x="4833720" y="2691360"/>
            <a:chExt cx="363960" cy="362520"/>
          </a:xfrm>
        </p:grpSpPr>
        <p:sp>
          <p:nvSpPr>
            <p:cNvPr id="128" name="AutoShape 66"/>
            <p:cNvSpPr/>
            <p:nvPr/>
          </p:nvSpPr>
          <p:spPr>
            <a:xfrm rot="19020000">
              <a:off x="4881240" y="2749680"/>
              <a:ext cx="268200" cy="245880"/>
            </a:xfrm>
            <a:custGeom>
              <a:avLst/>
              <a:gdLst>
                <a:gd name="textAreaLeft" fmla="*/ 100800 w 268200"/>
                <a:gd name="textAreaRight" fmla="*/ 167400 w 268200"/>
                <a:gd name="textAreaTop" fmla="*/ 92520 h 245880"/>
                <a:gd name="textAreaBottom" fmla="*/ 15336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AutoShape 67"/>
            <p:cNvSpPr/>
            <p:nvPr/>
          </p:nvSpPr>
          <p:spPr>
            <a:xfrm rot="16500000">
              <a:off x="4892760" y="2745000"/>
              <a:ext cx="239760" cy="261360"/>
            </a:xfrm>
            <a:custGeom>
              <a:avLst/>
              <a:gdLst>
                <a:gd name="textAreaLeft" fmla="*/ 95760 w 239760"/>
                <a:gd name="textAreaRight" fmla="*/ 144000 w 239760"/>
                <a:gd name="textAreaTop" fmla="*/ 104040 h 261360"/>
                <a:gd name="textAreaBottom" fmla="*/ 157320 h 26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cc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712320" y="114120"/>
            <a:ext cx="182160" cy="181800"/>
            <a:chOff x="3712320" y="114120"/>
            <a:chExt cx="182160" cy="181800"/>
          </a:xfrm>
        </p:grpSpPr>
        <p:sp>
          <p:nvSpPr>
            <p:cNvPr id="131" name="AutoShape 69"/>
            <p:cNvSpPr/>
            <p:nvPr/>
          </p:nvSpPr>
          <p:spPr>
            <a:xfrm rot="19020000">
              <a:off x="3736440" y="142920"/>
              <a:ext cx="133560" cy="123840"/>
            </a:xfrm>
            <a:custGeom>
              <a:avLst/>
              <a:gdLst>
                <a:gd name="textAreaLeft" fmla="*/ 50040 w 133560"/>
                <a:gd name="textAreaRight" fmla="*/ 83520 w 13356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AutoShape 70"/>
            <p:cNvSpPr/>
            <p:nvPr/>
          </p:nvSpPr>
          <p:spPr>
            <a:xfrm rot="16500000">
              <a:off x="3741480" y="141120"/>
              <a:ext cx="120960" cy="13032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1840 h 130320"/>
                <a:gd name="textAreaBottom" fmla="*/ 7848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823640" y="993600"/>
            <a:ext cx="121680" cy="120960"/>
            <a:chOff x="4823640" y="993600"/>
            <a:chExt cx="121680" cy="120960"/>
          </a:xfrm>
        </p:grpSpPr>
        <p:sp>
          <p:nvSpPr>
            <p:cNvPr id="134" name="AutoShape 72"/>
            <p:cNvSpPr/>
            <p:nvPr/>
          </p:nvSpPr>
          <p:spPr>
            <a:xfrm rot="19020000">
              <a:off x="4839840" y="1012320"/>
              <a:ext cx="88920" cy="82800"/>
            </a:xfrm>
            <a:custGeom>
              <a:avLst/>
              <a:gdLst>
                <a:gd name="textAreaLeft" fmla="*/ 33480 w 88920"/>
                <a:gd name="textAreaRight" fmla="*/ 55440 w 88920"/>
                <a:gd name="textAreaTop" fmla="*/ 30960 h 82800"/>
                <a:gd name="textAreaBottom" fmla="*/ 51840 h 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AutoShape 73"/>
            <p:cNvSpPr/>
            <p:nvPr/>
          </p:nvSpPr>
          <p:spPr>
            <a:xfrm rot="16500000">
              <a:off x="4843080" y="1011240"/>
              <a:ext cx="81000" cy="86760"/>
            </a:xfrm>
            <a:custGeom>
              <a:avLst/>
              <a:gdLst>
                <a:gd name="textAreaLeft" fmla="*/ 32400 w 81000"/>
                <a:gd name="textAreaRight" fmla="*/ 48600 w 81000"/>
                <a:gd name="textAreaTop" fmla="*/ 34560 h 86760"/>
                <a:gd name="textAreaBottom" fmla="*/ 52200 h 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022280" y="565920"/>
            <a:ext cx="183240" cy="182880"/>
            <a:chOff x="4022280" y="565920"/>
            <a:chExt cx="183240" cy="182880"/>
          </a:xfrm>
        </p:grpSpPr>
        <p:sp>
          <p:nvSpPr>
            <p:cNvPr id="137" name="AutoShape 75"/>
            <p:cNvSpPr/>
            <p:nvPr/>
          </p:nvSpPr>
          <p:spPr>
            <a:xfrm rot="19020000">
              <a:off x="4046040" y="595080"/>
              <a:ext cx="135000" cy="123840"/>
            </a:xfrm>
            <a:custGeom>
              <a:avLst/>
              <a:gdLst>
                <a:gd name="textAreaLeft" fmla="*/ 50760 w 135000"/>
                <a:gd name="textAreaRight" fmla="*/ 84240 w 13500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AutoShape 76"/>
            <p:cNvSpPr/>
            <p:nvPr/>
          </p:nvSpPr>
          <p:spPr>
            <a:xfrm rot="16500000">
              <a:off x="4051800" y="592920"/>
              <a:ext cx="120960" cy="13176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2560 h 131760"/>
                <a:gd name="textAreaBottom" fmla="*/ 7920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191840" y="766440"/>
            <a:ext cx="182160" cy="181800"/>
            <a:chOff x="4191840" y="766440"/>
            <a:chExt cx="182160" cy="181800"/>
          </a:xfrm>
        </p:grpSpPr>
        <p:sp>
          <p:nvSpPr>
            <p:cNvPr id="140" name="AutoShape 78"/>
            <p:cNvSpPr/>
            <p:nvPr/>
          </p:nvSpPr>
          <p:spPr>
            <a:xfrm rot="19020000">
              <a:off x="4215960" y="795240"/>
              <a:ext cx="133560" cy="123840"/>
            </a:xfrm>
            <a:custGeom>
              <a:avLst/>
              <a:gdLst>
                <a:gd name="textAreaLeft" fmla="*/ 50040 w 133560"/>
                <a:gd name="textAreaRight" fmla="*/ 83520 w 13356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AutoShape 79"/>
            <p:cNvSpPr/>
            <p:nvPr/>
          </p:nvSpPr>
          <p:spPr>
            <a:xfrm rot="16500000">
              <a:off x="4221000" y="793440"/>
              <a:ext cx="120960" cy="13032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1840 h 130320"/>
                <a:gd name="textAreaBottom" fmla="*/ 7848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712320" y="114120"/>
            <a:ext cx="182160" cy="181800"/>
            <a:chOff x="3712320" y="114120"/>
            <a:chExt cx="182160" cy="181800"/>
          </a:xfrm>
        </p:grpSpPr>
        <p:sp>
          <p:nvSpPr>
            <p:cNvPr id="143" name="AutoShape 81"/>
            <p:cNvSpPr/>
            <p:nvPr/>
          </p:nvSpPr>
          <p:spPr>
            <a:xfrm rot="19020000">
              <a:off x="3736440" y="142920"/>
              <a:ext cx="133560" cy="123840"/>
            </a:xfrm>
            <a:custGeom>
              <a:avLst/>
              <a:gdLst>
                <a:gd name="textAreaLeft" fmla="*/ 50040 w 133560"/>
                <a:gd name="textAreaRight" fmla="*/ 83520 w 13356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AutoShape 82"/>
            <p:cNvSpPr/>
            <p:nvPr/>
          </p:nvSpPr>
          <p:spPr>
            <a:xfrm rot="16500000">
              <a:off x="3741480" y="141120"/>
              <a:ext cx="120960" cy="13032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1840 h 130320"/>
                <a:gd name="textAreaBottom" fmla="*/ 7848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304880" y="1002960"/>
            <a:ext cx="121320" cy="120600"/>
            <a:chOff x="4304880" y="1002960"/>
            <a:chExt cx="121320" cy="120600"/>
          </a:xfrm>
        </p:grpSpPr>
        <p:sp>
          <p:nvSpPr>
            <p:cNvPr id="146" name="AutoShape 84"/>
            <p:cNvSpPr/>
            <p:nvPr/>
          </p:nvSpPr>
          <p:spPr>
            <a:xfrm rot="19020000">
              <a:off x="4320720" y="1021680"/>
              <a:ext cx="88920" cy="82440"/>
            </a:xfrm>
            <a:custGeom>
              <a:avLst/>
              <a:gdLst>
                <a:gd name="textAreaLeft" fmla="*/ 33480 w 88920"/>
                <a:gd name="textAreaRight" fmla="*/ 55440 w 8892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AutoShape 85"/>
            <p:cNvSpPr/>
            <p:nvPr/>
          </p:nvSpPr>
          <p:spPr>
            <a:xfrm rot="16500000">
              <a:off x="4323960" y="1020600"/>
              <a:ext cx="80640" cy="8676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4560 h 86760"/>
                <a:gd name="textAreaBottom" fmla="*/ 52200 h 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022280" y="565920"/>
            <a:ext cx="183240" cy="182880"/>
            <a:chOff x="4022280" y="565920"/>
            <a:chExt cx="183240" cy="182880"/>
          </a:xfrm>
        </p:grpSpPr>
        <p:sp>
          <p:nvSpPr>
            <p:cNvPr id="149" name="AutoShape 87"/>
            <p:cNvSpPr/>
            <p:nvPr/>
          </p:nvSpPr>
          <p:spPr>
            <a:xfrm rot="19020000">
              <a:off x="4046040" y="595080"/>
              <a:ext cx="135000" cy="123840"/>
            </a:xfrm>
            <a:custGeom>
              <a:avLst/>
              <a:gdLst>
                <a:gd name="textAreaLeft" fmla="*/ 50760 w 135000"/>
                <a:gd name="textAreaRight" fmla="*/ 84240 w 13500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AutoShape 88"/>
            <p:cNvSpPr/>
            <p:nvPr/>
          </p:nvSpPr>
          <p:spPr>
            <a:xfrm rot="16500000">
              <a:off x="4051800" y="592920"/>
              <a:ext cx="120960" cy="13176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2560 h 131760"/>
                <a:gd name="textAreaBottom" fmla="*/ 7920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007880" y="1511640"/>
            <a:ext cx="365040" cy="363960"/>
            <a:chOff x="4007880" y="1511640"/>
            <a:chExt cx="365040" cy="363960"/>
          </a:xfrm>
        </p:grpSpPr>
        <p:sp>
          <p:nvSpPr>
            <p:cNvPr id="152" name="AutoShape 90"/>
            <p:cNvSpPr/>
            <p:nvPr/>
          </p:nvSpPr>
          <p:spPr>
            <a:xfrm rot="19020000">
              <a:off x="4056120" y="1569600"/>
              <a:ext cx="268200" cy="247680"/>
            </a:xfrm>
            <a:custGeom>
              <a:avLst/>
              <a:gdLst>
                <a:gd name="textAreaLeft" fmla="*/ 100800 w 268200"/>
                <a:gd name="textAreaRight" fmla="*/ 167400 w 268200"/>
                <a:gd name="textAreaTop" fmla="*/ 93240 h 247680"/>
                <a:gd name="textAreaBottom" fmla="*/ 154440 h 24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AutoShape 91"/>
            <p:cNvSpPr/>
            <p:nvPr/>
          </p:nvSpPr>
          <p:spPr>
            <a:xfrm rot="16500000">
              <a:off x="4066560" y="1566720"/>
              <a:ext cx="241560" cy="261360"/>
            </a:xfrm>
            <a:custGeom>
              <a:avLst/>
              <a:gdLst>
                <a:gd name="textAreaLeft" fmla="*/ 96480 w 241560"/>
                <a:gd name="textAreaRight" fmla="*/ 145080 w 241560"/>
                <a:gd name="textAreaTop" fmla="*/ 104040 h 261360"/>
                <a:gd name="textAreaBottom" fmla="*/ 157320 h 26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cc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279320" y="3218040"/>
            <a:ext cx="181800" cy="181440"/>
            <a:chOff x="4279320" y="3218040"/>
            <a:chExt cx="181800" cy="181440"/>
          </a:xfrm>
        </p:grpSpPr>
        <p:sp>
          <p:nvSpPr>
            <p:cNvPr id="155" name="AutoShape 93"/>
            <p:cNvSpPr/>
            <p:nvPr/>
          </p:nvSpPr>
          <p:spPr>
            <a:xfrm rot="19020000">
              <a:off x="4303440" y="3246480"/>
              <a:ext cx="133200" cy="123840"/>
            </a:xfrm>
            <a:custGeom>
              <a:avLst/>
              <a:gdLst>
                <a:gd name="textAreaLeft" fmla="*/ 50040 w 133200"/>
                <a:gd name="textAreaRight" fmla="*/ 83160 w 13320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AutoShape 94"/>
            <p:cNvSpPr/>
            <p:nvPr/>
          </p:nvSpPr>
          <p:spPr>
            <a:xfrm rot="16500000">
              <a:off x="4308480" y="3245040"/>
              <a:ext cx="120960" cy="12996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1840 h 129960"/>
                <a:gd name="textAreaBottom" fmla="*/ 78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650120" y="2806200"/>
            <a:ext cx="181080" cy="180360"/>
            <a:chOff x="4650120" y="2806200"/>
            <a:chExt cx="181080" cy="180360"/>
          </a:xfrm>
        </p:grpSpPr>
        <p:sp>
          <p:nvSpPr>
            <p:cNvPr id="158" name="AutoShape 96"/>
            <p:cNvSpPr/>
            <p:nvPr/>
          </p:nvSpPr>
          <p:spPr>
            <a:xfrm rot="19020000">
              <a:off x="4673520" y="2835000"/>
              <a:ext cx="133560" cy="122040"/>
            </a:xfrm>
            <a:custGeom>
              <a:avLst/>
              <a:gdLst>
                <a:gd name="textAreaLeft" fmla="*/ 50040 w 133560"/>
                <a:gd name="textAreaRight" fmla="*/ 83520 w 133560"/>
                <a:gd name="textAreaTop" fmla="*/ 45720 h 122040"/>
                <a:gd name="textAreaBottom" fmla="*/ 7632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AutoShape 97"/>
            <p:cNvSpPr/>
            <p:nvPr/>
          </p:nvSpPr>
          <p:spPr>
            <a:xfrm rot="16500000">
              <a:off x="4679280" y="2832480"/>
              <a:ext cx="119160" cy="130320"/>
            </a:xfrm>
            <a:custGeom>
              <a:avLst/>
              <a:gdLst>
                <a:gd name="textAreaLeft" fmla="*/ 47520 w 119160"/>
                <a:gd name="textAreaRight" fmla="*/ 71640 w 119160"/>
                <a:gd name="textAreaTop" fmla="*/ 51840 h 130320"/>
                <a:gd name="textAreaBottom" fmla="*/ 7848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706760" y="2926440"/>
            <a:ext cx="122400" cy="122040"/>
            <a:chOff x="1706760" y="2926440"/>
            <a:chExt cx="122400" cy="122040"/>
          </a:xfrm>
        </p:grpSpPr>
        <p:sp>
          <p:nvSpPr>
            <p:cNvPr id="161" name="AutoShape 122"/>
            <p:cNvSpPr/>
            <p:nvPr/>
          </p:nvSpPr>
          <p:spPr>
            <a:xfrm rot="19020000">
              <a:off x="1722600" y="2945880"/>
              <a:ext cx="90360" cy="82800"/>
            </a:xfrm>
            <a:custGeom>
              <a:avLst/>
              <a:gdLst>
                <a:gd name="textAreaLeft" fmla="*/ 33840 w 90360"/>
                <a:gd name="textAreaRight" fmla="*/ 56520 w 90360"/>
                <a:gd name="textAreaTop" fmla="*/ 30960 h 82800"/>
                <a:gd name="textAreaBottom" fmla="*/ 51840 h 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AutoShape 123"/>
            <p:cNvSpPr/>
            <p:nvPr/>
          </p:nvSpPr>
          <p:spPr>
            <a:xfrm rot="16500000">
              <a:off x="1726200" y="2944800"/>
              <a:ext cx="81000" cy="88200"/>
            </a:xfrm>
            <a:custGeom>
              <a:avLst/>
              <a:gdLst>
                <a:gd name="textAreaLeft" fmla="*/ 32400 w 81000"/>
                <a:gd name="textAreaRight" fmla="*/ 48600 w 81000"/>
                <a:gd name="textAreaTop" fmla="*/ 35280 h 88200"/>
                <a:gd name="textAreaBottom" fmla="*/ 52920 h 8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268080" y="625680"/>
            <a:ext cx="181800" cy="181440"/>
            <a:chOff x="3268080" y="625680"/>
            <a:chExt cx="181800" cy="181440"/>
          </a:xfrm>
        </p:grpSpPr>
        <p:sp>
          <p:nvSpPr>
            <p:cNvPr id="164" name="AutoShape 146"/>
            <p:cNvSpPr/>
            <p:nvPr/>
          </p:nvSpPr>
          <p:spPr>
            <a:xfrm rot="19020000">
              <a:off x="3292200" y="654120"/>
              <a:ext cx="133200" cy="123840"/>
            </a:xfrm>
            <a:custGeom>
              <a:avLst/>
              <a:gdLst>
                <a:gd name="textAreaLeft" fmla="*/ 50040 w 133200"/>
                <a:gd name="textAreaRight" fmla="*/ 83160 w 13320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AutoShape 147"/>
            <p:cNvSpPr/>
            <p:nvPr/>
          </p:nvSpPr>
          <p:spPr>
            <a:xfrm rot="16500000">
              <a:off x="3297240" y="652680"/>
              <a:ext cx="120960" cy="12996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1840 h 129960"/>
                <a:gd name="textAreaBottom" fmla="*/ 78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306960" y="1210680"/>
            <a:ext cx="122400" cy="121680"/>
            <a:chOff x="3306960" y="1210680"/>
            <a:chExt cx="122400" cy="121680"/>
          </a:xfrm>
        </p:grpSpPr>
        <p:sp>
          <p:nvSpPr>
            <p:cNvPr id="167" name="AutoShape 149"/>
            <p:cNvSpPr/>
            <p:nvPr/>
          </p:nvSpPr>
          <p:spPr>
            <a:xfrm rot="19020000">
              <a:off x="3322800" y="1230120"/>
              <a:ext cx="90360" cy="82440"/>
            </a:xfrm>
            <a:custGeom>
              <a:avLst/>
              <a:gdLst>
                <a:gd name="textAreaLeft" fmla="*/ 33840 w 90360"/>
                <a:gd name="textAreaRight" fmla="*/ 56520 w 9036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AutoShape 150"/>
            <p:cNvSpPr/>
            <p:nvPr/>
          </p:nvSpPr>
          <p:spPr>
            <a:xfrm rot="16500000">
              <a:off x="3326400" y="1228320"/>
              <a:ext cx="80640" cy="8820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5280 h 88200"/>
                <a:gd name="textAreaBottom" fmla="*/ 52920 h 8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018240" y="3072960"/>
            <a:ext cx="363600" cy="362880"/>
            <a:chOff x="3018240" y="3072960"/>
            <a:chExt cx="363600" cy="362880"/>
          </a:xfrm>
        </p:grpSpPr>
        <p:sp>
          <p:nvSpPr>
            <p:cNvPr id="170" name="AutoShape 152"/>
            <p:cNvSpPr/>
            <p:nvPr/>
          </p:nvSpPr>
          <p:spPr>
            <a:xfrm rot="19020000">
              <a:off x="3066840" y="3130560"/>
              <a:ext cx="266400" cy="247680"/>
            </a:xfrm>
            <a:custGeom>
              <a:avLst/>
              <a:gdLst>
                <a:gd name="textAreaLeft" fmla="*/ 100080 w 266400"/>
                <a:gd name="textAreaRight" fmla="*/ 166320 w 266400"/>
                <a:gd name="textAreaTop" fmla="*/ 93240 h 247680"/>
                <a:gd name="textAreaBottom" fmla="*/ 154440 h 24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AutoShape 153"/>
            <p:cNvSpPr/>
            <p:nvPr/>
          </p:nvSpPr>
          <p:spPr>
            <a:xfrm rot="16500000">
              <a:off x="3076560" y="3127680"/>
              <a:ext cx="241560" cy="259560"/>
            </a:xfrm>
            <a:custGeom>
              <a:avLst/>
              <a:gdLst>
                <a:gd name="textAreaLeft" fmla="*/ 96480 w 241560"/>
                <a:gd name="textAreaRight" fmla="*/ 145080 w 241560"/>
                <a:gd name="textAreaTop" fmla="*/ 103320 h 259560"/>
                <a:gd name="textAreaBottom" fmla="*/ 156240 h 25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cc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464200" y="587520"/>
            <a:ext cx="182160" cy="181800"/>
            <a:chOff x="2464200" y="587520"/>
            <a:chExt cx="182160" cy="181800"/>
          </a:xfrm>
        </p:grpSpPr>
        <p:sp>
          <p:nvSpPr>
            <p:cNvPr id="173" name="AutoShape 179"/>
            <p:cNvSpPr/>
            <p:nvPr/>
          </p:nvSpPr>
          <p:spPr>
            <a:xfrm rot="19020000">
              <a:off x="2487600" y="617040"/>
              <a:ext cx="135000" cy="122400"/>
            </a:xfrm>
            <a:custGeom>
              <a:avLst/>
              <a:gdLst>
                <a:gd name="textAreaLeft" fmla="*/ 50760 w 135000"/>
                <a:gd name="textAreaRight" fmla="*/ 84240 w 135000"/>
                <a:gd name="textAreaTop" fmla="*/ 46080 h 122400"/>
                <a:gd name="textAreaBottom" fmla="*/ 7632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AutoShape 180"/>
            <p:cNvSpPr/>
            <p:nvPr/>
          </p:nvSpPr>
          <p:spPr>
            <a:xfrm rot="16500000">
              <a:off x="2493720" y="614160"/>
              <a:ext cx="119520" cy="131760"/>
            </a:xfrm>
            <a:custGeom>
              <a:avLst/>
              <a:gdLst>
                <a:gd name="textAreaLeft" fmla="*/ 47520 w 119520"/>
                <a:gd name="textAreaRight" fmla="*/ 72000 w 119520"/>
                <a:gd name="textAreaTop" fmla="*/ 52560 h 131760"/>
                <a:gd name="textAreaBottom" fmla="*/ 7920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834280" y="3188520"/>
            <a:ext cx="181800" cy="181080"/>
            <a:chOff x="2834280" y="3188520"/>
            <a:chExt cx="181800" cy="181080"/>
          </a:xfrm>
        </p:grpSpPr>
        <p:sp>
          <p:nvSpPr>
            <p:cNvPr id="176" name="AutoShape 182"/>
            <p:cNvSpPr/>
            <p:nvPr/>
          </p:nvSpPr>
          <p:spPr>
            <a:xfrm rot="19020000">
              <a:off x="2857680" y="3217680"/>
              <a:ext cx="134640" cy="122040"/>
            </a:xfrm>
            <a:custGeom>
              <a:avLst/>
              <a:gdLst>
                <a:gd name="textAreaLeft" fmla="*/ 50760 w 134640"/>
                <a:gd name="textAreaRight" fmla="*/ 83880 w 134640"/>
                <a:gd name="textAreaTop" fmla="*/ 45720 h 122040"/>
                <a:gd name="textAreaBottom" fmla="*/ 7632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AutoShape 183"/>
            <p:cNvSpPr/>
            <p:nvPr/>
          </p:nvSpPr>
          <p:spPr>
            <a:xfrm rot="16500000">
              <a:off x="2863800" y="3214440"/>
              <a:ext cx="119160" cy="131400"/>
            </a:xfrm>
            <a:custGeom>
              <a:avLst/>
              <a:gdLst>
                <a:gd name="textAreaLeft" fmla="*/ 47520 w 119160"/>
                <a:gd name="textAreaRight" fmla="*/ 71640 w 119160"/>
                <a:gd name="textAreaTop" fmla="*/ 52200 h 131400"/>
                <a:gd name="textAreaBottom" fmla="*/ 79200 h 13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Freeform 185"/>
          <p:cNvSpPr/>
          <p:nvPr/>
        </p:nvSpPr>
        <p:spPr>
          <a:xfrm rot="3609000">
            <a:off x="2326680" y="3752640"/>
            <a:ext cx="15840" cy="25560"/>
          </a:xfrm>
          <a:custGeom>
            <a:avLst/>
            <a:gdLst>
              <a:gd name="textAreaLeft" fmla="*/ 0 w 15840"/>
              <a:gd name="textAreaRight" fmla="*/ 16200 w 158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7" h="11">
                <a:moveTo>
                  <a:pt x="4" y="0"/>
                </a:moveTo>
                <a:cubicBezTo>
                  <a:pt x="5" y="1"/>
                  <a:pt x="5" y="3"/>
                  <a:pt x="7" y="3"/>
                </a:cubicBezTo>
                <a:cubicBezTo>
                  <a:pt x="6" y="5"/>
                  <a:pt x="6" y="7"/>
                  <a:pt x="6" y="10"/>
                </a:cubicBezTo>
                <a:cubicBezTo>
                  <a:pt x="3" y="9"/>
                  <a:pt x="3" y="11"/>
                  <a:pt x="0" y="11"/>
                </a:cubicBezTo>
                <a:cubicBezTo>
                  <a:pt x="1" y="9"/>
                  <a:pt x="0" y="8"/>
                  <a:pt x="1" y="6"/>
                </a:cubicBezTo>
                <a:cubicBezTo>
                  <a:pt x="3" y="6"/>
                  <a:pt x="4" y="7"/>
                  <a:pt x="4" y="9"/>
                </a:cubicBezTo>
                <a:cubicBezTo>
                  <a:pt x="5" y="6"/>
                  <a:pt x="3" y="5"/>
                  <a:pt x="6" y="4"/>
                </a:cubicBezTo>
                <a:cubicBezTo>
                  <a:pt x="6" y="2"/>
                  <a:pt x="3" y="3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451960" y="4573800"/>
            <a:ext cx="171720" cy="176400"/>
            <a:chOff x="2451960" y="4573800"/>
            <a:chExt cx="171720" cy="176400"/>
          </a:xfrm>
        </p:grpSpPr>
        <p:sp>
          <p:nvSpPr>
            <p:cNvPr id="180" name="AutoShape 187"/>
            <p:cNvSpPr/>
            <p:nvPr/>
          </p:nvSpPr>
          <p:spPr>
            <a:xfrm rot="7028400">
              <a:off x="2470320" y="4599720"/>
              <a:ext cx="134640" cy="123840"/>
            </a:xfrm>
            <a:custGeom>
              <a:avLst/>
              <a:gdLst>
                <a:gd name="textAreaLeft" fmla="*/ 50760 w 134640"/>
                <a:gd name="textAreaRight" fmla="*/ 83880 w 13464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AutoShape 188"/>
            <p:cNvSpPr/>
            <p:nvPr/>
          </p:nvSpPr>
          <p:spPr>
            <a:xfrm rot="4509000">
              <a:off x="2477520" y="4594320"/>
              <a:ext cx="120960" cy="13140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2200 h 131400"/>
                <a:gd name="textAreaBottom" fmla="*/ 79200 h 13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027320" y="4023720"/>
            <a:ext cx="171000" cy="175320"/>
            <a:chOff x="4027320" y="4023720"/>
            <a:chExt cx="171000" cy="175320"/>
          </a:xfrm>
        </p:grpSpPr>
        <p:sp>
          <p:nvSpPr>
            <p:cNvPr id="183" name="AutoShape 190"/>
            <p:cNvSpPr/>
            <p:nvPr/>
          </p:nvSpPr>
          <p:spPr>
            <a:xfrm rot="7028400">
              <a:off x="4045680" y="4049280"/>
              <a:ext cx="133560" cy="123840"/>
            </a:xfrm>
            <a:custGeom>
              <a:avLst/>
              <a:gdLst>
                <a:gd name="textAreaLeft" fmla="*/ 50040 w 133560"/>
                <a:gd name="textAreaRight" fmla="*/ 83520 w 13356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AutoShape 191"/>
            <p:cNvSpPr/>
            <p:nvPr/>
          </p:nvSpPr>
          <p:spPr>
            <a:xfrm rot="4509000">
              <a:off x="4052880" y="4044240"/>
              <a:ext cx="120960" cy="13032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1840 h 130320"/>
                <a:gd name="textAreaBottom" fmla="*/ 7848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81600" y="4305960"/>
            <a:ext cx="113760" cy="116640"/>
            <a:chOff x="3981600" y="4305960"/>
            <a:chExt cx="113760" cy="116640"/>
          </a:xfrm>
        </p:grpSpPr>
        <p:sp>
          <p:nvSpPr>
            <p:cNvPr id="186" name="AutoShape 193"/>
            <p:cNvSpPr/>
            <p:nvPr/>
          </p:nvSpPr>
          <p:spPr>
            <a:xfrm rot="7028400">
              <a:off x="3993840" y="4322880"/>
              <a:ext cx="88920" cy="82440"/>
            </a:xfrm>
            <a:custGeom>
              <a:avLst/>
              <a:gdLst>
                <a:gd name="textAreaLeft" fmla="*/ 33480 w 88920"/>
                <a:gd name="textAreaRight" fmla="*/ 55440 w 8892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AutoShape 194"/>
            <p:cNvSpPr/>
            <p:nvPr/>
          </p:nvSpPr>
          <p:spPr>
            <a:xfrm rot="4509000">
              <a:off x="3998520" y="4319280"/>
              <a:ext cx="80640" cy="8676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4560 h 86760"/>
                <a:gd name="textAreaBottom" fmla="*/ 52200 h 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637080" y="3586680"/>
            <a:ext cx="113760" cy="116640"/>
            <a:chOff x="3637080" y="3586680"/>
            <a:chExt cx="113760" cy="116640"/>
          </a:xfrm>
        </p:grpSpPr>
        <p:sp>
          <p:nvSpPr>
            <p:cNvPr id="189" name="AutoShape 196"/>
            <p:cNvSpPr/>
            <p:nvPr/>
          </p:nvSpPr>
          <p:spPr>
            <a:xfrm rot="7028400">
              <a:off x="3649320" y="3603600"/>
              <a:ext cx="88920" cy="82440"/>
            </a:xfrm>
            <a:custGeom>
              <a:avLst/>
              <a:gdLst>
                <a:gd name="textAreaLeft" fmla="*/ 33480 w 88920"/>
                <a:gd name="textAreaRight" fmla="*/ 55440 w 8892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AutoShape 197"/>
            <p:cNvSpPr/>
            <p:nvPr/>
          </p:nvSpPr>
          <p:spPr>
            <a:xfrm rot="4509000">
              <a:off x="3654000" y="3600000"/>
              <a:ext cx="80640" cy="8676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4560 h 86760"/>
                <a:gd name="textAreaBottom" fmla="*/ 52200 h 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696120" y="4797000"/>
            <a:ext cx="342000" cy="350280"/>
            <a:chOff x="3696120" y="4797000"/>
            <a:chExt cx="342000" cy="350280"/>
          </a:xfrm>
        </p:grpSpPr>
        <p:sp>
          <p:nvSpPr>
            <p:cNvPr id="192" name="AutoShape 199"/>
            <p:cNvSpPr/>
            <p:nvPr/>
          </p:nvSpPr>
          <p:spPr>
            <a:xfrm rot="7028400">
              <a:off x="3733560" y="4848120"/>
              <a:ext cx="266760" cy="247680"/>
            </a:xfrm>
            <a:custGeom>
              <a:avLst/>
              <a:gdLst>
                <a:gd name="textAreaLeft" fmla="*/ 100440 w 266760"/>
                <a:gd name="textAreaRight" fmla="*/ 166320 w 266760"/>
                <a:gd name="textAreaTop" fmla="*/ 93240 h 247680"/>
                <a:gd name="textAreaBottom" fmla="*/ 154440 h 24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AutoShape 200"/>
            <p:cNvSpPr/>
            <p:nvPr/>
          </p:nvSpPr>
          <p:spPr>
            <a:xfrm rot="4509000">
              <a:off x="3747240" y="4837680"/>
              <a:ext cx="241560" cy="259920"/>
            </a:xfrm>
            <a:custGeom>
              <a:avLst/>
              <a:gdLst>
                <a:gd name="textAreaLeft" fmla="*/ 96480 w 241560"/>
                <a:gd name="textAreaRight" fmla="*/ 145080 w 241560"/>
                <a:gd name="textAreaTop" fmla="*/ 103680 h 259920"/>
                <a:gd name="textAreaBottom" fmla="*/ 15624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cc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337840" y="2301120"/>
            <a:ext cx="169200" cy="174240"/>
            <a:chOff x="2337840" y="2301120"/>
            <a:chExt cx="169200" cy="174240"/>
          </a:xfrm>
        </p:grpSpPr>
        <p:sp>
          <p:nvSpPr>
            <p:cNvPr id="195" name="AutoShape 202"/>
            <p:cNvSpPr/>
            <p:nvPr/>
          </p:nvSpPr>
          <p:spPr>
            <a:xfrm rot="7028400">
              <a:off x="2355480" y="2327040"/>
              <a:ext cx="133200" cy="122040"/>
            </a:xfrm>
            <a:custGeom>
              <a:avLst/>
              <a:gdLst>
                <a:gd name="textAreaLeft" fmla="*/ 50040 w 133200"/>
                <a:gd name="textAreaRight" fmla="*/ 83160 w 133200"/>
                <a:gd name="textAreaTop" fmla="*/ 45720 h 122040"/>
                <a:gd name="textAreaBottom" fmla="*/ 7632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AutoShape 203"/>
            <p:cNvSpPr/>
            <p:nvPr/>
          </p:nvSpPr>
          <p:spPr>
            <a:xfrm rot="4509000">
              <a:off x="2363400" y="2320920"/>
              <a:ext cx="119160" cy="129960"/>
            </a:xfrm>
            <a:custGeom>
              <a:avLst/>
              <a:gdLst>
                <a:gd name="textAreaLeft" fmla="*/ 47520 w 119160"/>
                <a:gd name="textAreaRight" fmla="*/ 71640 w 119160"/>
                <a:gd name="textAreaTop" fmla="*/ 51840 h 129960"/>
                <a:gd name="textAreaBottom" fmla="*/ 78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198880" y="3389040"/>
            <a:ext cx="114840" cy="118080"/>
            <a:chOff x="2198880" y="3389040"/>
            <a:chExt cx="114840" cy="118080"/>
          </a:xfrm>
        </p:grpSpPr>
        <p:sp>
          <p:nvSpPr>
            <p:cNvPr id="198" name="AutoShape 205"/>
            <p:cNvSpPr/>
            <p:nvPr/>
          </p:nvSpPr>
          <p:spPr>
            <a:xfrm rot="7028400">
              <a:off x="2210760" y="3406680"/>
              <a:ext cx="90360" cy="82800"/>
            </a:xfrm>
            <a:custGeom>
              <a:avLst/>
              <a:gdLst>
                <a:gd name="textAreaLeft" fmla="*/ 33840 w 90360"/>
                <a:gd name="textAreaRight" fmla="*/ 56520 w 90360"/>
                <a:gd name="textAreaTop" fmla="*/ 30960 h 82800"/>
                <a:gd name="textAreaBottom" fmla="*/ 51840 h 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AutoShape 206"/>
            <p:cNvSpPr/>
            <p:nvPr/>
          </p:nvSpPr>
          <p:spPr>
            <a:xfrm rot="4509000">
              <a:off x="2215800" y="3402360"/>
              <a:ext cx="81000" cy="88200"/>
            </a:xfrm>
            <a:custGeom>
              <a:avLst/>
              <a:gdLst>
                <a:gd name="textAreaLeft" fmla="*/ 32400 w 81000"/>
                <a:gd name="textAreaRight" fmla="*/ 48600 w 81000"/>
                <a:gd name="textAreaTop" fmla="*/ 35280 h 88200"/>
                <a:gd name="textAreaBottom" fmla="*/ 52920 h 8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580840" y="2007000"/>
            <a:ext cx="114120" cy="117000"/>
            <a:chOff x="2580840" y="2007000"/>
            <a:chExt cx="114120" cy="117000"/>
          </a:xfrm>
        </p:grpSpPr>
        <p:sp>
          <p:nvSpPr>
            <p:cNvPr id="201" name="AutoShape 208"/>
            <p:cNvSpPr/>
            <p:nvPr/>
          </p:nvSpPr>
          <p:spPr>
            <a:xfrm rot="7028400">
              <a:off x="2593080" y="2023920"/>
              <a:ext cx="88920" cy="82800"/>
            </a:xfrm>
            <a:custGeom>
              <a:avLst/>
              <a:gdLst>
                <a:gd name="textAreaLeft" fmla="*/ 33480 w 88920"/>
                <a:gd name="textAreaRight" fmla="*/ 55440 w 88920"/>
                <a:gd name="textAreaTop" fmla="*/ 30960 h 82800"/>
                <a:gd name="textAreaBottom" fmla="*/ 51840 h 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AutoShape 209"/>
            <p:cNvSpPr/>
            <p:nvPr/>
          </p:nvSpPr>
          <p:spPr>
            <a:xfrm rot="4509000">
              <a:off x="2597760" y="2020680"/>
              <a:ext cx="81000" cy="86760"/>
            </a:xfrm>
            <a:custGeom>
              <a:avLst/>
              <a:gdLst>
                <a:gd name="textAreaLeft" fmla="*/ 32400 w 81000"/>
                <a:gd name="textAreaRight" fmla="*/ 48600 w 81000"/>
                <a:gd name="textAreaTop" fmla="*/ 34560 h 86760"/>
                <a:gd name="textAreaBottom" fmla="*/ 52200 h 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01200" y="3972240"/>
            <a:ext cx="171720" cy="176760"/>
            <a:chOff x="3301200" y="3972240"/>
            <a:chExt cx="171720" cy="176760"/>
          </a:xfrm>
        </p:grpSpPr>
        <p:sp>
          <p:nvSpPr>
            <p:cNvPr id="204" name="AutoShape 211"/>
            <p:cNvSpPr/>
            <p:nvPr/>
          </p:nvSpPr>
          <p:spPr>
            <a:xfrm rot="7028400">
              <a:off x="3319200" y="3998520"/>
              <a:ext cx="135000" cy="123840"/>
            </a:xfrm>
            <a:custGeom>
              <a:avLst/>
              <a:gdLst>
                <a:gd name="textAreaLeft" fmla="*/ 50760 w 135000"/>
                <a:gd name="textAreaRight" fmla="*/ 84240 w 13500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AutoShape 212"/>
            <p:cNvSpPr/>
            <p:nvPr/>
          </p:nvSpPr>
          <p:spPr>
            <a:xfrm rot="4509000">
              <a:off x="3326760" y="3992760"/>
              <a:ext cx="120960" cy="13176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2560 h 131760"/>
                <a:gd name="textAreaBottom" fmla="*/ 7920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769120" y="3411000"/>
            <a:ext cx="169920" cy="174600"/>
            <a:chOff x="2769120" y="3411000"/>
            <a:chExt cx="169920" cy="174600"/>
          </a:xfrm>
        </p:grpSpPr>
        <p:sp>
          <p:nvSpPr>
            <p:cNvPr id="207" name="AutoShape 214"/>
            <p:cNvSpPr/>
            <p:nvPr/>
          </p:nvSpPr>
          <p:spPr>
            <a:xfrm rot="7028400">
              <a:off x="2787120" y="3436920"/>
              <a:ext cx="133560" cy="122400"/>
            </a:xfrm>
            <a:custGeom>
              <a:avLst/>
              <a:gdLst>
                <a:gd name="textAreaLeft" fmla="*/ 50040 w 133560"/>
                <a:gd name="textAreaRight" fmla="*/ 83520 w 133560"/>
                <a:gd name="textAreaTop" fmla="*/ 46080 h 122400"/>
                <a:gd name="textAreaBottom" fmla="*/ 7632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AutoShape 215"/>
            <p:cNvSpPr/>
            <p:nvPr/>
          </p:nvSpPr>
          <p:spPr>
            <a:xfrm rot="4509000">
              <a:off x="2794680" y="3430800"/>
              <a:ext cx="119520" cy="130320"/>
            </a:xfrm>
            <a:custGeom>
              <a:avLst/>
              <a:gdLst>
                <a:gd name="textAreaLeft" fmla="*/ 47520 w 119520"/>
                <a:gd name="textAreaRight" fmla="*/ 72000 w 119520"/>
                <a:gd name="textAreaTop" fmla="*/ 51840 h 130320"/>
                <a:gd name="textAreaBottom" fmla="*/ 7848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552760" y="3277800"/>
            <a:ext cx="114480" cy="117720"/>
            <a:chOff x="2552760" y="3277800"/>
            <a:chExt cx="114480" cy="117720"/>
          </a:xfrm>
        </p:grpSpPr>
        <p:sp>
          <p:nvSpPr>
            <p:cNvPr id="210" name="AutoShape 217"/>
            <p:cNvSpPr/>
            <p:nvPr/>
          </p:nvSpPr>
          <p:spPr>
            <a:xfrm rot="7028400">
              <a:off x="2564640" y="3295080"/>
              <a:ext cx="90360" cy="82440"/>
            </a:xfrm>
            <a:custGeom>
              <a:avLst/>
              <a:gdLst>
                <a:gd name="textAreaLeft" fmla="*/ 33840 w 90360"/>
                <a:gd name="textAreaRight" fmla="*/ 56520 w 9036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AutoShape 218"/>
            <p:cNvSpPr/>
            <p:nvPr/>
          </p:nvSpPr>
          <p:spPr>
            <a:xfrm rot="4509000">
              <a:off x="2570400" y="3291480"/>
              <a:ext cx="80640" cy="8820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5280 h 88200"/>
                <a:gd name="textAreaBottom" fmla="*/ 52920 h 8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694160" y="2660400"/>
            <a:ext cx="115200" cy="118440"/>
            <a:chOff x="1694160" y="2660400"/>
            <a:chExt cx="115200" cy="118440"/>
          </a:xfrm>
        </p:grpSpPr>
        <p:sp>
          <p:nvSpPr>
            <p:cNvPr id="213" name="AutoShape 220"/>
            <p:cNvSpPr/>
            <p:nvPr/>
          </p:nvSpPr>
          <p:spPr>
            <a:xfrm rot="7028400">
              <a:off x="1706400" y="2678040"/>
              <a:ext cx="90720" cy="82800"/>
            </a:xfrm>
            <a:custGeom>
              <a:avLst/>
              <a:gdLst>
                <a:gd name="textAreaLeft" fmla="*/ 34200 w 90720"/>
                <a:gd name="textAreaRight" fmla="*/ 56520 w 90720"/>
                <a:gd name="textAreaTop" fmla="*/ 30960 h 82800"/>
                <a:gd name="textAreaBottom" fmla="*/ 51840 h 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AutoShape 221"/>
            <p:cNvSpPr/>
            <p:nvPr/>
          </p:nvSpPr>
          <p:spPr>
            <a:xfrm rot="4509000">
              <a:off x="1711800" y="2673720"/>
              <a:ext cx="81000" cy="88560"/>
            </a:xfrm>
            <a:custGeom>
              <a:avLst/>
              <a:gdLst>
                <a:gd name="textAreaLeft" fmla="*/ 32400 w 81000"/>
                <a:gd name="textAreaRight" fmla="*/ 48600 w 81000"/>
                <a:gd name="textAreaTop" fmla="*/ 35280 h 88560"/>
                <a:gd name="textAreaBottom" fmla="*/ 5328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049560" y="2852280"/>
            <a:ext cx="171000" cy="174960"/>
            <a:chOff x="3049560" y="2852280"/>
            <a:chExt cx="171000" cy="174960"/>
          </a:xfrm>
        </p:grpSpPr>
        <p:sp>
          <p:nvSpPr>
            <p:cNvPr id="216" name="AutoShape 223"/>
            <p:cNvSpPr/>
            <p:nvPr/>
          </p:nvSpPr>
          <p:spPr>
            <a:xfrm rot="7028400">
              <a:off x="3068280" y="2877840"/>
              <a:ext cx="133200" cy="123840"/>
            </a:xfrm>
            <a:custGeom>
              <a:avLst/>
              <a:gdLst>
                <a:gd name="textAreaLeft" fmla="*/ 50040 w 133200"/>
                <a:gd name="textAreaRight" fmla="*/ 83160 w 13320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AutoShape 224"/>
            <p:cNvSpPr/>
            <p:nvPr/>
          </p:nvSpPr>
          <p:spPr>
            <a:xfrm rot="4509000">
              <a:off x="3075120" y="2872800"/>
              <a:ext cx="120960" cy="12996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1840 h 129960"/>
                <a:gd name="textAreaBottom" fmla="*/ 78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438280" y="4150800"/>
            <a:ext cx="171000" cy="175320"/>
            <a:chOff x="2438280" y="4150800"/>
            <a:chExt cx="171000" cy="175320"/>
          </a:xfrm>
        </p:grpSpPr>
        <p:sp>
          <p:nvSpPr>
            <p:cNvPr id="219" name="AutoShape 226"/>
            <p:cNvSpPr/>
            <p:nvPr/>
          </p:nvSpPr>
          <p:spPr>
            <a:xfrm rot="7028400">
              <a:off x="2456640" y="4176360"/>
              <a:ext cx="133560" cy="123840"/>
            </a:xfrm>
            <a:custGeom>
              <a:avLst/>
              <a:gdLst>
                <a:gd name="textAreaLeft" fmla="*/ 50040 w 133560"/>
                <a:gd name="textAreaRight" fmla="*/ 83520 w 13356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AutoShape 227"/>
            <p:cNvSpPr/>
            <p:nvPr/>
          </p:nvSpPr>
          <p:spPr>
            <a:xfrm rot="4509000">
              <a:off x="2463840" y="4171320"/>
              <a:ext cx="120960" cy="13032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1840 h 130320"/>
                <a:gd name="textAreaBottom" fmla="*/ 7848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648160" y="3725280"/>
            <a:ext cx="114480" cy="117720"/>
            <a:chOff x="2648160" y="3725280"/>
            <a:chExt cx="114480" cy="117720"/>
          </a:xfrm>
        </p:grpSpPr>
        <p:sp>
          <p:nvSpPr>
            <p:cNvPr id="222" name="AutoShape 229"/>
            <p:cNvSpPr/>
            <p:nvPr/>
          </p:nvSpPr>
          <p:spPr>
            <a:xfrm rot="7028400">
              <a:off x="2660040" y="3742560"/>
              <a:ext cx="90360" cy="82440"/>
            </a:xfrm>
            <a:custGeom>
              <a:avLst/>
              <a:gdLst>
                <a:gd name="textAreaLeft" fmla="*/ 33840 w 90360"/>
                <a:gd name="textAreaRight" fmla="*/ 56520 w 9036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AutoShape 230"/>
            <p:cNvSpPr/>
            <p:nvPr/>
          </p:nvSpPr>
          <p:spPr>
            <a:xfrm rot="4509000">
              <a:off x="2665800" y="3738960"/>
              <a:ext cx="80640" cy="8820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5280 h 88200"/>
                <a:gd name="textAreaBottom" fmla="*/ 52920 h 8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84080" y="1780560"/>
            <a:ext cx="171000" cy="175320"/>
            <a:chOff x="784080" y="1780560"/>
            <a:chExt cx="171000" cy="175320"/>
          </a:xfrm>
        </p:grpSpPr>
        <p:sp>
          <p:nvSpPr>
            <p:cNvPr id="225" name="AutoShape 232"/>
            <p:cNvSpPr/>
            <p:nvPr/>
          </p:nvSpPr>
          <p:spPr>
            <a:xfrm rot="7028400">
              <a:off x="802440" y="1806120"/>
              <a:ext cx="133560" cy="123840"/>
            </a:xfrm>
            <a:custGeom>
              <a:avLst/>
              <a:gdLst>
                <a:gd name="textAreaLeft" fmla="*/ 50040 w 133560"/>
                <a:gd name="textAreaRight" fmla="*/ 83520 w 13356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AutoShape 233"/>
            <p:cNvSpPr/>
            <p:nvPr/>
          </p:nvSpPr>
          <p:spPr>
            <a:xfrm rot="4509000">
              <a:off x="809640" y="1801080"/>
              <a:ext cx="120960" cy="13032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1840 h 130320"/>
                <a:gd name="textAreaBottom" fmla="*/ 7848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49360" y="1306080"/>
            <a:ext cx="114480" cy="117720"/>
            <a:chOff x="549360" y="1306080"/>
            <a:chExt cx="114480" cy="117720"/>
          </a:xfrm>
        </p:grpSpPr>
        <p:sp>
          <p:nvSpPr>
            <p:cNvPr id="228" name="AutoShape 235"/>
            <p:cNvSpPr/>
            <p:nvPr/>
          </p:nvSpPr>
          <p:spPr>
            <a:xfrm rot="7028400">
              <a:off x="561240" y="1323360"/>
              <a:ext cx="90360" cy="82440"/>
            </a:xfrm>
            <a:custGeom>
              <a:avLst/>
              <a:gdLst>
                <a:gd name="textAreaLeft" fmla="*/ 33840 w 90360"/>
                <a:gd name="textAreaRight" fmla="*/ 56520 w 9036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AutoShape 236"/>
            <p:cNvSpPr/>
            <p:nvPr/>
          </p:nvSpPr>
          <p:spPr>
            <a:xfrm rot="4509000">
              <a:off x="567000" y="1319760"/>
              <a:ext cx="80640" cy="8820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5280 h 88200"/>
                <a:gd name="textAreaBottom" fmla="*/ 52920 h 8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021320" y="2089440"/>
            <a:ext cx="340560" cy="349560"/>
            <a:chOff x="1021320" y="2089440"/>
            <a:chExt cx="340560" cy="349560"/>
          </a:xfrm>
        </p:grpSpPr>
        <p:sp>
          <p:nvSpPr>
            <p:cNvPr id="231" name="AutoShape 238"/>
            <p:cNvSpPr/>
            <p:nvPr/>
          </p:nvSpPr>
          <p:spPr>
            <a:xfrm rot="7028400">
              <a:off x="1058040" y="2141280"/>
              <a:ext cx="266760" cy="245880"/>
            </a:xfrm>
            <a:custGeom>
              <a:avLst/>
              <a:gdLst>
                <a:gd name="textAreaLeft" fmla="*/ 100440 w 266760"/>
                <a:gd name="textAreaRight" fmla="*/ 166320 w 266760"/>
                <a:gd name="textAreaTop" fmla="*/ 92520 h 245880"/>
                <a:gd name="textAreaBottom" fmla="*/ 15336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AutoShape 239"/>
            <p:cNvSpPr/>
            <p:nvPr/>
          </p:nvSpPr>
          <p:spPr>
            <a:xfrm rot="4509000">
              <a:off x="1073520" y="2130120"/>
              <a:ext cx="239760" cy="259920"/>
            </a:xfrm>
            <a:custGeom>
              <a:avLst/>
              <a:gdLst>
                <a:gd name="textAreaLeft" fmla="*/ 95760 w 239760"/>
                <a:gd name="textAreaRight" fmla="*/ 144000 w 239760"/>
                <a:gd name="textAreaTop" fmla="*/ 103680 h 259920"/>
                <a:gd name="textAreaBottom" fmla="*/ 15624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cc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229560" y="4306320"/>
            <a:ext cx="169920" cy="174600"/>
            <a:chOff x="3229560" y="4306320"/>
            <a:chExt cx="169920" cy="174600"/>
          </a:xfrm>
        </p:grpSpPr>
        <p:sp>
          <p:nvSpPr>
            <p:cNvPr id="234" name="AutoShape 241"/>
            <p:cNvSpPr/>
            <p:nvPr/>
          </p:nvSpPr>
          <p:spPr>
            <a:xfrm rot="7028400">
              <a:off x="3247560" y="4332240"/>
              <a:ext cx="133560" cy="122400"/>
            </a:xfrm>
            <a:custGeom>
              <a:avLst/>
              <a:gdLst>
                <a:gd name="textAreaLeft" fmla="*/ 50040 w 133560"/>
                <a:gd name="textAreaRight" fmla="*/ 83520 w 133560"/>
                <a:gd name="textAreaTop" fmla="*/ 46080 h 122400"/>
                <a:gd name="textAreaBottom" fmla="*/ 7632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AutoShape 242"/>
            <p:cNvSpPr/>
            <p:nvPr/>
          </p:nvSpPr>
          <p:spPr>
            <a:xfrm rot="4509000">
              <a:off x="3255120" y="4326120"/>
              <a:ext cx="119520" cy="130320"/>
            </a:xfrm>
            <a:custGeom>
              <a:avLst/>
              <a:gdLst>
                <a:gd name="textAreaLeft" fmla="*/ 47520 w 119520"/>
                <a:gd name="textAreaRight" fmla="*/ 72000 w 119520"/>
                <a:gd name="textAreaTop" fmla="*/ 51840 h 130320"/>
                <a:gd name="textAreaBottom" fmla="*/ 7848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927080" y="3873960"/>
            <a:ext cx="114120" cy="117000"/>
            <a:chOff x="1927080" y="3873960"/>
            <a:chExt cx="114120" cy="117000"/>
          </a:xfrm>
        </p:grpSpPr>
        <p:sp>
          <p:nvSpPr>
            <p:cNvPr id="237" name="AutoShape 244"/>
            <p:cNvSpPr/>
            <p:nvPr/>
          </p:nvSpPr>
          <p:spPr>
            <a:xfrm rot="7028400">
              <a:off x="1939320" y="3890880"/>
              <a:ext cx="88920" cy="82800"/>
            </a:xfrm>
            <a:custGeom>
              <a:avLst/>
              <a:gdLst>
                <a:gd name="textAreaLeft" fmla="*/ 33480 w 88920"/>
                <a:gd name="textAreaRight" fmla="*/ 55440 w 88920"/>
                <a:gd name="textAreaTop" fmla="*/ 30960 h 82800"/>
                <a:gd name="textAreaBottom" fmla="*/ 51840 h 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AutoShape 245"/>
            <p:cNvSpPr/>
            <p:nvPr/>
          </p:nvSpPr>
          <p:spPr>
            <a:xfrm rot="4509000">
              <a:off x="1944000" y="3887640"/>
              <a:ext cx="81000" cy="86760"/>
            </a:xfrm>
            <a:custGeom>
              <a:avLst/>
              <a:gdLst>
                <a:gd name="textAreaLeft" fmla="*/ 32400 w 81000"/>
                <a:gd name="textAreaRight" fmla="*/ 48600 w 81000"/>
                <a:gd name="textAreaTop" fmla="*/ 34560 h 86760"/>
                <a:gd name="textAreaBottom" fmla="*/ 52200 h 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771280" y="3977640"/>
            <a:ext cx="169560" cy="174240"/>
            <a:chOff x="2771280" y="3977640"/>
            <a:chExt cx="169560" cy="174240"/>
          </a:xfrm>
        </p:grpSpPr>
        <p:sp>
          <p:nvSpPr>
            <p:cNvPr id="240" name="AutoShape 247"/>
            <p:cNvSpPr/>
            <p:nvPr/>
          </p:nvSpPr>
          <p:spPr>
            <a:xfrm rot="7028400">
              <a:off x="2789280" y="4003560"/>
              <a:ext cx="133200" cy="122400"/>
            </a:xfrm>
            <a:custGeom>
              <a:avLst/>
              <a:gdLst>
                <a:gd name="textAreaLeft" fmla="*/ 50040 w 133200"/>
                <a:gd name="textAreaRight" fmla="*/ 83160 w 133200"/>
                <a:gd name="textAreaTop" fmla="*/ 46080 h 122400"/>
                <a:gd name="textAreaBottom" fmla="*/ 7632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AutoShape 248"/>
            <p:cNvSpPr/>
            <p:nvPr/>
          </p:nvSpPr>
          <p:spPr>
            <a:xfrm rot="4509000">
              <a:off x="2796840" y="3997440"/>
              <a:ext cx="119520" cy="129960"/>
            </a:xfrm>
            <a:custGeom>
              <a:avLst/>
              <a:gdLst>
                <a:gd name="textAreaLeft" fmla="*/ 47520 w 119520"/>
                <a:gd name="textAreaRight" fmla="*/ 72000 w 119520"/>
                <a:gd name="textAreaTop" fmla="*/ 51840 h 129960"/>
                <a:gd name="textAreaBottom" fmla="*/ 78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554920" y="3853080"/>
            <a:ext cx="171720" cy="176760"/>
            <a:chOff x="2554920" y="3853080"/>
            <a:chExt cx="171720" cy="176760"/>
          </a:xfrm>
        </p:grpSpPr>
        <p:sp>
          <p:nvSpPr>
            <p:cNvPr id="243" name="AutoShape 250"/>
            <p:cNvSpPr/>
            <p:nvPr/>
          </p:nvSpPr>
          <p:spPr>
            <a:xfrm rot="7028400">
              <a:off x="2572920" y="3879360"/>
              <a:ext cx="135000" cy="123840"/>
            </a:xfrm>
            <a:custGeom>
              <a:avLst/>
              <a:gdLst>
                <a:gd name="textAreaLeft" fmla="*/ 50760 w 135000"/>
                <a:gd name="textAreaRight" fmla="*/ 84240 w 13500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AutoShape 251"/>
            <p:cNvSpPr/>
            <p:nvPr/>
          </p:nvSpPr>
          <p:spPr>
            <a:xfrm rot="4509000">
              <a:off x="2580480" y="3873600"/>
              <a:ext cx="120960" cy="13176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2560 h 131760"/>
                <a:gd name="textAreaBottom" fmla="*/ 7920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229560" y="4306320"/>
            <a:ext cx="169920" cy="174600"/>
            <a:chOff x="3229560" y="4306320"/>
            <a:chExt cx="169920" cy="174600"/>
          </a:xfrm>
        </p:grpSpPr>
        <p:sp>
          <p:nvSpPr>
            <p:cNvPr id="246" name="AutoShape 253"/>
            <p:cNvSpPr/>
            <p:nvPr/>
          </p:nvSpPr>
          <p:spPr>
            <a:xfrm rot="7028400">
              <a:off x="3247560" y="4332240"/>
              <a:ext cx="133560" cy="122400"/>
            </a:xfrm>
            <a:custGeom>
              <a:avLst/>
              <a:gdLst>
                <a:gd name="textAreaLeft" fmla="*/ 50040 w 133560"/>
                <a:gd name="textAreaRight" fmla="*/ 83520 w 133560"/>
                <a:gd name="textAreaTop" fmla="*/ 46080 h 122400"/>
                <a:gd name="textAreaBottom" fmla="*/ 7632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AutoShape 254"/>
            <p:cNvSpPr/>
            <p:nvPr/>
          </p:nvSpPr>
          <p:spPr>
            <a:xfrm rot="4509000">
              <a:off x="3255120" y="4326120"/>
              <a:ext cx="119520" cy="130320"/>
            </a:xfrm>
            <a:custGeom>
              <a:avLst/>
              <a:gdLst>
                <a:gd name="textAreaLeft" fmla="*/ 47520 w 119520"/>
                <a:gd name="textAreaRight" fmla="*/ 72000 w 119520"/>
                <a:gd name="textAreaTop" fmla="*/ 51840 h 130320"/>
                <a:gd name="textAreaBottom" fmla="*/ 7848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414880" y="3711240"/>
            <a:ext cx="115200" cy="118440"/>
            <a:chOff x="2414880" y="3711240"/>
            <a:chExt cx="115200" cy="118440"/>
          </a:xfrm>
        </p:grpSpPr>
        <p:sp>
          <p:nvSpPr>
            <p:cNvPr id="249" name="AutoShape 256"/>
            <p:cNvSpPr/>
            <p:nvPr/>
          </p:nvSpPr>
          <p:spPr>
            <a:xfrm rot="7028400">
              <a:off x="2427120" y="3728880"/>
              <a:ext cx="90720" cy="82800"/>
            </a:xfrm>
            <a:custGeom>
              <a:avLst/>
              <a:gdLst>
                <a:gd name="textAreaLeft" fmla="*/ 34200 w 90720"/>
                <a:gd name="textAreaRight" fmla="*/ 56520 w 90720"/>
                <a:gd name="textAreaTop" fmla="*/ 30960 h 82800"/>
                <a:gd name="textAreaBottom" fmla="*/ 51840 h 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AutoShape 257"/>
            <p:cNvSpPr/>
            <p:nvPr/>
          </p:nvSpPr>
          <p:spPr>
            <a:xfrm rot="4509000">
              <a:off x="2432520" y="3724560"/>
              <a:ext cx="81000" cy="88560"/>
            </a:xfrm>
            <a:custGeom>
              <a:avLst/>
              <a:gdLst>
                <a:gd name="textAreaLeft" fmla="*/ 32400 w 81000"/>
                <a:gd name="textAreaRight" fmla="*/ 48600 w 81000"/>
                <a:gd name="textAreaTop" fmla="*/ 35280 h 88560"/>
                <a:gd name="textAreaBottom" fmla="*/ 5328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771280" y="3977640"/>
            <a:ext cx="169560" cy="174240"/>
            <a:chOff x="2771280" y="3977640"/>
            <a:chExt cx="169560" cy="174240"/>
          </a:xfrm>
        </p:grpSpPr>
        <p:sp>
          <p:nvSpPr>
            <p:cNvPr id="252" name="AutoShape 259"/>
            <p:cNvSpPr/>
            <p:nvPr/>
          </p:nvSpPr>
          <p:spPr>
            <a:xfrm rot="7028400">
              <a:off x="2789280" y="4003560"/>
              <a:ext cx="133200" cy="122400"/>
            </a:xfrm>
            <a:custGeom>
              <a:avLst/>
              <a:gdLst>
                <a:gd name="textAreaLeft" fmla="*/ 50040 w 133200"/>
                <a:gd name="textAreaRight" fmla="*/ 83160 w 133200"/>
                <a:gd name="textAreaTop" fmla="*/ 46080 h 122400"/>
                <a:gd name="textAreaBottom" fmla="*/ 7632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AutoShape 260"/>
            <p:cNvSpPr/>
            <p:nvPr/>
          </p:nvSpPr>
          <p:spPr>
            <a:xfrm rot="4509000">
              <a:off x="2796840" y="3997440"/>
              <a:ext cx="119520" cy="129960"/>
            </a:xfrm>
            <a:custGeom>
              <a:avLst/>
              <a:gdLst>
                <a:gd name="textAreaLeft" fmla="*/ 47520 w 119520"/>
                <a:gd name="textAreaRight" fmla="*/ 72000 w 119520"/>
                <a:gd name="textAreaTop" fmla="*/ 51840 h 129960"/>
                <a:gd name="textAreaBottom" fmla="*/ 78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232720" y="2938680"/>
            <a:ext cx="340560" cy="349560"/>
            <a:chOff x="2232720" y="2938680"/>
            <a:chExt cx="340560" cy="349560"/>
          </a:xfrm>
        </p:grpSpPr>
        <p:sp>
          <p:nvSpPr>
            <p:cNvPr id="255" name="AutoShape 262"/>
            <p:cNvSpPr/>
            <p:nvPr/>
          </p:nvSpPr>
          <p:spPr>
            <a:xfrm rot="7028400">
              <a:off x="2269440" y="2990520"/>
              <a:ext cx="266760" cy="245880"/>
            </a:xfrm>
            <a:custGeom>
              <a:avLst/>
              <a:gdLst>
                <a:gd name="textAreaLeft" fmla="*/ 100440 w 266760"/>
                <a:gd name="textAreaRight" fmla="*/ 166320 w 266760"/>
                <a:gd name="textAreaTop" fmla="*/ 92520 h 245880"/>
                <a:gd name="textAreaBottom" fmla="*/ 15336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AutoShape 263"/>
            <p:cNvSpPr/>
            <p:nvPr/>
          </p:nvSpPr>
          <p:spPr>
            <a:xfrm rot="4509000">
              <a:off x="2284920" y="2979360"/>
              <a:ext cx="239760" cy="259920"/>
            </a:xfrm>
            <a:custGeom>
              <a:avLst/>
              <a:gdLst>
                <a:gd name="textAreaLeft" fmla="*/ 95760 w 239760"/>
                <a:gd name="textAreaRight" fmla="*/ 144000 w 239760"/>
                <a:gd name="textAreaTop" fmla="*/ 103680 h 259920"/>
                <a:gd name="textAreaBottom" fmla="*/ 15624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cc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555200" y="1564560"/>
            <a:ext cx="169200" cy="174240"/>
            <a:chOff x="1555200" y="1564560"/>
            <a:chExt cx="169200" cy="174240"/>
          </a:xfrm>
        </p:grpSpPr>
        <p:sp>
          <p:nvSpPr>
            <p:cNvPr id="258" name="AutoShape 265"/>
            <p:cNvSpPr/>
            <p:nvPr/>
          </p:nvSpPr>
          <p:spPr>
            <a:xfrm rot="7028400">
              <a:off x="1572840" y="1590480"/>
              <a:ext cx="133200" cy="122040"/>
            </a:xfrm>
            <a:custGeom>
              <a:avLst/>
              <a:gdLst>
                <a:gd name="textAreaLeft" fmla="*/ 50040 w 133200"/>
                <a:gd name="textAreaRight" fmla="*/ 83160 w 133200"/>
                <a:gd name="textAreaTop" fmla="*/ 45720 h 122040"/>
                <a:gd name="textAreaBottom" fmla="*/ 7632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AutoShape 266"/>
            <p:cNvSpPr/>
            <p:nvPr/>
          </p:nvSpPr>
          <p:spPr>
            <a:xfrm rot="4509000">
              <a:off x="1580760" y="1584360"/>
              <a:ext cx="119160" cy="129960"/>
            </a:xfrm>
            <a:custGeom>
              <a:avLst/>
              <a:gdLst>
                <a:gd name="textAreaLeft" fmla="*/ 47520 w 119160"/>
                <a:gd name="textAreaRight" fmla="*/ 71640 w 119160"/>
                <a:gd name="textAreaTop" fmla="*/ 51840 h 129960"/>
                <a:gd name="textAreaBottom" fmla="*/ 78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357920" y="2067120"/>
            <a:ext cx="171720" cy="176760"/>
            <a:chOff x="1357920" y="2067120"/>
            <a:chExt cx="171720" cy="176760"/>
          </a:xfrm>
        </p:grpSpPr>
        <p:sp>
          <p:nvSpPr>
            <p:cNvPr id="261" name="AutoShape 268"/>
            <p:cNvSpPr/>
            <p:nvPr/>
          </p:nvSpPr>
          <p:spPr>
            <a:xfrm rot="7028400">
              <a:off x="1375920" y="2093400"/>
              <a:ext cx="135000" cy="123840"/>
            </a:xfrm>
            <a:custGeom>
              <a:avLst/>
              <a:gdLst>
                <a:gd name="textAreaLeft" fmla="*/ 50760 w 135000"/>
                <a:gd name="textAreaRight" fmla="*/ 84240 w 13500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AutoShape 269"/>
            <p:cNvSpPr/>
            <p:nvPr/>
          </p:nvSpPr>
          <p:spPr>
            <a:xfrm rot="4509000">
              <a:off x="1383480" y="2087640"/>
              <a:ext cx="120960" cy="13176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2560 h 131760"/>
                <a:gd name="textAreaBottom" fmla="*/ 7920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994920" y="1105920"/>
            <a:ext cx="170280" cy="174600"/>
            <a:chOff x="3994920" y="1105920"/>
            <a:chExt cx="170280" cy="174600"/>
          </a:xfrm>
        </p:grpSpPr>
        <p:sp>
          <p:nvSpPr>
            <p:cNvPr id="264" name="AutoShape 273"/>
            <p:cNvSpPr/>
            <p:nvPr/>
          </p:nvSpPr>
          <p:spPr>
            <a:xfrm rot="1646400">
              <a:off x="4018680" y="1126440"/>
              <a:ext cx="122400" cy="133200"/>
            </a:xfrm>
            <a:custGeom>
              <a:avLst/>
              <a:gdLst>
                <a:gd name="textAreaLeft" fmla="*/ 46080 w 122400"/>
                <a:gd name="textAreaRight" fmla="*/ 76320 w 122400"/>
                <a:gd name="textAreaTop" fmla="*/ 50040 h 133200"/>
                <a:gd name="textAreaBottom" fmla="*/ 8316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AutoShape 274"/>
            <p:cNvSpPr/>
            <p:nvPr/>
          </p:nvSpPr>
          <p:spPr>
            <a:xfrm rot="20727000">
              <a:off x="4012560" y="1132920"/>
              <a:ext cx="129960" cy="119520"/>
            </a:xfrm>
            <a:custGeom>
              <a:avLst/>
              <a:gdLst>
                <a:gd name="textAreaLeft" fmla="*/ 51840 w 129960"/>
                <a:gd name="textAreaRight" fmla="*/ 78120 w 129960"/>
                <a:gd name="textAreaTop" fmla="*/ 47520 h 119520"/>
                <a:gd name="textAreaBottom" fmla="*/ 72000 h 1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926440" y="3049200"/>
            <a:ext cx="114840" cy="118440"/>
            <a:chOff x="2926440" y="3049200"/>
            <a:chExt cx="114840" cy="118440"/>
          </a:xfrm>
        </p:grpSpPr>
        <p:sp>
          <p:nvSpPr>
            <p:cNvPr id="267" name="AutoShape 282"/>
            <p:cNvSpPr/>
            <p:nvPr/>
          </p:nvSpPr>
          <p:spPr>
            <a:xfrm rot="1646400">
              <a:off x="2942640" y="3062880"/>
              <a:ext cx="82440" cy="90720"/>
            </a:xfrm>
            <a:custGeom>
              <a:avLst/>
              <a:gdLst>
                <a:gd name="textAreaLeft" fmla="*/ 30960 w 82440"/>
                <a:gd name="textAreaRight" fmla="*/ 51480 w 82440"/>
                <a:gd name="textAreaTop" fmla="*/ 34200 h 90720"/>
                <a:gd name="textAreaBottom" fmla="*/ 56520 h 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AutoShape 283"/>
            <p:cNvSpPr/>
            <p:nvPr/>
          </p:nvSpPr>
          <p:spPr>
            <a:xfrm rot="20727000">
              <a:off x="2937960" y="3067560"/>
              <a:ext cx="88560" cy="80640"/>
            </a:xfrm>
            <a:custGeom>
              <a:avLst/>
              <a:gdLst>
                <a:gd name="textAreaLeft" fmla="*/ 35280 w 88560"/>
                <a:gd name="textAreaRight" fmla="*/ 53280 w 88560"/>
                <a:gd name="textAreaTop" fmla="*/ 32040 h 80640"/>
                <a:gd name="textAreaBottom" fmla="*/ 48600 h 8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530000" y="1174680"/>
            <a:ext cx="171360" cy="175320"/>
            <a:chOff x="1530000" y="1174680"/>
            <a:chExt cx="171360" cy="175320"/>
          </a:xfrm>
        </p:grpSpPr>
        <p:sp>
          <p:nvSpPr>
            <p:cNvPr id="270" name="AutoShape 288"/>
            <p:cNvSpPr/>
            <p:nvPr/>
          </p:nvSpPr>
          <p:spPr>
            <a:xfrm rot="1646400">
              <a:off x="1553760" y="1195560"/>
              <a:ext cx="123840" cy="133200"/>
            </a:xfrm>
            <a:custGeom>
              <a:avLst/>
              <a:gdLst>
                <a:gd name="textAreaLeft" fmla="*/ 46440 w 123840"/>
                <a:gd name="textAreaRight" fmla="*/ 77400 w 123840"/>
                <a:gd name="textAreaTop" fmla="*/ 50040 h 133200"/>
                <a:gd name="textAreaBottom" fmla="*/ 8316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AutoShape 289"/>
            <p:cNvSpPr/>
            <p:nvPr/>
          </p:nvSpPr>
          <p:spPr>
            <a:xfrm rot="20727000">
              <a:off x="1549080" y="1200960"/>
              <a:ext cx="129960" cy="120960"/>
            </a:xfrm>
            <a:custGeom>
              <a:avLst/>
              <a:gdLst>
                <a:gd name="textAreaLeft" fmla="*/ 51840 w 129960"/>
                <a:gd name="textAreaRight" fmla="*/ 78120 w 129960"/>
                <a:gd name="textAreaTop" fmla="*/ 48240 h 120960"/>
                <a:gd name="textAreaBottom" fmla="*/ 72720 h 1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04680" y="1362240"/>
            <a:ext cx="114120" cy="117000"/>
            <a:chOff x="2704680" y="1362240"/>
            <a:chExt cx="114120" cy="117000"/>
          </a:xfrm>
        </p:grpSpPr>
        <p:sp>
          <p:nvSpPr>
            <p:cNvPr id="273" name="AutoShape 291"/>
            <p:cNvSpPr/>
            <p:nvPr/>
          </p:nvSpPr>
          <p:spPr>
            <a:xfrm rot="1646400">
              <a:off x="2720520" y="1375920"/>
              <a:ext cx="82440" cy="88920"/>
            </a:xfrm>
            <a:custGeom>
              <a:avLst/>
              <a:gdLst>
                <a:gd name="textAreaLeft" fmla="*/ 30960 w 82440"/>
                <a:gd name="textAreaRight" fmla="*/ 51480 w 82440"/>
                <a:gd name="textAreaTop" fmla="*/ 33480 h 88920"/>
                <a:gd name="textAreaBottom" fmla="*/ 5544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AutoShape 292"/>
            <p:cNvSpPr/>
            <p:nvPr/>
          </p:nvSpPr>
          <p:spPr>
            <a:xfrm rot="20727000">
              <a:off x="2717280" y="1380240"/>
              <a:ext cx="86760" cy="80640"/>
            </a:xfrm>
            <a:custGeom>
              <a:avLst/>
              <a:gdLst>
                <a:gd name="textAreaLeft" fmla="*/ 34560 w 86760"/>
                <a:gd name="textAreaRight" fmla="*/ 52200 w 86760"/>
                <a:gd name="textAreaTop" fmla="*/ 32040 h 80640"/>
                <a:gd name="textAreaBottom" fmla="*/ 48600 h 8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208880" y="1003680"/>
            <a:ext cx="114480" cy="117000"/>
            <a:chOff x="1208880" y="1003680"/>
            <a:chExt cx="114480" cy="117000"/>
          </a:xfrm>
        </p:grpSpPr>
        <p:sp>
          <p:nvSpPr>
            <p:cNvPr id="276" name="AutoShape 294"/>
            <p:cNvSpPr/>
            <p:nvPr/>
          </p:nvSpPr>
          <p:spPr>
            <a:xfrm rot="1646400">
              <a:off x="1224720" y="1017720"/>
              <a:ext cx="82800" cy="88920"/>
            </a:xfrm>
            <a:custGeom>
              <a:avLst/>
              <a:gdLst>
                <a:gd name="textAreaLeft" fmla="*/ 30960 w 82800"/>
                <a:gd name="textAreaRight" fmla="*/ 51840 w 82800"/>
                <a:gd name="textAreaTop" fmla="*/ 33480 h 88920"/>
                <a:gd name="textAreaBottom" fmla="*/ 5544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AutoShape 295"/>
            <p:cNvSpPr/>
            <p:nvPr/>
          </p:nvSpPr>
          <p:spPr>
            <a:xfrm rot="20727000">
              <a:off x="1221840" y="1021320"/>
              <a:ext cx="86760" cy="81000"/>
            </a:xfrm>
            <a:custGeom>
              <a:avLst/>
              <a:gdLst>
                <a:gd name="textAreaLeft" fmla="*/ 34560 w 86760"/>
                <a:gd name="textAreaRight" fmla="*/ 52200 w 86760"/>
                <a:gd name="textAreaTop" fmla="*/ 32400 h 81000"/>
                <a:gd name="textAreaBottom" fmla="*/ 48600 h 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346920" y="3307320"/>
            <a:ext cx="171720" cy="176400"/>
            <a:chOff x="3346920" y="3307320"/>
            <a:chExt cx="171720" cy="176400"/>
          </a:xfrm>
        </p:grpSpPr>
        <p:sp>
          <p:nvSpPr>
            <p:cNvPr id="279" name="AutoShape 297"/>
            <p:cNvSpPr/>
            <p:nvPr/>
          </p:nvSpPr>
          <p:spPr>
            <a:xfrm rot="1646400">
              <a:off x="3370680" y="3328200"/>
              <a:ext cx="123840" cy="134640"/>
            </a:xfrm>
            <a:custGeom>
              <a:avLst/>
              <a:gdLst>
                <a:gd name="textAreaLeft" fmla="*/ 46440 w 123840"/>
                <a:gd name="textAreaRight" fmla="*/ 77400 w 123840"/>
                <a:gd name="textAreaTop" fmla="*/ 50760 h 134640"/>
                <a:gd name="textAreaBottom" fmla="*/ 83880 h 13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AutoShape 298"/>
            <p:cNvSpPr/>
            <p:nvPr/>
          </p:nvSpPr>
          <p:spPr>
            <a:xfrm rot="20727000">
              <a:off x="3365280" y="3334320"/>
              <a:ext cx="131400" cy="120960"/>
            </a:xfrm>
            <a:custGeom>
              <a:avLst/>
              <a:gdLst>
                <a:gd name="textAreaLeft" fmla="*/ 52200 w 131400"/>
                <a:gd name="textAreaRight" fmla="*/ 79200 w 131400"/>
                <a:gd name="textAreaTop" fmla="*/ 48240 h 120960"/>
                <a:gd name="textAreaBottom" fmla="*/ 72720 h 1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61920" y="750600"/>
            <a:ext cx="171360" cy="175320"/>
            <a:chOff x="2761920" y="750600"/>
            <a:chExt cx="171360" cy="175320"/>
          </a:xfrm>
        </p:grpSpPr>
        <p:sp>
          <p:nvSpPr>
            <p:cNvPr id="282" name="AutoShape 300"/>
            <p:cNvSpPr/>
            <p:nvPr/>
          </p:nvSpPr>
          <p:spPr>
            <a:xfrm rot="1646400">
              <a:off x="2785680" y="771480"/>
              <a:ext cx="123840" cy="133200"/>
            </a:xfrm>
            <a:custGeom>
              <a:avLst/>
              <a:gdLst>
                <a:gd name="textAreaLeft" fmla="*/ 46440 w 123840"/>
                <a:gd name="textAreaRight" fmla="*/ 77400 w 123840"/>
                <a:gd name="textAreaTop" fmla="*/ 50040 h 133200"/>
                <a:gd name="textAreaBottom" fmla="*/ 8316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AutoShape 301"/>
            <p:cNvSpPr/>
            <p:nvPr/>
          </p:nvSpPr>
          <p:spPr>
            <a:xfrm rot="20727000">
              <a:off x="2781000" y="776880"/>
              <a:ext cx="129960" cy="120960"/>
            </a:xfrm>
            <a:custGeom>
              <a:avLst/>
              <a:gdLst>
                <a:gd name="textAreaLeft" fmla="*/ 51840 w 129960"/>
                <a:gd name="textAreaRight" fmla="*/ 78120 w 129960"/>
                <a:gd name="textAreaTop" fmla="*/ 48240 h 120960"/>
                <a:gd name="textAreaBottom" fmla="*/ 72720 h 1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587320" y="1035360"/>
            <a:ext cx="114120" cy="117000"/>
            <a:chOff x="2587320" y="1035360"/>
            <a:chExt cx="114120" cy="117000"/>
          </a:xfrm>
        </p:grpSpPr>
        <p:sp>
          <p:nvSpPr>
            <p:cNvPr id="285" name="AutoShape 303"/>
            <p:cNvSpPr/>
            <p:nvPr/>
          </p:nvSpPr>
          <p:spPr>
            <a:xfrm rot="1646400">
              <a:off x="2603160" y="1049040"/>
              <a:ext cx="82440" cy="88920"/>
            </a:xfrm>
            <a:custGeom>
              <a:avLst/>
              <a:gdLst>
                <a:gd name="textAreaLeft" fmla="*/ 30960 w 82440"/>
                <a:gd name="textAreaRight" fmla="*/ 51480 w 82440"/>
                <a:gd name="textAreaTop" fmla="*/ 33480 h 88920"/>
                <a:gd name="textAreaBottom" fmla="*/ 5544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AutoShape 304"/>
            <p:cNvSpPr/>
            <p:nvPr/>
          </p:nvSpPr>
          <p:spPr>
            <a:xfrm rot="20727000">
              <a:off x="2599920" y="1053360"/>
              <a:ext cx="86760" cy="80640"/>
            </a:xfrm>
            <a:custGeom>
              <a:avLst/>
              <a:gdLst>
                <a:gd name="textAreaLeft" fmla="*/ 34560 w 86760"/>
                <a:gd name="textAreaRight" fmla="*/ 52200 w 86760"/>
                <a:gd name="textAreaTop" fmla="*/ 32040 h 80640"/>
                <a:gd name="textAreaBottom" fmla="*/ 48600 h 8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913760" y="1824480"/>
            <a:ext cx="114480" cy="117000"/>
            <a:chOff x="1913760" y="1824480"/>
            <a:chExt cx="114480" cy="117000"/>
          </a:xfrm>
        </p:grpSpPr>
        <p:sp>
          <p:nvSpPr>
            <p:cNvPr id="288" name="AutoShape 306"/>
            <p:cNvSpPr/>
            <p:nvPr/>
          </p:nvSpPr>
          <p:spPr>
            <a:xfrm rot="1646400">
              <a:off x="1929600" y="1838520"/>
              <a:ext cx="82800" cy="88920"/>
            </a:xfrm>
            <a:custGeom>
              <a:avLst/>
              <a:gdLst>
                <a:gd name="textAreaLeft" fmla="*/ 30960 w 82800"/>
                <a:gd name="textAreaRight" fmla="*/ 51840 w 82800"/>
                <a:gd name="textAreaTop" fmla="*/ 33480 h 88920"/>
                <a:gd name="textAreaBottom" fmla="*/ 5544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AutoShape 307"/>
            <p:cNvSpPr/>
            <p:nvPr/>
          </p:nvSpPr>
          <p:spPr>
            <a:xfrm rot="20727000">
              <a:off x="1926720" y="1842120"/>
              <a:ext cx="86760" cy="81000"/>
            </a:xfrm>
            <a:custGeom>
              <a:avLst/>
              <a:gdLst>
                <a:gd name="textAreaLeft" fmla="*/ 34560 w 86760"/>
                <a:gd name="textAreaRight" fmla="*/ 52200 w 86760"/>
                <a:gd name="textAreaTop" fmla="*/ 32400 h 81000"/>
                <a:gd name="textAreaBottom" fmla="*/ 48600 h 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130480" y="519840"/>
            <a:ext cx="172080" cy="176760"/>
            <a:chOff x="2130480" y="519840"/>
            <a:chExt cx="172080" cy="176760"/>
          </a:xfrm>
        </p:grpSpPr>
        <p:sp>
          <p:nvSpPr>
            <p:cNvPr id="291" name="AutoShape 309"/>
            <p:cNvSpPr/>
            <p:nvPr/>
          </p:nvSpPr>
          <p:spPr>
            <a:xfrm rot="1646400">
              <a:off x="2154600" y="540720"/>
              <a:ext cx="123840" cy="135000"/>
            </a:xfrm>
            <a:custGeom>
              <a:avLst/>
              <a:gdLst>
                <a:gd name="textAreaLeft" fmla="*/ 46440 w 123840"/>
                <a:gd name="textAreaRight" fmla="*/ 77400 w 123840"/>
                <a:gd name="textAreaTop" fmla="*/ 50760 h 135000"/>
                <a:gd name="textAreaBottom" fmla="*/ 84240 h 13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AutoShape 310"/>
            <p:cNvSpPr/>
            <p:nvPr/>
          </p:nvSpPr>
          <p:spPr>
            <a:xfrm rot="20727000">
              <a:off x="2148840" y="546480"/>
              <a:ext cx="131760" cy="120960"/>
            </a:xfrm>
            <a:custGeom>
              <a:avLst/>
              <a:gdLst>
                <a:gd name="textAreaLeft" fmla="*/ 52560 w 131760"/>
                <a:gd name="textAreaRight" fmla="*/ 79200 w 131760"/>
                <a:gd name="textAreaTop" fmla="*/ 48240 h 120960"/>
                <a:gd name="textAreaBottom" fmla="*/ 72720 h 1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466800" y="1020600"/>
            <a:ext cx="171360" cy="175320"/>
            <a:chOff x="3466800" y="1020600"/>
            <a:chExt cx="171360" cy="175320"/>
          </a:xfrm>
        </p:grpSpPr>
        <p:sp>
          <p:nvSpPr>
            <p:cNvPr id="294" name="AutoShape 312"/>
            <p:cNvSpPr/>
            <p:nvPr/>
          </p:nvSpPr>
          <p:spPr>
            <a:xfrm rot="1646400">
              <a:off x="3490560" y="1041480"/>
              <a:ext cx="123840" cy="133200"/>
            </a:xfrm>
            <a:custGeom>
              <a:avLst/>
              <a:gdLst>
                <a:gd name="textAreaLeft" fmla="*/ 46440 w 123840"/>
                <a:gd name="textAreaRight" fmla="*/ 77400 w 123840"/>
                <a:gd name="textAreaTop" fmla="*/ 50040 h 133200"/>
                <a:gd name="textAreaBottom" fmla="*/ 8316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AutoShape 313"/>
            <p:cNvSpPr/>
            <p:nvPr/>
          </p:nvSpPr>
          <p:spPr>
            <a:xfrm rot="20727000">
              <a:off x="3485880" y="1046880"/>
              <a:ext cx="129960" cy="120960"/>
            </a:xfrm>
            <a:custGeom>
              <a:avLst/>
              <a:gdLst>
                <a:gd name="textAreaLeft" fmla="*/ 51840 w 129960"/>
                <a:gd name="textAreaRight" fmla="*/ 78120 w 129960"/>
                <a:gd name="textAreaTop" fmla="*/ 48240 h 120960"/>
                <a:gd name="textAreaBottom" fmla="*/ 72720 h 1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072240" y="948960"/>
            <a:ext cx="114840" cy="118080"/>
            <a:chOff x="3072240" y="948960"/>
            <a:chExt cx="114840" cy="118080"/>
          </a:xfrm>
        </p:grpSpPr>
        <p:sp>
          <p:nvSpPr>
            <p:cNvPr id="297" name="AutoShape 315"/>
            <p:cNvSpPr/>
            <p:nvPr/>
          </p:nvSpPr>
          <p:spPr>
            <a:xfrm rot="1646400">
              <a:off x="3088440" y="962640"/>
              <a:ext cx="82440" cy="90360"/>
            </a:xfrm>
            <a:custGeom>
              <a:avLst/>
              <a:gdLst>
                <a:gd name="textAreaLeft" fmla="*/ 30960 w 82440"/>
                <a:gd name="textAreaRight" fmla="*/ 51480 w 82440"/>
                <a:gd name="textAreaTop" fmla="*/ 33840 h 90360"/>
                <a:gd name="textAreaBottom" fmla="*/ 56520 h 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AutoShape 316"/>
            <p:cNvSpPr/>
            <p:nvPr/>
          </p:nvSpPr>
          <p:spPr>
            <a:xfrm rot="20727000">
              <a:off x="3084120" y="967320"/>
              <a:ext cx="88200" cy="80640"/>
            </a:xfrm>
            <a:custGeom>
              <a:avLst/>
              <a:gdLst>
                <a:gd name="textAreaLeft" fmla="*/ 35280 w 88200"/>
                <a:gd name="textAreaRight" fmla="*/ 52920 w 88200"/>
                <a:gd name="textAreaTop" fmla="*/ 32040 h 80640"/>
                <a:gd name="textAreaBottom" fmla="*/ 48600 h 8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957240" y="2604240"/>
            <a:ext cx="172080" cy="176760"/>
            <a:chOff x="957240" y="2604240"/>
            <a:chExt cx="172080" cy="176760"/>
          </a:xfrm>
        </p:grpSpPr>
        <p:sp>
          <p:nvSpPr>
            <p:cNvPr id="300" name="AutoShape 318"/>
            <p:cNvSpPr/>
            <p:nvPr/>
          </p:nvSpPr>
          <p:spPr>
            <a:xfrm rot="1646400">
              <a:off x="981360" y="2625120"/>
              <a:ext cx="123840" cy="135000"/>
            </a:xfrm>
            <a:custGeom>
              <a:avLst/>
              <a:gdLst>
                <a:gd name="textAreaLeft" fmla="*/ 46440 w 123840"/>
                <a:gd name="textAreaRight" fmla="*/ 77400 w 123840"/>
                <a:gd name="textAreaTop" fmla="*/ 50760 h 135000"/>
                <a:gd name="textAreaBottom" fmla="*/ 84240 h 13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AutoShape 319"/>
            <p:cNvSpPr/>
            <p:nvPr/>
          </p:nvSpPr>
          <p:spPr>
            <a:xfrm rot="20727000">
              <a:off x="975600" y="2630880"/>
              <a:ext cx="131760" cy="120960"/>
            </a:xfrm>
            <a:custGeom>
              <a:avLst/>
              <a:gdLst>
                <a:gd name="textAreaLeft" fmla="*/ 52560 w 131760"/>
                <a:gd name="textAreaRight" fmla="*/ 79200 w 131760"/>
                <a:gd name="textAreaTop" fmla="*/ 48240 h 120960"/>
                <a:gd name="textAreaBottom" fmla="*/ 72720 h 1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37760" y="2873520"/>
            <a:ext cx="114120" cy="117000"/>
            <a:chOff x="437760" y="2873520"/>
            <a:chExt cx="114120" cy="117000"/>
          </a:xfrm>
        </p:grpSpPr>
        <p:sp>
          <p:nvSpPr>
            <p:cNvPr id="303" name="AutoShape 321"/>
            <p:cNvSpPr/>
            <p:nvPr/>
          </p:nvSpPr>
          <p:spPr>
            <a:xfrm rot="1646400">
              <a:off x="453600" y="2887200"/>
              <a:ext cx="82440" cy="88920"/>
            </a:xfrm>
            <a:custGeom>
              <a:avLst/>
              <a:gdLst>
                <a:gd name="textAreaLeft" fmla="*/ 30960 w 82440"/>
                <a:gd name="textAreaRight" fmla="*/ 51480 w 82440"/>
                <a:gd name="textAreaTop" fmla="*/ 33480 h 88920"/>
                <a:gd name="textAreaBottom" fmla="*/ 5544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AutoShape 322"/>
            <p:cNvSpPr/>
            <p:nvPr/>
          </p:nvSpPr>
          <p:spPr>
            <a:xfrm rot="20727000">
              <a:off x="450360" y="2891520"/>
              <a:ext cx="86760" cy="80640"/>
            </a:xfrm>
            <a:custGeom>
              <a:avLst/>
              <a:gdLst>
                <a:gd name="textAreaLeft" fmla="*/ 34560 w 86760"/>
                <a:gd name="textAreaRight" fmla="*/ 52200 w 86760"/>
                <a:gd name="textAreaTop" fmla="*/ 32040 h 80640"/>
                <a:gd name="textAreaBottom" fmla="*/ 48600 h 8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302840" y="2220480"/>
            <a:ext cx="341640" cy="351360"/>
            <a:chOff x="1302840" y="2220480"/>
            <a:chExt cx="341640" cy="351360"/>
          </a:xfrm>
        </p:grpSpPr>
        <p:sp>
          <p:nvSpPr>
            <p:cNvPr id="306" name="AutoShape 324"/>
            <p:cNvSpPr/>
            <p:nvPr/>
          </p:nvSpPr>
          <p:spPr>
            <a:xfrm rot="1646400">
              <a:off x="1350360" y="2261880"/>
              <a:ext cx="245880" cy="268200"/>
            </a:xfrm>
            <a:custGeom>
              <a:avLst/>
              <a:gdLst>
                <a:gd name="textAreaLeft" fmla="*/ 92520 w 245880"/>
                <a:gd name="textAreaRight" fmla="*/ 153360 w 245880"/>
                <a:gd name="textAreaTop" fmla="*/ 100800 h 268200"/>
                <a:gd name="textAreaBottom" fmla="*/ 167400 h 26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AutoShape 325"/>
            <p:cNvSpPr/>
            <p:nvPr/>
          </p:nvSpPr>
          <p:spPr>
            <a:xfrm rot="20727000">
              <a:off x="1338840" y="2275200"/>
              <a:ext cx="261360" cy="239760"/>
            </a:xfrm>
            <a:custGeom>
              <a:avLst/>
              <a:gdLst>
                <a:gd name="textAreaLeft" fmla="*/ 104040 w 261360"/>
                <a:gd name="textAreaRight" fmla="*/ 157320 w 261360"/>
                <a:gd name="textAreaTop" fmla="*/ 95760 h 239760"/>
                <a:gd name="textAreaBottom" fmla="*/ 14400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cc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707640" y="362880"/>
            <a:ext cx="170280" cy="174600"/>
            <a:chOff x="3707640" y="362880"/>
            <a:chExt cx="170280" cy="174600"/>
          </a:xfrm>
        </p:grpSpPr>
        <p:sp>
          <p:nvSpPr>
            <p:cNvPr id="309" name="AutoShape 327"/>
            <p:cNvSpPr/>
            <p:nvPr/>
          </p:nvSpPr>
          <p:spPr>
            <a:xfrm rot="1646400">
              <a:off x="3731400" y="383400"/>
              <a:ext cx="122400" cy="133200"/>
            </a:xfrm>
            <a:custGeom>
              <a:avLst/>
              <a:gdLst>
                <a:gd name="textAreaLeft" fmla="*/ 46080 w 122400"/>
                <a:gd name="textAreaRight" fmla="*/ 76320 w 122400"/>
                <a:gd name="textAreaTop" fmla="*/ 50040 h 133200"/>
                <a:gd name="textAreaBottom" fmla="*/ 8316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AutoShape 328"/>
            <p:cNvSpPr/>
            <p:nvPr/>
          </p:nvSpPr>
          <p:spPr>
            <a:xfrm rot="20727000">
              <a:off x="3725280" y="389880"/>
              <a:ext cx="129960" cy="119520"/>
            </a:xfrm>
            <a:custGeom>
              <a:avLst/>
              <a:gdLst>
                <a:gd name="textAreaLeft" fmla="*/ 51840 w 129960"/>
                <a:gd name="textAreaRight" fmla="*/ 78120 w 129960"/>
                <a:gd name="textAreaTop" fmla="*/ 47520 h 119520"/>
                <a:gd name="textAreaBottom" fmla="*/ 72000 h 1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228840" y="1616400"/>
            <a:ext cx="114120" cy="117000"/>
            <a:chOff x="3228840" y="1616400"/>
            <a:chExt cx="114120" cy="117000"/>
          </a:xfrm>
        </p:grpSpPr>
        <p:sp>
          <p:nvSpPr>
            <p:cNvPr id="312" name="AutoShape 330"/>
            <p:cNvSpPr/>
            <p:nvPr/>
          </p:nvSpPr>
          <p:spPr>
            <a:xfrm rot="1646400">
              <a:off x="3244680" y="1630080"/>
              <a:ext cx="82440" cy="88920"/>
            </a:xfrm>
            <a:custGeom>
              <a:avLst/>
              <a:gdLst>
                <a:gd name="textAreaLeft" fmla="*/ 30960 w 82440"/>
                <a:gd name="textAreaRight" fmla="*/ 51480 w 82440"/>
                <a:gd name="textAreaTop" fmla="*/ 33480 h 88920"/>
                <a:gd name="textAreaBottom" fmla="*/ 5544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AutoShape 331"/>
            <p:cNvSpPr/>
            <p:nvPr/>
          </p:nvSpPr>
          <p:spPr>
            <a:xfrm rot="20727000">
              <a:off x="3241440" y="1634400"/>
              <a:ext cx="86760" cy="80640"/>
            </a:xfrm>
            <a:custGeom>
              <a:avLst/>
              <a:gdLst>
                <a:gd name="textAreaLeft" fmla="*/ 34560 w 86760"/>
                <a:gd name="textAreaRight" fmla="*/ 52200 w 86760"/>
                <a:gd name="textAreaTop" fmla="*/ 32040 h 80640"/>
                <a:gd name="textAreaBottom" fmla="*/ 48600 h 8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348000" y="783360"/>
            <a:ext cx="172080" cy="176760"/>
            <a:chOff x="3348000" y="783360"/>
            <a:chExt cx="172080" cy="176760"/>
          </a:xfrm>
        </p:grpSpPr>
        <p:sp>
          <p:nvSpPr>
            <p:cNvPr id="315" name="AutoShape 333"/>
            <p:cNvSpPr/>
            <p:nvPr/>
          </p:nvSpPr>
          <p:spPr>
            <a:xfrm rot="1646400">
              <a:off x="3372120" y="804240"/>
              <a:ext cx="123840" cy="135000"/>
            </a:xfrm>
            <a:custGeom>
              <a:avLst/>
              <a:gdLst>
                <a:gd name="textAreaLeft" fmla="*/ 46440 w 123840"/>
                <a:gd name="textAreaRight" fmla="*/ 77400 w 123840"/>
                <a:gd name="textAreaTop" fmla="*/ 50760 h 135000"/>
                <a:gd name="textAreaBottom" fmla="*/ 84240 h 13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AutoShape 334"/>
            <p:cNvSpPr/>
            <p:nvPr/>
          </p:nvSpPr>
          <p:spPr>
            <a:xfrm rot="20727000">
              <a:off x="3366360" y="810000"/>
              <a:ext cx="131760" cy="120960"/>
            </a:xfrm>
            <a:custGeom>
              <a:avLst/>
              <a:gdLst>
                <a:gd name="textAreaLeft" fmla="*/ 52560 w 131760"/>
                <a:gd name="textAreaRight" fmla="*/ 79200 w 131760"/>
                <a:gd name="textAreaTop" fmla="*/ 48240 h 120960"/>
                <a:gd name="textAreaBottom" fmla="*/ 72720 h 1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238560" y="1008720"/>
            <a:ext cx="172080" cy="176760"/>
            <a:chOff x="3238560" y="1008720"/>
            <a:chExt cx="172080" cy="176760"/>
          </a:xfrm>
        </p:grpSpPr>
        <p:sp>
          <p:nvSpPr>
            <p:cNvPr id="318" name="AutoShape 336"/>
            <p:cNvSpPr/>
            <p:nvPr/>
          </p:nvSpPr>
          <p:spPr>
            <a:xfrm rot="1646400">
              <a:off x="3262680" y="1029600"/>
              <a:ext cx="123840" cy="135000"/>
            </a:xfrm>
            <a:custGeom>
              <a:avLst/>
              <a:gdLst>
                <a:gd name="textAreaLeft" fmla="*/ 46440 w 123840"/>
                <a:gd name="textAreaRight" fmla="*/ 77400 w 123840"/>
                <a:gd name="textAreaTop" fmla="*/ 50760 h 135000"/>
                <a:gd name="textAreaBottom" fmla="*/ 84240 h 13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AutoShape 337"/>
            <p:cNvSpPr/>
            <p:nvPr/>
          </p:nvSpPr>
          <p:spPr>
            <a:xfrm rot="20727000">
              <a:off x="3256920" y="1035360"/>
              <a:ext cx="131760" cy="120960"/>
            </a:xfrm>
            <a:custGeom>
              <a:avLst/>
              <a:gdLst>
                <a:gd name="textAreaLeft" fmla="*/ 52560 w 131760"/>
                <a:gd name="textAreaRight" fmla="*/ 79200 w 131760"/>
                <a:gd name="textAreaTop" fmla="*/ 48240 h 120960"/>
                <a:gd name="textAreaBottom" fmla="*/ 72720 h 1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707640" y="362880"/>
            <a:ext cx="170280" cy="174600"/>
            <a:chOff x="3707640" y="362880"/>
            <a:chExt cx="170280" cy="174600"/>
          </a:xfrm>
        </p:grpSpPr>
        <p:sp>
          <p:nvSpPr>
            <p:cNvPr id="321" name="AutoShape 339"/>
            <p:cNvSpPr/>
            <p:nvPr/>
          </p:nvSpPr>
          <p:spPr>
            <a:xfrm rot="1646400">
              <a:off x="3731400" y="383400"/>
              <a:ext cx="122400" cy="133200"/>
            </a:xfrm>
            <a:custGeom>
              <a:avLst/>
              <a:gdLst>
                <a:gd name="textAreaLeft" fmla="*/ 46080 w 122400"/>
                <a:gd name="textAreaRight" fmla="*/ 76320 w 122400"/>
                <a:gd name="textAreaTop" fmla="*/ 50040 h 133200"/>
                <a:gd name="textAreaBottom" fmla="*/ 8316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AutoShape 340"/>
            <p:cNvSpPr/>
            <p:nvPr/>
          </p:nvSpPr>
          <p:spPr>
            <a:xfrm rot="20727000">
              <a:off x="3725280" y="389880"/>
              <a:ext cx="129960" cy="119520"/>
            </a:xfrm>
            <a:custGeom>
              <a:avLst/>
              <a:gdLst>
                <a:gd name="textAreaLeft" fmla="*/ 51840 w 129960"/>
                <a:gd name="textAreaRight" fmla="*/ 78120 w 129960"/>
                <a:gd name="textAreaTop" fmla="*/ 47520 h 119520"/>
                <a:gd name="textAreaBottom" fmla="*/ 72000 h 1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055320" y="1197360"/>
            <a:ext cx="114480" cy="117000"/>
            <a:chOff x="3055320" y="1197360"/>
            <a:chExt cx="114480" cy="117000"/>
          </a:xfrm>
        </p:grpSpPr>
        <p:sp>
          <p:nvSpPr>
            <p:cNvPr id="324" name="AutoShape 342"/>
            <p:cNvSpPr/>
            <p:nvPr/>
          </p:nvSpPr>
          <p:spPr>
            <a:xfrm rot="1646400">
              <a:off x="3071160" y="1211400"/>
              <a:ext cx="82800" cy="88920"/>
            </a:xfrm>
            <a:custGeom>
              <a:avLst/>
              <a:gdLst>
                <a:gd name="textAreaLeft" fmla="*/ 30960 w 82800"/>
                <a:gd name="textAreaRight" fmla="*/ 51840 w 82800"/>
                <a:gd name="textAreaTop" fmla="*/ 33480 h 88920"/>
                <a:gd name="textAreaBottom" fmla="*/ 5544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AutoShape 343"/>
            <p:cNvSpPr/>
            <p:nvPr/>
          </p:nvSpPr>
          <p:spPr>
            <a:xfrm rot="20727000">
              <a:off x="3068280" y="1215000"/>
              <a:ext cx="86760" cy="81000"/>
            </a:xfrm>
            <a:custGeom>
              <a:avLst/>
              <a:gdLst>
                <a:gd name="textAreaLeft" fmla="*/ 34560 w 86760"/>
                <a:gd name="textAreaRight" fmla="*/ 52200 w 86760"/>
                <a:gd name="textAreaTop" fmla="*/ 32400 h 81000"/>
                <a:gd name="textAreaBottom" fmla="*/ 48600 h 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348000" y="783360"/>
            <a:ext cx="172080" cy="176760"/>
            <a:chOff x="3348000" y="783360"/>
            <a:chExt cx="172080" cy="176760"/>
          </a:xfrm>
        </p:grpSpPr>
        <p:sp>
          <p:nvSpPr>
            <p:cNvPr id="327" name="AutoShape 345"/>
            <p:cNvSpPr/>
            <p:nvPr/>
          </p:nvSpPr>
          <p:spPr>
            <a:xfrm rot="1646400">
              <a:off x="3372120" y="804240"/>
              <a:ext cx="123840" cy="135000"/>
            </a:xfrm>
            <a:custGeom>
              <a:avLst/>
              <a:gdLst>
                <a:gd name="textAreaLeft" fmla="*/ 46440 w 123840"/>
                <a:gd name="textAreaRight" fmla="*/ 77400 w 123840"/>
                <a:gd name="textAreaTop" fmla="*/ 50760 h 135000"/>
                <a:gd name="textAreaBottom" fmla="*/ 84240 h 13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AutoShape 346"/>
            <p:cNvSpPr/>
            <p:nvPr/>
          </p:nvSpPr>
          <p:spPr>
            <a:xfrm rot="20727000">
              <a:off x="3366360" y="810000"/>
              <a:ext cx="131760" cy="120960"/>
            </a:xfrm>
            <a:custGeom>
              <a:avLst/>
              <a:gdLst>
                <a:gd name="textAreaLeft" fmla="*/ 52560 w 131760"/>
                <a:gd name="textAreaRight" fmla="*/ 79200 w 131760"/>
                <a:gd name="textAreaTop" fmla="*/ 48240 h 120960"/>
                <a:gd name="textAreaBottom" fmla="*/ 72720 h 1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231280" y="1108440"/>
            <a:ext cx="340920" cy="349920"/>
            <a:chOff x="2231280" y="1108440"/>
            <a:chExt cx="340920" cy="349920"/>
          </a:xfrm>
        </p:grpSpPr>
        <p:sp>
          <p:nvSpPr>
            <p:cNvPr id="330" name="AutoShape 348"/>
            <p:cNvSpPr/>
            <p:nvPr/>
          </p:nvSpPr>
          <p:spPr>
            <a:xfrm rot="1646400">
              <a:off x="2278440" y="1149840"/>
              <a:ext cx="245880" cy="266760"/>
            </a:xfrm>
            <a:custGeom>
              <a:avLst/>
              <a:gdLst>
                <a:gd name="textAreaLeft" fmla="*/ 92520 w 245880"/>
                <a:gd name="textAreaRight" fmla="*/ 153360 w 245880"/>
                <a:gd name="textAreaTop" fmla="*/ 100440 h 266760"/>
                <a:gd name="textAreaBottom" fmla="*/ 16632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AutoShape 349"/>
            <p:cNvSpPr/>
            <p:nvPr/>
          </p:nvSpPr>
          <p:spPr>
            <a:xfrm rot="20727000">
              <a:off x="2267280" y="1162440"/>
              <a:ext cx="259920" cy="239760"/>
            </a:xfrm>
            <a:custGeom>
              <a:avLst/>
              <a:gdLst>
                <a:gd name="textAreaLeft" fmla="*/ 103680 w 259920"/>
                <a:gd name="textAreaRight" fmla="*/ 156240 w 259920"/>
                <a:gd name="textAreaTop" fmla="*/ 95760 h 239760"/>
                <a:gd name="textAreaBottom" fmla="*/ 14400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cc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726840" y="1893600"/>
            <a:ext cx="171360" cy="175320"/>
            <a:chOff x="726840" y="1893600"/>
            <a:chExt cx="171360" cy="175320"/>
          </a:xfrm>
        </p:grpSpPr>
        <p:sp>
          <p:nvSpPr>
            <p:cNvPr id="333" name="AutoShape 351"/>
            <p:cNvSpPr/>
            <p:nvPr/>
          </p:nvSpPr>
          <p:spPr>
            <a:xfrm rot="1646400">
              <a:off x="750600" y="1914480"/>
              <a:ext cx="123840" cy="133200"/>
            </a:xfrm>
            <a:custGeom>
              <a:avLst/>
              <a:gdLst>
                <a:gd name="textAreaLeft" fmla="*/ 46440 w 123840"/>
                <a:gd name="textAreaRight" fmla="*/ 77400 w 123840"/>
                <a:gd name="textAreaTop" fmla="*/ 50040 h 133200"/>
                <a:gd name="textAreaBottom" fmla="*/ 8316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AutoShape 352"/>
            <p:cNvSpPr/>
            <p:nvPr/>
          </p:nvSpPr>
          <p:spPr>
            <a:xfrm rot="20727000">
              <a:off x="745920" y="1919880"/>
              <a:ext cx="129960" cy="120960"/>
            </a:xfrm>
            <a:custGeom>
              <a:avLst/>
              <a:gdLst>
                <a:gd name="textAreaLeft" fmla="*/ 51840 w 129960"/>
                <a:gd name="textAreaRight" fmla="*/ 78120 w 129960"/>
                <a:gd name="textAreaTop" fmla="*/ 48240 h 120960"/>
                <a:gd name="textAreaBottom" fmla="*/ 72720 h 1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272240" y="2077200"/>
            <a:ext cx="169920" cy="174600"/>
            <a:chOff x="1272240" y="2077200"/>
            <a:chExt cx="169920" cy="174600"/>
          </a:xfrm>
        </p:grpSpPr>
        <p:sp>
          <p:nvSpPr>
            <p:cNvPr id="336" name="AutoShape 354"/>
            <p:cNvSpPr/>
            <p:nvPr/>
          </p:nvSpPr>
          <p:spPr>
            <a:xfrm rot="1646400">
              <a:off x="1296000" y="2097720"/>
              <a:ext cx="122040" cy="133560"/>
            </a:xfrm>
            <a:custGeom>
              <a:avLst/>
              <a:gdLst>
                <a:gd name="textAreaLeft" fmla="*/ 45720 w 122040"/>
                <a:gd name="textAreaRight" fmla="*/ 76320 w 122040"/>
                <a:gd name="textAreaTop" fmla="*/ 50040 h 133560"/>
                <a:gd name="textAreaBottom" fmla="*/ 83520 h 1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AutoShape 355"/>
            <p:cNvSpPr/>
            <p:nvPr/>
          </p:nvSpPr>
          <p:spPr>
            <a:xfrm rot="20727000">
              <a:off x="1289880" y="2104200"/>
              <a:ext cx="130320" cy="119160"/>
            </a:xfrm>
            <a:custGeom>
              <a:avLst/>
              <a:gdLst>
                <a:gd name="textAreaLeft" fmla="*/ 51840 w 130320"/>
                <a:gd name="textAreaRight" fmla="*/ 78480 w 130320"/>
                <a:gd name="textAreaTop" fmla="*/ 47520 h 119160"/>
                <a:gd name="textAreaBottom" fmla="*/ 7164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8" name="Freeform 357"/>
          <p:cNvSpPr/>
          <p:nvPr/>
        </p:nvSpPr>
        <p:spPr>
          <a:xfrm rot="15600000">
            <a:off x="7268040" y="532440"/>
            <a:ext cx="15840" cy="27000"/>
          </a:xfrm>
          <a:custGeom>
            <a:avLst/>
            <a:gdLst>
              <a:gd name="textAreaLeft" fmla="*/ 0 w 15840"/>
              <a:gd name="textAreaRight" fmla="*/ 16200 w 158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7" h="11">
                <a:moveTo>
                  <a:pt x="4" y="0"/>
                </a:moveTo>
                <a:cubicBezTo>
                  <a:pt x="5" y="1"/>
                  <a:pt x="5" y="3"/>
                  <a:pt x="7" y="3"/>
                </a:cubicBezTo>
                <a:cubicBezTo>
                  <a:pt x="6" y="5"/>
                  <a:pt x="6" y="7"/>
                  <a:pt x="6" y="10"/>
                </a:cubicBezTo>
                <a:cubicBezTo>
                  <a:pt x="3" y="9"/>
                  <a:pt x="3" y="11"/>
                  <a:pt x="0" y="11"/>
                </a:cubicBezTo>
                <a:cubicBezTo>
                  <a:pt x="1" y="9"/>
                  <a:pt x="0" y="8"/>
                  <a:pt x="1" y="6"/>
                </a:cubicBezTo>
                <a:cubicBezTo>
                  <a:pt x="3" y="6"/>
                  <a:pt x="4" y="7"/>
                  <a:pt x="4" y="9"/>
                </a:cubicBezTo>
                <a:cubicBezTo>
                  <a:pt x="5" y="6"/>
                  <a:pt x="3" y="5"/>
                  <a:pt x="6" y="4"/>
                </a:cubicBezTo>
                <a:cubicBezTo>
                  <a:pt x="6" y="2"/>
                  <a:pt x="3" y="3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AutoShape 371"/>
          <p:cNvSpPr/>
          <p:nvPr/>
        </p:nvSpPr>
        <p:spPr>
          <a:xfrm rot="19019400">
            <a:off x="5343480" y="-14400"/>
            <a:ext cx="266760" cy="241560"/>
          </a:xfrm>
          <a:custGeom>
            <a:avLst/>
            <a:gdLst>
              <a:gd name="textAreaLeft" fmla="*/ 100440 w 266760"/>
              <a:gd name="textAreaRight" fmla="*/ 166320 w 266760"/>
              <a:gd name="textAreaTop" fmla="*/ 90720 h 241560"/>
              <a:gd name="textAreaBottom" fmla="*/ 150840 h 24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24" y="8124"/>
                </a:lnTo>
                <a:lnTo>
                  <a:pt x="10800" y="0"/>
                </a:lnTo>
                <a:lnTo>
                  <a:pt x="13476" y="8124"/>
                </a:lnTo>
                <a:lnTo>
                  <a:pt x="21600" y="10800"/>
                </a:lnTo>
                <a:lnTo>
                  <a:pt x="13476" y="13476"/>
                </a:lnTo>
                <a:lnTo>
                  <a:pt x="10800" y="21600"/>
                </a:lnTo>
                <a:lnTo>
                  <a:pt x="8124" y="134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AutoShape 372"/>
          <p:cNvSpPr/>
          <p:nvPr/>
        </p:nvSpPr>
        <p:spPr>
          <a:xfrm rot="16500000">
            <a:off x="5355360" y="-20160"/>
            <a:ext cx="236520" cy="260280"/>
          </a:xfrm>
          <a:custGeom>
            <a:avLst/>
            <a:gdLst>
              <a:gd name="textAreaLeft" fmla="*/ 94320 w 236520"/>
              <a:gd name="textAreaRight" fmla="*/ 142200 w 236520"/>
              <a:gd name="textAreaTop" fmla="*/ 103680 h 260280"/>
              <a:gd name="textAreaBottom" fmla="*/ 156600 h 2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6" y="8616"/>
                </a:lnTo>
                <a:lnTo>
                  <a:pt x="10800" y="0"/>
                </a:lnTo>
                <a:lnTo>
                  <a:pt x="12984" y="8616"/>
                </a:lnTo>
                <a:lnTo>
                  <a:pt x="21600" y="10800"/>
                </a:lnTo>
                <a:lnTo>
                  <a:pt x="12984" y="12984"/>
                </a:lnTo>
                <a:lnTo>
                  <a:pt x="10800" y="21600"/>
                </a:lnTo>
                <a:lnTo>
                  <a:pt x="8616" y="1298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66ccff">
                  <a:alpha val="80000"/>
                </a:srgbClr>
              </a:gs>
              <a:gs pos="100000">
                <a:srgbClr val="ffffff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AutoShape 377"/>
          <p:cNvSpPr/>
          <p:nvPr/>
        </p:nvSpPr>
        <p:spPr>
          <a:xfrm rot="19019400">
            <a:off x="6549840" y="1298160"/>
            <a:ext cx="134640" cy="122400"/>
          </a:xfrm>
          <a:custGeom>
            <a:avLst/>
            <a:gdLst>
              <a:gd name="textAreaLeft" fmla="*/ 50760 w 134640"/>
              <a:gd name="textAreaRight" fmla="*/ 83880 w 134640"/>
              <a:gd name="textAreaTop" fmla="*/ 46080 h 122400"/>
              <a:gd name="textAreaBottom" fmla="*/ 76320 h 122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24" y="8124"/>
                </a:lnTo>
                <a:lnTo>
                  <a:pt x="10800" y="0"/>
                </a:lnTo>
                <a:lnTo>
                  <a:pt x="13476" y="8124"/>
                </a:lnTo>
                <a:lnTo>
                  <a:pt x="21600" y="10800"/>
                </a:lnTo>
                <a:lnTo>
                  <a:pt x="13476" y="13476"/>
                </a:lnTo>
                <a:lnTo>
                  <a:pt x="10800" y="21600"/>
                </a:lnTo>
                <a:lnTo>
                  <a:pt x="8124" y="134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AutoShape 378"/>
          <p:cNvSpPr/>
          <p:nvPr/>
        </p:nvSpPr>
        <p:spPr>
          <a:xfrm rot="16500000">
            <a:off x="6555240" y="1296000"/>
            <a:ext cx="119160" cy="129960"/>
          </a:xfrm>
          <a:custGeom>
            <a:avLst/>
            <a:gdLst>
              <a:gd name="textAreaLeft" fmla="*/ 47520 w 119160"/>
              <a:gd name="textAreaRight" fmla="*/ 71640 w 119160"/>
              <a:gd name="textAreaTop" fmla="*/ 51840 h 129960"/>
              <a:gd name="textAreaBottom" fmla="*/ 78120 h 129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6" y="8616"/>
                </a:lnTo>
                <a:lnTo>
                  <a:pt x="10800" y="0"/>
                </a:lnTo>
                <a:lnTo>
                  <a:pt x="12984" y="8616"/>
                </a:lnTo>
                <a:lnTo>
                  <a:pt x="21600" y="10800"/>
                </a:lnTo>
                <a:lnTo>
                  <a:pt x="12984" y="12984"/>
                </a:lnTo>
                <a:lnTo>
                  <a:pt x="10800" y="21600"/>
                </a:lnTo>
                <a:lnTo>
                  <a:pt x="8616" y="1298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1080" bIns="-1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AutoShape 380"/>
          <p:cNvSpPr/>
          <p:nvPr/>
        </p:nvSpPr>
        <p:spPr>
          <a:xfrm rot="19019400">
            <a:off x="7176600" y="445680"/>
            <a:ext cx="88920" cy="82440"/>
          </a:xfrm>
          <a:custGeom>
            <a:avLst/>
            <a:gdLst>
              <a:gd name="textAreaLeft" fmla="*/ 33480 w 88920"/>
              <a:gd name="textAreaRight" fmla="*/ 55440 w 88920"/>
              <a:gd name="textAreaTop" fmla="*/ 30960 h 82440"/>
              <a:gd name="textAreaBottom" fmla="*/ 51480 h 82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24" y="8124"/>
                </a:lnTo>
                <a:lnTo>
                  <a:pt x="10800" y="0"/>
                </a:lnTo>
                <a:lnTo>
                  <a:pt x="13476" y="8124"/>
                </a:lnTo>
                <a:lnTo>
                  <a:pt x="21600" y="10800"/>
                </a:lnTo>
                <a:lnTo>
                  <a:pt x="13476" y="13476"/>
                </a:lnTo>
                <a:lnTo>
                  <a:pt x="10800" y="21600"/>
                </a:lnTo>
                <a:lnTo>
                  <a:pt x="8124" y="134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AutoShape 381"/>
          <p:cNvSpPr/>
          <p:nvPr/>
        </p:nvSpPr>
        <p:spPr>
          <a:xfrm rot="16500000">
            <a:off x="7180200" y="444240"/>
            <a:ext cx="80640" cy="87480"/>
          </a:xfrm>
          <a:custGeom>
            <a:avLst/>
            <a:gdLst>
              <a:gd name="textAreaLeft" fmla="*/ 32040 w 80640"/>
              <a:gd name="textAreaRight" fmla="*/ 48600 w 80640"/>
              <a:gd name="textAreaTop" fmla="*/ 34920 h 87480"/>
              <a:gd name="textAreaBottom" fmla="*/ 52560 h 8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6" y="8616"/>
                </a:lnTo>
                <a:lnTo>
                  <a:pt x="10800" y="0"/>
                </a:lnTo>
                <a:lnTo>
                  <a:pt x="12984" y="8616"/>
                </a:lnTo>
                <a:lnTo>
                  <a:pt x="21600" y="10800"/>
                </a:lnTo>
                <a:lnTo>
                  <a:pt x="12984" y="12984"/>
                </a:lnTo>
                <a:lnTo>
                  <a:pt x="10800" y="21600"/>
                </a:lnTo>
                <a:lnTo>
                  <a:pt x="8616" y="1298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9720" bIns="-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AutoShape 383"/>
          <p:cNvSpPr/>
          <p:nvPr/>
        </p:nvSpPr>
        <p:spPr>
          <a:xfrm rot="19019400">
            <a:off x="7089840" y="1883880"/>
            <a:ext cx="88920" cy="82800"/>
          </a:xfrm>
          <a:custGeom>
            <a:avLst/>
            <a:gdLst>
              <a:gd name="textAreaLeft" fmla="*/ 33480 w 88920"/>
              <a:gd name="textAreaRight" fmla="*/ 55440 w 88920"/>
              <a:gd name="textAreaTop" fmla="*/ 30960 h 82800"/>
              <a:gd name="textAreaBottom" fmla="*/ 51840 h 8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24" y="8124"/>
                </a:lnTo>
                <a:lnTo>
                  <a:pt x="10800" y="0"/>
                </a:lnTo>
                <a:lnTo>
                  <a:pt x="13476" y="8124"/>
                </a:lnTo>
                <a:lnTo>
                  <a:pt x="21600" y="10800"/>
                </a:lnTo>
                <a:lnTo>
                  <a:pt x="13476" y="13476"/>
                </a:lnTo>
                <a:lnTo>
                  <a:pt x="10800" y="21600"/>
                </a:lnTo>
                <a:lnTo>
                  <a:pt x="8124" y="134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6480" bIns="-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AutoShape 384"/>
          <p:cNvSpPr/>
          <p:nvPr/>
        </p:nvSpPr>
        <p:spPr>
          <a:xfrm rot="16500000">
            <a:off x="7092720" y="1882440"/>
            <a:ext cx="81000" cy="87120"/>
          </a:xfrm>
          <a:custGeom>
            <a:avLst/>
            <a:gdLst>
              <a:gd name="textAreaLeft" fmla="*/ 32400 w 81000"/>
              <a:gd name="textAreaRight" fmla="*/ 48600 w 81000"/>
              <a:gd name="textAreaTop" fmla="*/ 34560 h 87120"/>
              <a:gd name="textAreaBottom" fmla="*/ 52560 h 8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6" y="8616"/>
                </a:lnTo>
                <a:lnTo>
                  <a:pt x="10800" y="0"/>
                </a:lnTo>
                <a:lnTo>
                  <a:pt x="12984" y="8616"/>
                </a:lnTo>
                <a:lnTo>
                  <a:pt x="21600" y="10800"/>
                </a:lnTo>
                <a:lnTo>
                  <a:pt x="12984" y="12984"/>
                </a:lnTo>
                <a:lnTo>
                  <a:pt x="10800" y="21600"/>
                </a:lnTo>
                <a:lnTo>
                  <a:pt x="8616" y="1298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9360" bIns="-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AutoShape 386"/>
          <p:cNvSpPr/>
          <p:nvPr/>
        </p:nvSpPr>
        <p:spPr>
          <a:xfrm rot="19019400">
            <a:off x="6350040" y="159840"/>
            <a:ext cx="266760" cy="247680"/>
          </a:xfrm>
          <a:custGeom>
            <a:avLst/>
            <a:gdLst>
              <a:gd name="textAreaLeft" fmla="*/ 100440 w 266760"/>
              <a:gd name="textAreaRight" fmla="*/ 166320 w 266760"/>
              <a:gd name="textAreaTop" fmla="*/ 93240 h 247680"/>
              <a:gd name="textAreaBottom" fmla="*/ 15444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24" y="8124"/>
                </a:lnTo>
                <a:lnTo>
                  <a:pt x="10800" y="0"/>
                </a:lnTo>
                <a:lnTo>
                  <a:pt x="13476" y="8124"/>
                </a:lnTo>
                <a:lnTo>
                  <a:pt x="21600" y="10800"/>
                </a:lnTo>
                <a:lnTo>
                  <a:pt x="13476" y="13476"/>
                </a:lnTo>
                <a:lnTo>
                  <a:pt x="10800" y="21600"/>
                </a:lnTo>
                <a:lnTo>
                  <a:pt x="8124" y="134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AutoShape 387"/>
          <p:cNvSpPr/>
          <p:nvPr/>
        </p:nvSpPr>
        <p:spPr>
          <a:xfrm rot="16500000">
            <a:off x="6360120" y="156240"/>
            <a:ext cx="239760" cy="260280"/>
          </a:xfrm>
          <a:custGeom>
            <a:avLst/>
            <a:gdLst>
              <a:gd name="textAreaLeft" fmla="*/ 95760 w 239760"/>
              <a:gd name="textAreaRight" fmla="*/ 144000 w 239760"/>
              <a:gd name="textAreaTop" fmla="*/ 103680 h 260280"/>
              <a:gd name="textAreaBottom" fmla="*/ 156600 h 2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6" y="8616"/>
                </a:lnTo>
                <a:lnTo>
                  <a:pt x="10800" y="0"/>
                </a:lnTo>
                <a:lnTo>
                  <a:pt x="12984" y="8616"/>
                </a:lnTo>
                <a:lnTo>
                  <a:pt x="21600" y="10800"/>
                </a:lnTo>
                <a:lnTo>
                  <a:pt x="12984" y="12984"/>
                </a:lnTo>
                <a:lnTo>
                  <a:pt x="10800" y="21600"/>
                </a:lnTo>
                <a:lnTo>
                  <a:pt x="8616" y="1298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66ccff">
                  <a:alpha val="80000"/>
                </a:srgbClr>
              </a:gs>
              <a:gs pos="100000">
                <a:srgbClr val="ffffff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AutoShape 389"/>
          <p:cNvSpPr/>
          <p:nvPr/>
        </p:nvSpPr>
        <p:spPr>
          <a:xfrm rot="19019400">
            <a:off x="5358960" y="974520"/>
            <a:ext cx="133560" cy="122040"/>
          </a:xfrm>
          <a:custGeom>
            <a:avLst/>
            <a:gdLst>
              <a:gd name="textAreaLeft" fmla="*/ 50040 w 133560"/>
              <a:gd name="textAreaRight" fmla="*/ 83520 w 133560"/>
              <a:gd name="textAreaTop" fmla="*/ 45720 h 122040"/>
              <a:gd name="textAreaBottom" fmla="*/ 7632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24" y="8124"/>
                </a:lnTo>
                <a:lnTo>
                  <a:pt x="10800" y="0"/>
                </a:lnTo>
                <a:lnTo>
                  <a:pt x="13476" y="8124"/>
                </a:lnTo>
                <a:lnTo>
                  <a:pt x="21600" y="10800"/>
                </a:lnTo>
                <a:lnTo>
                  <a:pt x="13476" y="13476"/>
                </a:lnTo>
                <a:lnTo>
                  <a:pt x="10800" y="21600"/>
                </a:lnTo>
                <a:lnTo>
                  <a:pt x="8124" y="134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3240" bIns="3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AutoShape 390"/>
          <p:cNvSpPr/>
          <p:nvPr/>
        </p:nvSpPr>
        <p:spPr>
          <a:xfrm rot="16500000">
            <a:off x="5364720" y="971640"/>
            <a:ext cx="119160" cy="130320"/>
          </a:xfrm>
          <a:custGeom>
            <a:avLst/>
            <a:gdLst>
              <a:gd name="textAreaLeft" fmla="*/ 47520 w 119160"/>
              <a:gd name="textAreaRight" fmla="*/ 71640 w 119160"/>
              <a:gd name="textAreaTop" fmla="*/ 51840 h 130320"/>
              <a:gd name="textAreaBottom" fmla="*/ 78480 h 130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6" y="8616"/>
                </a:lnTo>
                <a:lnTo>
                  <a:pt x="10800" y="0"/>
                </a:lnTo>
                <a:lnTo>
                  <a:pt x="12984" y="8616"/>
                </a:lnTo>
                <a:lnTo>
                  <a:pt x="21600" y="10800"/>
                </a:lnTo>
                <a:lnTo>
                  <a:pt x="12984" y="12984"/>
                </a:lnTo>
                <a:lnTo>
                  <a:pt x="10800" y="21600"/>
                </a:lnTo>
                <a:lnTo>
                  <a:pt x="8616" y="1298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AutoShape 392"/>
          <p:cNvSpPr/>
          <p:nvPr/>
        </p:nvSpPr>
        <p:spPr>
          <a:xfrm rot="19019400">
            <a:off x="6133680" y="2230200"/>
            <a:ext cx="133560" cy="122040"/>
          </a:xfrm>
          <a:custGeom>
            <a:avLst/>
            <a:gdLst>
              <a:gd name="textAreaLeft" fmla="*/ 50040 w 133560"/>
              <a:gd name="textAreaRight" fmla="*/ 83520 w 133560"/>
              <a:gd name="textAreaTop" fmla="*/ 45720 h 122040"/>
              <a:gd name="textAreaBottom" fmla="*/ 7632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24" y="8124"/>
                </a:lnTo>
                <a:lnTo>
                  <a:pt x="10800" y="0"/>
                </a:lnTo>
                <a:lnTo>
                  <a:pt x="13476" y="8124"/>
                </a:lnTo>
                <a:lnTo>
                  <a:pt x="21600" y="10800"/>
                </a:lnTo>
                <a:lnTo>
                  <a:pt x="13476" y="13476"/>
                </a:lnTo>
                <a:lnTo>
                  <a:pt x="10800" y="21600"/>
                </a:lnTo>
                <a:lnTo>
                  <a:pt x="8124" y="134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3240" bIns="3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AutoShape 393"/>
          <p:cNvSpPr/>
          <p:nvPr/>
        </p:nvSpPr>
        <p:spPr>
          <a:xfrm rot="16500000">
            <a:off x="6139440" y="2227320"/>
            <a:ext cx="119160" cy="130320"/>
          </a:xfrm>
          <a:custGeom>
            <a:avLst/>
            <a:gdLst>
              <a:gd name="textAreaLeft" fmla="*/ 47520 w 119160"/>
              <a:gd name="textAreaRight" fmla="*/ 71640 w 119160"/>
              <a:gd name="textAreaTop" fmla="*/ 51840 h 130320"/>
              <a:gd name="textAreaBottom" fmla="*/ 78480 h 130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6" y="8616"/>
                </a:lnTo>
                <a:lnTo>
                  <a:pt x="10800" y="0"/>
                </a:lnTo>
                <a:lnTo>
                  <a:pt x="12984" y="8616"/>
                </a:lnTo>
                <a:lnTo>
                  <a:pt x="21600" y="10800"/>
                </a:lnTo>
                <a:lnTo>
                  <a:pt x="12984" y="12984"/>
                </a:lnTo>
                <a:lnTo>
                  <a:pt x="10800" y="21600"/>
                </a:lnTo>
                <a:lnTo>
                  <a:pt x="8616" y="1298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AutoShape 395"/>
          <p:cNvSpPr/>
          <p:nvPr/>
        </p:nvSpPr>
        <p:spPr>
          <a:xfrm rot="19019400">
            <a:off x="6532200" y="2058480"/>
            <a:ext cx="90360" cy="82800"/>
          </a:xfrm>
          <a:custGeom>
            <a:avLst/>
            <a:gdLst>
              <a:gd name="textAreaLeft" fmla="*/ 33840 w 90360"/>
              <a:gd name="textAreaRight" fmla="*/ 56520 w 90360"/>
              <a:gd name="textAreaTop" fmla="*/ 30960 h 82800"/>
              <a:gd name="textAreaBottom" fmla="*/ 51840 h 8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24" y="8124"/>
                </a:lnTo>
                <a:lnTo>
                  <a:pt x="10800" y="0"/>
                </a:lnTo>
                <a:lnTo>
                  <a:pt x="13476" y="8124"/>
                </a:lnTo>
                <a:lnTo>
                  <a:pt x="21600" y="10800"/>
                </a:lnTo>
                <a:lnTo>
                  <a:pt x="13476" y="13476"/>
                </a:lnTo>
                <a:lnTo>
                  <a:pt x="10800" y="21600"/>
                </a:lnTo>
                <a:lnTo>
                  <a:pt x="8124" y="134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6480" bIns="-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AutoShape 396"/>
          <p:cNvSpPr/>
          <p:nvPr/>
        </p:nvSpPr>
        <p:spPr>
          <a:xfrm rot="16500000">
            <a:off x="6536520" y="2056320"/>
            <a:ext cx="81000" cy="88920"/>
          </a:xfrm>
          <a:custGeom>
            <a:avLst/>
            <a:gdLst>
              <a:gd name="textAreaLeft" fmla="*/ 32400 w 81000"/>
              <a:gd name="textAreaRight" fmla="*/ 48600 w 81000"/>
              <a:gd name="textAreaTop" fmla="*/ 35280 h 88920"/>
              <a:gd name="textAreaBottom" fmla="*/ 53640 h 8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6" y="8616"/>
                </a:lnTo>
                <a:lnTo>
                  <a:pt x="10800" y="0"/>
                </a:lnTo>
                <a:lnTo>
                  <a:pt x="12984" y="8616"/>
                </a:lnTo>
                <a:lnTo>
                  <a:pt x="21600" y="10800"/>
                </a:lnTo>
                <a:lnTo>
                  <a:pt x="12984" y="12984"/>
                </a:lnTo>
                <a:lnTo>
                  <a:pt x="10800" y="21600"/>
                </a:lnTo>
                <a:lnTo>
                  <a:pt x="8616" y="1298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9000" bIns="-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AutoShape 398"/>
          <p:cNvSpPr/>
          <p:nvPr/>
        </p:nvSpPr>
        <p:spPr>
          <a:xfrm rot="19019400">
            <a:off x="6592680" y="2841120"/>
            <a:ext cx="90360" cy="82800"/>
          </a:xfrm>
          <a:custGeom>
            <a:avLst/>
            <a:gdLst>
              <a:gd name="textAreaLeft" fmla="*/ 33840 w 90360"/>
              <a:gd name="textAreaRight" fmla="*/ 56520 w 90360"/>
              <a:gd name="textAreaTop" fmla="*/ 30960 h 82800"/>
              <a:gd name="textAreaBottom" fmla="*/ 51840 h 8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24" y="8124"/>
                </a:lnTo>
                <a:lnTo>
                  <a:pt x="10800" y="0"/>
                </a:lnTo>
                <a:lnTo>
                  <a:pt x="13476" y="8124"/>
                </a:lnTo>
                <a:lnTo>
                  <a:pt x="21600" y="10800"/>
                </a:lnTo>
                <a:lnTo>
                  <a:pt x="13476" y="13476"/>
                </a:lnTo>
                <a:lnTo>
                  <a:pt x="10800" y="21600"/>
                </a:lnTo>
                <a:lnTo>
                  <a:pt x="8124" y="134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6480" bIns="-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399"/>
          <p:cNvSpPr/>
          <p:nvPr/>
        </p:nvSpPr>
        <p:spPr>
          <a:xfrm rot="16500000">
            <a:off x="6595920" y="2839680"/>
            <a:ext cx="81000" cy="87120"/>
          </a:xfrm>
          <a:custGeom>
            <a:avLst/>
            <a:gdLst>
              <a:gd name="textAreaLeft" fmla="*/ 32400 w 81000"/>
              <a:gd name="textAreaRight" fmla="*/ 48600 w 81000"/>
              <a:gd name="textAreaTop" fmla="*/ 34560 h 87120"/>
              <a:gd name="textAreaBottom" fmla="*/ 52560 h 8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6" y="8616"/>
                </a:lnTo>
                <a:lnTo>
                  <a:pt x="10800" y="0"/>
                </a:lnTo>
                <a:lnTo>
                  <a:pt x="12984" y="8616"/>
                </a:lnTo>
                <a:lnTo>
                  <a:pt x="21600" y="10800"/>
                </a:lnTo>
                <a:lnTo>
                  <a:pt x="12984" y="12984"/>
                </a:lnTo>
                <a:lnTo>
                  <a:pt x="10800" y="21600"/>
                </a:lnTo>
                <a:lnTo>
                  <a:pt x="8616" y="1298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9360" bIns="-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AutoShape 401"/>
          <p:cNvSpPr/>
          <p:nvPr/>
        </p:nvSpPr>
        <p:spPr>
          <a:xfrm rot="19019400">
            <a:off x="6989760" y="2598480"/>
            <a:ext cx="266760" cy="247680"/>
          </a:xfrm>
          <a:custGeom>
            <a:avLst/>
            <a:gdLst>
              <a:gd name="textAreaLeft" fmla="*/ 100440 w 266760"/>
              <a:gd name="textAreaRight" fmla="*/ 166320 w 266760"/>
              <a:gd name="textAreaTop" fmla="*/ 93240 h 247680"/>
              <a:gd name="textAreaBottom" fmla="*/ 15444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24" y="8124"/>
                </a:lnTo>
                <a:lnTo>
                  <a:pt x="10800" y="0"/>
                </a:lnTo>
                <a:lnTo>
                  <a:pt x="13476" y="8124"/>
                </a:lnTo>
                <a:lnTo>
                  <a:pt x="21600" y="10800"/>
                </a:lnTo>
                <a:lnTo>
                  <a:pt x="13476" y="13476"/>
                </a:lnTo>
                <a:lnTo>
                  <a:pt x="10800" y="21600"/>
                </a:lnTo>
                <a:lnTo>
                  <a:pt x="8124" y="134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AutoShape 402"/>
          <p:cNvSpPr/>
          <p:nvPr/>
        </p:nvSpPr>
        <p:spPr>
          <a:xfrm rot="16500000">
            <a:off x="6999840" y="2594520"/>
            <a:ext cx="239760" cy="260280"/>
          </a:xfrm>
          <a:custGeom>
            <a:avLst/>
            <a:gdLst>
              <a:gd name="textAreaLeft" fmla="*/ 95760 w 239760"/>
              <a:gd name="textAreaRight" fmla="*/ 144000 w 239760"/>
              <a:gd name="textAreaTop" fmla="*/ 103680 h 260280"/>
              <a:gd name="textAreaBottom" fmla="*/ 156600 h 2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6" y="8616"/>
                </a:lnTo>
                <a:lnTo>
                  <a:pt x="10800" y="0"/>
                </a:lnTo>
                <a:lnTo>
                  <a:pt x="12984" y="8616"/>
                </a:lnTo>
                <a:lnTo>
                  <a:pt x="21600" y="10800"/>
                </a:lnTo>
                <a:lnTo>
                  <a:pt x="12984" y="12984"/>
                </a:lnTo>
                <a:lnTo>
                  <a:pt x="10800" y="21600"/>
                </a:lnTo>
                <a:lnTo>
                  <a:pt x="8616" y="1298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66ccff">
                  <a:alpha val="80000"/>
                </a:srgbClr>
              </a:gs>
              <a:gs pos="100000">
                <a:srgbClr val="ffffff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AutoShape 404"/>
          <p:cNvSpPr/>
          <p:nvPr/>
        </p:nvSpPr>
        <p:spPr>
          <a:xfrm rot="19019400">
            <a:off x="6919560" y="885600"/>
            <a:ext cx="135000" cy="123840"/>
          </a:xfrm>
          <a:custGeom>
            <a:avLst/>
            <a:gdLst>
              <a:gd name="textAreaLeft" fmla="*/ 50760 w 135000"/>
              <a:gd name="textAreaRight" fmla="*/ 84240 w 135000"/>
              <a:gd name="textAreaTop" fmla="*/ 46440 h 123840"/>
              <a:gd name="textAreaBottom" fmla="*/ 774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24" y="8124"/>
                </a:lnTo>
                <a:lnTo>
                  <a:pt x="10800" y="0"/>
                </a:lnTo>
                <a:lnTo>
                  <a:pt x="13476" y="8124"/>
                </a:lnTo>
                <a:lnTo>
                  <a:pt x="21600" y="10800"/>
                </a:lnTo>
                <a:lnTo>
                  <a:pt x="13476" y="13476"/>
                </a:lnTo>
                <a:lnTo>
                  <a:pt x="10800" y="21600"/>
                </a:lnTo>
                <a:lnTo>
                  <a:pt x="8124" y="134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405"/>
          <p:cNvSpPr/>
          <p:nvPr/>
        </p:nvSpPr>
        <p:spPr>
          <a:xfrm rot="16500000">
            <a:off x="6925320" y="884520"/>
            <a:ext cx="119160" cy="130320"/>
          </a:xfrm>
          <a:custGeom>
            <a:avLst/>
            <a:gdLst>
              <a:gd name="textAreaLeft" fmla="*/ 47520 w 119160"/>
              <a:gd name="textAreaRight" fmla="*/ 71640 w 119160"/>
              <a:gd name="textAreaTop" fmla="*/ 51840 h 130320"/>
              <a:gd name="textAreaBottom" fmla="*/ 78480 h 130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6" y="8616"/>
                </a:lnTo>
                <a:lnTo>
                  <a:pt x="10800" y="0"/>
                </a:lnTo>
                <a:lnTo>
                  <a:pt x="12984" y="8616"/>
                </a:lnTo>
                <a:lnTo>
                  <a:pt x="21600" y="10800"/>
                </a:lnTo>
                <a:lnTo>
                  <a:pt x="12984" y="12984"/>
                </a:lnTo>
                <a:lnTo>
                  <a:pt x="10800" y="21600"/>
                </a:lnTo>
                <a:lnTo>
                  <a:pt x="8616" y="1298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AutoShape 407"/>
          <p:cNvSpPr/>
          <p:nvPr/>
        </p:nvSpPr>
        <p:spPr>
          <a:xfrm rot="19019400">
            <a:off x="5897160" y="637920"/>
            <a:ext cx="133560" cy="123840"/>
          </a:xfrm>
          <a:custGeom>
            <a:avLst/>
            <a:gdLst>
              <a:gd name="textAreaLeft" fmla="*/ 50040 w 133560"/>
              <a:gd name="textAreaRight" fmla="*/ 83520 w 133560"/>
              <a:gd name="textAreaTop" fmla="*/ 46440 h 123840"/>
              <a:gd name="textAreaBottom" fmla="*/ 774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24" y="8124"/>
                </a:lnTo>
                <a:lnTo>
                  <a:pt x="10800" y="0"/>
                </a:lnTo>
                <a:lnTo>
                  <a:pt x="13476" y="8124"/>
                </a:lnTo>
                <a:lnTo>
                  <a:pt x="21600" y="10800"/>
                </a:lnTo>
                <a:lnTo>
                  <a:pt x="13476" y="13476"/>
                </a:lnTo>
                <a:lnTo>
                  <a:pt x="10800" y="21600"/>
                </a:lnTo>
                <a:lnTo>
                  <a:pt x="8124" y="134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408"/>
          <p:cNvSpPr/>
          <p:nvPr/>
        </p:nvSpPr>
        <p:spPr>
          <a:xfrm rot="16500000">
            <a:off x="5902920" y="636840"/>
            <a:ext cx="119160" cy="130320"/>
          </a:xfrm>
          <a:custGeom>
            <a:avLst/>
            <a:gdLst>
              <a:gd name="textAreaLeft" fmla="*/ 47520 w 119160"/>
              <a:gd name="textAreaRight" fmla="*/ 71640 w 119160"/>
              <a:gd name="textAreaTop" fmla="*/ 51840 h 130320"/>
              <a:gd name="textAreaBottom" fmla="*/ 78480 h 130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6" y="8616"/>
                </a:lnTo>
                <a:lnTo>
                  <a:pt x="10800" y="0"/>
                </a:lnTo>
                <a:lnTo>
                  <a:pt x="12984" y="8616"/>
                </a:lnTo>
                <a:lnTo>
                  <a:pt x="21600" y="10800"/>
                </a:lnTo>
                <a:lnTo>
                  <a:pt x="12984" y="12984"/>
                </a:lnTo>
                <a:lnTo>
                  <a:pt x="10800" y="21600"/>
                </a:lnTo>
                <a:lnTo>
                  <a:pt x="8616" y="1298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AutoShape 410"/>
          <p:cNvSpPr/>
          <p:nvPr/>
        </p:nvSpPr>
        <p:spPr>
          <a:xfrm rot="19019400">
            <a:off x="7438680" y="3958920"/>
            <a:ext cx="88920" cy="82440"/>
          </a:xfrm>
          <a:custGeom>
            <a:avLst/>
            <a:gdLst>
              <a:gd name="textAreaLeft" fmla="*/ 33480 w 88920"/>
              <a:gd name="textAreaRight" fmla="*/ 55440 w 88920"/>
              <a:gd name="textAreaTop" fmla="*/ 30960 h 82440"/>
              <a:gd name="textAreaBottom" fmla="*/ 51480 h 82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24" y="8124"/>
                </a:lnTo>
                <a:lnTo>
                  <a:pt x="10800" y="0"/>
                </a:lnTo>
                <a:lnTo>
                  <a:pt x="13476" y="8124"/>
                </a:lnTo>
                <a:lnTo>
                  <a:pt x="21600" y="10800"/>
                </a:lnTo>
                <a:lnTo>
                  <a:pt x="13476" y="13476"/>
                </a:lnTo>
                <a:lnTo>
                  <a:pt x="10800" y="21600"/>
                </a:lnTo>
                <a:lnTo>
                  <a:pt x="8124" y="134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411"/>
          <p:cNvSpPr/>
          <p:nvPr/>
        </p:nvSpPr>
        <p:spPr>
          <a:xfrm rot="16500000">
            <a:off x="7441920" y="3957120"/>
            <a:ext cx="81000" cy="87120"/>
          </a:xfrm>
          <a:custGeom>
            <a:avLst/>
            <a:gdLst>
              <a:gd name="textAreaLeft" fmla="*/ 32400 w 81000"/>
              <a:gd name="textAreaRight" fmla="*/ 48600 w 81000"/>
              <a:gd name="textAreaTop" fmla="*/ 34560 h 87120"/>
              <a:gd name="textAreaBottom" fmla="*/ 52560 h 8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6" y="8616"/>
                </a:lnTo>
                <a:lnTo>
                  <a:pt x="10800" y="0"/>
                </a:lnTo>
                <a:lnTo>
                  <a:pt x="12984" y="8616"/>
                </a:lnTo>
                <a:lnTo>
                  <a:pt x="21600" y="10800"/>
                </a:lnTo>
                <a:lnTo>
                  <a:pt x="12984" y="12984"/>
                </a:lnTo>
                <a:lnTo>
                  <a:pt x="10800" y="21600"/>
                </a:lnTo>
                <a:lnTo>
                  <a:pt x="8616" y="1298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9360" bIns="-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413"/>
          <p:cNvSpPr/>
          <p:nvPr/>
        </p:nvSpPr>
        <p:spPr>
          <a:xfrm rot="19019400">
            <a:off x="6798960" y="3555720"/>
            <a:ext cx="133200" cy="123840"/>
          </a:xfrm>
          <a:custGeom>
            <a:avLst/>
            <a:gdLst>
              <a:gd name="textAreaLeft" fmla="*/ 50040 w 133200"/>
              <a:gd name="textAreaRight" fmla="*/ 83160 w 133200"/>
              <a:gd name="textAreaTop" fmla="*/ 46440 h 123840"/>
              <a:gd name="textAreaBottom" fmla="*/ 774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24" y="8124"/>
                </a:lnTo>
                <a:lnTo>
                  <a:pt x="10800" y="0"/>
                </a:lnTo>
                <a:lnTo>
                  <a:pt x="13476" y="8124"/>
                </a:lnTo>
                <a:lnTo>
                  <a:pt x="21600" y="10800"/>
                </a:lnTo>
                <a:lnTo>
                  <a:pt x="13476" y="13476"/>
                </a:lnTo>
                <a:lnTo>
                  <a:pt x="10800" y="21600"/>
                </a:lnTo>
                <a:lnTo>
                  <a:pt x="8124" y="134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414"/>
          <p:cNvSpPr/>
          <p:nvPr/>
        </p:nvSpPr>
        <p:spPr>
          <a:xfrm rot="16500000">
            <a:off x="6803640" y="3554280"/>
            <a:ext cx="120600" cy="129960"/>
          </a:xfrm>
          <a:custGeom>
            <a:avLst/>
            <a:gdLst>
              <a:gd name="textAreaLeft" fmla="*/ 48240 w 120600"/>
              <a:gd name="textAreaRight" fmla="*/ 72360 w 120600"/>
              <a:gd name="textAreaTop" fmla="*/ 51840 h 129960"/>
              <a:gd name="textAreaBottom" fmla="*/ 78120 h 129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6" y="8616"/>
                </a:lnTo>
                <a:lnTo>
                  <a:pt x="10800" y="0"/>
                </a:lnTo>
                <a:lnTo>
                  <a:pt x="12984" y="8616"/>
                </a:lnTo>
                <a:lnTo>
                  <a:pt x="21600" y="10800"/>
                </a:lnTo>
                <a:lnTo>
                  <a:pt x="12984" y="12984"/>
                </a:lnTo>
                <a:lnTo>
                  <a:pt x="10800" y="21600"/>
                </a:lnTo>
                <a:lnTo>
                  <a:pt x="8616" y="1298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1080" bIns="-1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416"/>
          <p:cNvSpPr/>
          <p:nvPr/>
        </p:nvSpPr>
        <p:spPr>
          <a:xfrm rot="19019400">
            <a:off x="6883560" y="4132080"/>
            <a:ext cx="90360" cy="82440"/>
          </a:xfrm>
          <a:custGeom>
            <a:avLst/>
            <a:gdLst>
              <a:gd name="textAreaLeft" fmla="*/ 33840 w 90360"/>
              <a:gd name="textAreaRight" fmla="*/ 56520 w 90360"/>
              <a:gd name="textAreaTop" fmla="*/ 30960 h 82440"/>
              <a:gd name="textAreaBottom" fmla="*/ 51480 h 82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24" y="8124"/>
                </a:lnTo>
                <a:lnTo>
                  <a:pt x="10800" y="0"/>
                </a:lnTo>
                <a:lnTo>
                  <a:pt x="13476" y="8124"/>
                </a:lnTo>
                <a:lnTo>
                  <a:pt x="21600" y="10800"/>
                </a:lnTo>
                <a:lnTo>
                  <a:pt x="13476" y="13476"/>
                </a:lnTo>
                <a:lnTo>
                  <a:pt x="10800" y="21600"/>
                </a:lnTo>
                <a:lnTo>
                  <a:pt x="8124" y="134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417"/>
          <p:cNvSpPr/>
          <p:nvPr/>
        </p:nvSpPr>
        <p:spPr>
          <a:xfrm rot="16500000">
            <a:off x="6887160" y="4131000"/>
            <a:ext cx="79560" cy="87120"/>
          </a:xfrm>
          <a:custGeom>
            <a:avLst/>
            <a:gdLst>
              <a:gd name="textAreaLeft" fmla="*/ 31680 w 79560"/>
              <a:gd name="textAreaRight" fmla="*/ 47880 w 79560"/>
              <a:gd name="textAreaTop" fmla="*/ 34560 h 87120"/>
              <a:gd name="textAreaBottom" fmla="*/ 52560 h 8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6" y="8616"/>
                </a:lnTo>
                <a:lnTo>
                  <a:pt x="10800" y="0"/>
                </a:lnTo>
                <a:lnTo>
                  <a:pt x="12984" y="8616"/>
                </a:lnTo>
                <a:lnTo>
                  <a:pt x="21600" y="10800"/>
                </a:lnTo>
                <a:lnTo>
                  <a:pt x="12984" y="12984"/>
                </a:lnTo>
                <a:lnTo>
                  <a:pt x="10800" y="21600"/>
                </a:lnTo>
                <a:lnTo>
                  <a:pt x="8616" y="1298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9360" bIns="-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419"/>
          <p:cNvSpPr/>
          <p:nvPr/>
        </p:nvSpPr>
        <p:spPr>
          <a:xfrm rot="19019400">
            <a:off x="6021000" y="4465440"/>
            <a:ext cx="266760" cy="247320"/>
          </a:xfrm>
          <a:custGeom>
            <a:avLst/>
            <a:gdLst>
              <a:gd name="textAreaLeft" fmla="*/ 100440 w 266760"/>
              <a:gd name="textAreaRight" fmla="*/ 166320 w 266760"/>
              <a:gd name="textAreaTop" fmla="*/ 92880 h 247320"/>
              <a:gd name="textAreaBottom" fmla="*/ 1544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24" y="8124"/>
                </a:lnTo>
                <a:lnTo>
                  <a:pt x="10800" y="0"/>
                </a:lnTo>
                <a:lnTo>
                  <a:pt x="13476" y="8124"/>
                </a:lnTo>
                <a:lnTo>
                  <a:pt x="21600" y="10800"/>
                </a:lnTo>
                <a:lnTo>
                  <a:pt x="13476" y="13476"/>
                </a:lnTo>
                <a:lnTo>
                  <a:pt x="10800" y="21600"/>
                </a:lnTo>
                <a:lnTo>
                  <a:pt x="8124" y="134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AutoShape 420"/>
          <p:cNvSpPr/>
          <p:nvPr/>
        </p:nvSpPr>
        <p:spPr>
          <a:xfrm rot="16500000">
            <a:off x="6031440" y="4461480"/>
            <a:ext cx="239760" cy="260280"/>
          </a:xfrm>
          <a:custGeom>
            <a:avLst/>
            <a:gdLst>
              <a:gd name="textAreaLeft" fmla="*/ 95760 w 239760"/>
              <a:gd name="textAreaRight" fmla="*/ 144000 w 239760"/>
              <a:gd name="textAreaTop" fmla="*/ 103680 h 260280"/>
              <a:gd name="textAreaBottom" fmla="*/ 156600 h 2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6" y="8616"/>
                </a:lnTo>
                <a:lnTo>
                  <a:pt x="10800" y="0"/>
                </a:lnTo>
                <a:lnTo>
                  <a:pt x="12984" y="8616"/>
                </a:lnTo>
                <a:lnTo>
                  <a:pt x="21600" y="10800"/>
                </a:lnTo>
                <a:lnTo>
                  <a:pt x="12984" y="12984"/>
                </a:lnTo>
                <a:lnTo>
                  <a:pt x="10800" y="21600"/>
                </a:lnTo>
                <a:lnTo>
                  <a:pt x="8616" y="1298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66ccff">
                  <a:alpha val="80000"/>
                </a:srgbClr>
              </a:gs>
              <a:gs pos="100000">
                <a:srgbClr val="ffffff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940040" y="3492000"/>
            <a:ext cx="171000" cy="174960"/>
            <a:chOff x="1940040" y="3492000"/>
            <a:chExt cx="171000" cy="174960"/>
          </a:xfrm>
        </p:grpSpPr>
        <p:sp>
          <p:nvSpPr>
            <p:cNvPr id="372" name="AutoShape 909"/>
            <p:cNvSpPr/>
            <p:nvPr/>
          </p:nvSpPr>
          <p:spPr>
            <a:xfrm rot="7028400">
              <a:off x="1958760" y="3517560"/>
              <a:ext cx="133200" cy="123840"/>
            </a:xfrm>
            <a:custGeom>
              <a:avLst/>
              <a:gdLst>
                <a:gd name="textAreaLeft" fmla="*/ 50040 w 133200"/>
                <a:gd name="textAreaRight" fmla="*/ 83160 w 13320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AutoShape 910"/>
            <p:cNvSpPr/>
            <p:nvPr/>
          </p:nvSpPr>
          <p:spPr>
            <a:xfrm rot="4509000">
              <a:off x="1965600" y="3512520"/>
              <a:ext cx="120960" cy="12996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1840 h 129960"/>
                <a:gd name="textAreaBottom" fmla="*/ 78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092320" y="3185640"/>
            <a:ext cx="171000" cy="174960"/>
            <a:chOff x="2092320" y="3185640"/>
            <a:chExt cx="171000" cy="174960"/>
          </a:xfrm>
        </p:grpSpPr>
        <p:sp>
          <p:nvSpPr>
            <p:cNvPr id="375" name="AutoShape 912"/>
            <p:cNvSpPr/>
            <p:nvPr/>
          </p:nvSpPr>
          <p:spPr>
            <a:xfrm rot="7028400">
              <a:off x="2111040" y="3211200"/>
              <a:ext cx="133200" cy="123840"/>
            </a:xfrm>
            <a:custGeom>
              <a:avLst/>
              <a:gdLst>
                <a:gd name="textAreaLeft" fmla="*/ 50040 w 133200"/>
                <a:gd name="textAreaRight" fmla="*/ 83160 w 13320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AutoShape 913"/>
            <p:cNvSpPr/>
            <p:nvPr/>
          </p:nvSpPr>
          <p:spPr>
            <a:xfrm rot="4509000">
              <a:off x="2117880" y="3206160"/>
              <a:ext cx="120960" cy="12996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1840 h 129960"/>
                <a:gd name="textAreaBottom" fmla="*/ 78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702160" y="3206160"/>
            <a:ext cx="114480" cy="117720"/>
            <a:chOff x="2702160" y="3206160"/>
            <a:chExt cx="114480" cy="117720"/>
          </a:xfrm>
        </p:grpSpPr>
        <p:sp>
          <p:nvSpPr>
            <p:cNvPr id="378" name="AutoShape 915"/>
            <p:cNvSpPr/>
            <p:nvPr/>
          </p:nvSpPr>
          <p:spPr>
            <a:xfrm rot="7028400">
              <a:off x="2714040" y="3223440"/>
              <a:ext cx="90360" cy="82440"/>
            </a:xfrm>
            <a:custGeom>
              <a:avLst/>
              <a:gdLst>
                <a:gd name="textAreaLeft" fmla="*/ 33840 w 90360"/>
                <a:gd name="textAreaRight" fmla="*/ 56520 w 9036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AutoShape 916"/>
            <p:cNvSpPr/>
            <p:nvPr/>
          </p:nvSpPr>
          <p:spPr>
            <a:xfrm rot="4509000">
              <a:off x="2719800" y="3219840"/>
              <a:ext cx="80640" cy="8820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5280 h 88200"/>
                <a:gd name="textAreaBottom" fmla="*/ 52920 h 8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757600" y="3492000"/>
            <a:ext cx="171000" cy="174960"/>
            <a:chOff x="2757600" y="3492000"/>
            <a:chExt cx="171000" cy="174960"/>
          </a:xfrm>
        </p:grpSpPr>
        <p:sp>
          <p:nvSpPr>
            <p:cNvPr id="381" name="AutoShape 918"/>
            <p:cNvSpPr/>
            <p:nvPr/>
          </p:nvSpPr>
          <p:spPr>
            <a:xfrm rot="7028400">
              <a:off x="2776320" y="3517560"/>
              <a:ext cx="133200" cy="123840"/>
            </a:xfrm>
            <a:custGeom>
              <a:avLst/>
              <a:gdLst>
                <a:gd name="textAreaLeft" fmla="*/ 50040 w 133200"/>
                <a:gd name="textAreaRight" fmla="*/ 83160 w 13320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AutoShape 919"/>
            <p:cNvSpPr/>
            <p:nvPr/>
          </p:nvSpPr>
          <p:spPr>
            <a:xfrm rot="4509000">
              <a:off x="2783160" y="3512520"/>
              <a:ext cx="120960" cy="12996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1840 h 129960"/>
                <a:gd name="textAreaBottom" fmla="*/ 78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265480" y="3950280"/>
            <a:ext cx="113760" cy="116640"/>
            <a:chOff x="2265480" y="3950280"/>
            <a:chExt cx="113760" cy="116640"/>
          </a:xfrm>
        </p:grpSpPr>
        <p:sp>
          <p:nvSpPr>
            <p:cNvPr id="384" name="AutoShape 921"/>
            <p:cNvSpPr/>
            <p:nvPr/>
          </p:nvSpPr>
          <p:spPr>
            <a:xfrm rot="7028400">
              <a:off x="2277720" y="3967200"/>
              <a:ext cx="88920" cy="82440"/>
            </a:xfrm>
            <a:custGeom>
              <a:avLst/>
              <a:gdLst>
                <a:gd name="textAreaLeft" fmla="*/ 33480 w 88920"/>
                <a:gd name="textAreaRight" fmla="*/ 55440 w 8892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AutoShape 922"/>
            <p:cNvSpPr/>
            <p:nvPr/>
          </p:nvSpPr>
          <p:spPr>
            <a:xfrm rot="4509000">
              <a:off x="2282400" y="3963600"/>
              <a:ext cx="80640" cy="8676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4560 h 86760"/>
                <a:gd name="textAreaBottom" fmla="*/ 52200 h 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8174880" y="1287360"/>
            <a:ext cx="121680" cy="120960"/>
            <a:chOff x="8174880" y="1287360"/>
            <a:chExt cx="121680" cy="120960"/>
          </a:xfrm>
        </p:grpSpPr>
        <p:sp>
          <p:nvSpPr>
            <p:cNvPr id="387" name="AutoShape 24"/>
            <p:cNvSpPr/>
            <p:nvPr/>
          </p:nvSpPr>
          <p:spPr>
            <a:xfrm rot="19020000">
              <a:off x="8191080" y="1306080"/>
              <a:ext cx="88920" cy="82800"/>
            </a:xfrm>
            <a:custGeom>
              <a:avLst/>
              <a:gdLst>
                <a:gd name="textAreaLeft" fmla="*/ 33480 w 88920"/>
                <a:gd name="textAreaRight" fmla="*/ 55440 w 88920"/>
                <a:gd name="textAreaTop" fmla="*/ 30960 h 82800"/>
                <a:gd name="textAreaBottom" fmla="*/ 51840 h 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AutoShape 25"/>
            <p:cNvSpPr/>
            <p:nvPr/>
          </p:nvSpPr>
          <p:spPr>
            <a:xfrm rot="16500000">
              <a:off x="8194320" y="1305000"/>
              <a:ext cx="81000" cy="86760"/>
            </a:xfrm>
            <a:custGeom>
              <a:avLst/>
              <a:gdLst>
                <a:gd name="textAreaLeft" fmla="*/ 32400 w 81000"/>
                <a:gd name="textAreaRight" fmla="*/ 48600 w 81000"/>
                <a:gd name="textAreaTop" fmla="*/ 34560 h 86760"/>
                <a:gd name="textAreaBottom" fmla="*/ 52200 h 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8410320" y="2096280"/>
            <a:ext cx="183240" cy="182880"/>
            <a:chOff x="8410320" y="2096280"/>
            <a:chExt cx="183240" cy="182880"/>
          </a:xfrm>
        </p:grpSpPr>
        <p:sp>
          <p:nvSpPr>
            <p:cNvPr id="390" name="AutoShape 51"/>
            <p:cNvSpPr/>
            <p:nvPr/>
          </p:nvSpPr>
          <p:spPr>
            <a:xfrm rot="19020000">
              <a:off x="8434080" y="2125440"/>
              <a:ext cx="135000" cy="123840"/>
            </a:xfrm>
            <a:custGeom>
              <a:avLst/>
              <a:gdLst>
                <a:gd name="textAreaLeft" fmla="*/ 50760 w 135000"/>
                <a:gd name="textAreaRight" fmla="*/ 84240 w 13500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AutoShape 52"/>
            <p:cNvSpPr/>
            <p:nvPr/>
          </p:nvSpPr>
          <p:spPr>
            <a:xfrm rot="16500000">
              <a:off x="8439840" y="2123280"/>
              <a:ext cx="120960" cy="13176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2560 h 131760"/>
                <a:gd name="textAreaBottom" fmla="*/ 7920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8333640" y="1184040"/>
            <a:ext cx="182160" cy="181800"/>
            <a:chOff x="8333640" y="1184040"/>
            <a:chExt cx="182160" cy="181800"/>
          </a:xfrm>
        </p:grpSpPr>
        <p:sp>
          <p:nvSpPr>
            <p:cNvPr id="393" name="AutoShape 146"/>
            <p:cNvSpPr/>
            <p:nvPr/>
          </p:nvSpPr>
          <p:spPr>
            <a:xfrm rot="19020000">
              <a:off x="8357760" y="1212840"/>
              <a:ext cx="133560" cy="123840"/>
            </a:xfrm>
            <a:custGeom>
              <a:avLst/>
              <a:gdLst>
                <a:gd name="textAreaLeft" fmla="*/ 50040 w 133560"/>
                <a:gd name="textAreaRight" fmla="*/ 83520 w 13356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AutoShape 147"/>
            <p:cNvSpPr/>
            <p:nvPr/>
          </p:nvSpPr>
          <p:spPr>
            <a:xfrm rot="16500000">
              <a:off x="8362800" y="1211040"/>
              <a:ext cx="120960" cy="13032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1840 h 130320"/>
                <a:gd name="textAreaBottom" fmla="*/ 7848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8372520" y="1769400"/>
            <a:ext cx="122400" cy="121680"/>
            <a:chOff x="8372520" y="1769400"/>
            <a:chExt cx="122400" cy="121680"/>
          </a:xfrm>
        </p:grpSpPr>
        <p:sp>
          <p:nvSpPr>
            <p:cNvPr id="396" name="AutoShape 149"/>
            <p:cNvSpPr/>
            <p:nvPr/>
          </p:nvSpPr>
          <p:spPr>
            <a:xfrm rot="19020000">
              <a:off x="8388360" y="1788840"/>
              <a:ext cx="90360" cy="82440"/>
            </a:xfrm>
            <a:custGeom>
              <a:avLst/>
              <a:gdLst>
                <a:gd name="textAreaLeft" fmla="*/ 33840 w 90360"/>
                <a:gd name="textAreaRight" fmla="*/ 56520 w 9036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AutoShape 150"/>
            <p:cNvSpPr/>
            <p:nvPr/>
          </p:nvSpPr>
          <p:spPr>
            <a:xfrm rot="16500000">
              <a:off x="8391960" y="1787040"/>
              <a:ext cx="80640" cy="8820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5280 h 88200"/>
                <a:gd name="textAreaBottom" fmla="*/ 52920 h 8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529760" y="1146600"/>
            <a:ext cx="181800" cy="181440"/>
            <a:chOff x="7529760" y="1146600"/>
            <a:chExt cx="181800" cy="181440"/>
          </a:xfrm>
        </p:grpSpPr>
        <p:sp>
          <p:nvSpPr>
            <p:cNvPr id="399" name="AutoShape 179"/>
            <p:cNvSpPr/>
            <p:nvPr/>
          </p:nvSpPr>
          <p:spPr>
            <a:xfrm rot="19020000">
              <a:off x="7553160" y="1176120"/>
              <a:ext cx="135000" cy="122040"/>
            </a:xfrm>
            <a:custGeom>
              <a:avLst/>
              <a:gdLst>
                <a:gd name="textAreaLeft" fmla="*/ 50760 w 135000"/>
                <a:gd name="textAreaRight" fmla="*/ 84240 w 135000"/>
                <a:gd name="textAreaTop" fmla="*/ 45720 h 122040"/>
                <a:gd name="textAreaBottom" fmla="*/ 7632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AutoShape 180"/>
            <p:cNvSpPr/>
            <p:nvPr/>
          </p:nvSpPr>
          <p:spPr>
            <a:xfrm rot="16500000">
              <a:off x="7560000" y="1172880"/>
              <a:ext cx="119160" cy="131760"/>
            </a:xfrm>
            <a:custGeom>
              <a:avLst/>
              <a:gdLst>
                <a:gd name="textAreaLeft" fmla="*/ 47520 w 119160"/>
                <a:gd name="textAreaRight" fmla="*/ 71640 w 119160"/>
                <a:gd name="textAreaTop" fmla="*/ 52560 h 131760"/>
                <a:gd name="textAreaBottom" fmla="*/ 7920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647120" y="2566080"/>
            <a:ext cx="113760" cy="116640"/>
            <a:chOff x="7647120" y="2566080"/>
            <a:chExt cx="113760" cy="116640"/>
          </a:xfrm>
        </p:grpSpPr>
        <p:sp>
          <p:nvSpPr>
            <p:cNvPr id="402" name="AutoShape 208"/>
            <p:cNvSpPr/>
            <p:nvPr/>
          </p:nvSpPr>
          <p:spPr>
            <a:xfrm rot="7028400">
              <a:off x="7659360" y="2583000"/>
              <a:ext cx="88920" cy="82440"/>
            </a:xfrm>
            <a:custGeom>
              <a:avLst/>
              <a:gdLst>
                <a:gd name="textAreaLeft" fmla="*/ 33480 w 88920"/>
                <a:gd name="textAreaRight" fmla="*/ 55440 w 8892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209"/>
            <p:cNvSpPr/>
            <p:nvPr/>
          </p:nvSpPr>
          <p:spPr>
            <a:xfrm rot="4509000">
              <a:off x="7664040" y="2579400"/>
              <a:ext cx="80640" cy="8676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4560 h 86760"/>
                <a:gd name="textAreaBottom" fmla="*/ 52200 h 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770240" y="1921320"/>
            <a:ext cx="114480" cy="117000"/>
            <a:chOff x="7770240" y="1921320"/>
            <a:chExt cx="114480" cy="117000"/>
          </a:xfrm>
        </p:grpSpPr>
        <p:sp>
          <p:nvSpPr>
            <p:cNvPr id="405" name="AutoShape 291"/>
            <p:cNvSpPr/>
            <p:nvPr/>
          </p:nvSpPr>
          <p:spPr>
            <a:xfrm rot="1646400">
              <a:off x="7786080" y="1935360"/>
              <a:ext cx="82800" cy="88920"/>
            </a:xfrm>
            <a:custGeom>
              <a:avLst/>
              <a:gdLst>
                <a:gd name="textAreaLeft" fmla="*/ 30960 w 82800"/>
                <a:gd name="textAreaRight" fmla="*/ 51840 w 82800"/>
                <a:gd name="textAreaTop" fmla="*/ 33480 h 88920"/>
                <a:gd name="textAreaBottom" fmla="*/ 5544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AutoShape 292"/>
            <p:cNvSpPr/>
            <p:nvPr/>
          </p:nvSpPr>
          <p:spPr>
            <a:xfrm rot="20727000">
              <a:off x="7783200" y="1938960"/>
              <a:ext cx="86760" cy="81000"/>
            </a:xfrm>
            <a:custGeom>
              <a:avLst/>
              <a:gdLst>
                <a:gd name="textAreaLeft" fmla="*/ 34560 w 86760"/>
                <a:gd name="textAreaRight" fmla="*/ 52200 w 86760"/>
                <a:gd name="textAreaTop" fmla="*/ 32400 h 81000"/>
                <a:gd name="textAreaBottom" fmla="*/ 48600 h 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827480" y="1309680"/>
            <a:ext cx="171360" cy="175680"/>
            <a:chOff x="7827480" y="1309680"/>
            <a:chExt cx="171360" cy="175680"/>
          </a:xfrm>
        </p:grpSpPr>
        <p:sp>
          <p:nvSpPr>
            <p:cNvPr id="408" name="AutoShape 300"/>
            <p:cNvSpPr/>
            <p:nvPr/>
          </p:nvSpPr>
          <p:spPr>
            <a:xfrm rot="1646400">
              <a:off x="7851240" y="1330560"/>
              <a:ext cx="123840" cy="133560"/>
            </a:xfrm>
            <a:custGeom>
              <a:avLst/>
              <a:gdLst>
                <a:gd name="textAreaLeft" fmla="*/ 46440 w 123840"/>
                <a:gd name="textAreaRight" fmla="*/ 77400 w 123840"/>
                <a:gd name="textAreaTop" fmla="*/ 50040 h 133560"/>
                <a:gd name="textAreaBottom" fmla="*/ 83520 h 1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AutoShape 301"/>
            <p:cNvSpPr/>
            <p:nvPr/>
          </p:nvSpPr>
          <p:spPr>
            <a:xfrm rot="20727000">
              <a:off x="7846560" y="1335960"/>
              <a:ext cx="130320" cy="120960"/>
            </a:xfrm>
            <a:custGeom>
              <a:avLst/>
              <a:gdLst>
                <a:gd name="textAreaLeft" fmla="*/ 51840 w 130320"/>
                <a:gd name="textAreaRight" fmla="*/ 78480 w 130320"/>
                <a:gd name="textAreaTop" fmla="*/ 48240 h 120960"/>
                <a:gd name="textAreaBottom" fmla="*/ 72720 h 1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7653600" y="1594080"/>
            <a:ext cx="113760" cy="116640"/>
            <a:chOff x="7653600" y="1594080"/>
            <a:chExt cx="113760" cy="116640"/>
          </a:xfrm>
        </p:grpSpPr>
        <p:sp>
          <p:nvSpPr>
            <p:cNvPr id="411" name="AutoShape 303"/>
            <p:cNvSpPr/>
            <p:nvPr/>
          </p:nvSpPr>
          <p:spPr>
            <a:xfrm rot="1646400">
              <a:off x="7669080" y="1607760"/>
              <a:ext cx="82440" cy="88560"/>
            </a:xfrm>
            <a:custGeom>
              <a:avLst/>
              <a:gdLst>
                <a:gd name="textAreaLeft" fmla="*/ 30960 w 82440"/>
                <a:gd name="textAreaRight" fmla="*/ 51480 w 82440"/>
                <a:gd name="textAreaTop" fmla="*/ 33120 h 88560"/>
                <a:gd name="textAreaBottom" fmla="*/ 5544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AutoShape 304"/>
            <p:cNvSpPr/>
            <p:nvPr/>
          </p:nvSpPr>
          <p:spPr>
            <a:xfrm rot="20727000">
              <a:off x="7665840" y="1612080"/>
              <a:ext cx="86400" cy="80640"/>
            </a:xfrm>
            <a:custGeom>
              <a:avLst/>
              <a:gdLst>
                <a:gd name="textAreaLeft" fmla="*/ 34560 w 86400"/>
                <a:gd name="textAreaRight" fmla="*/ 51840 w 86400"/>
                <a:gd name="textAreaTop" fmla="*/ 32040 h 80640"/>
                <a:gd name="textAreaBottom" fmla="*/ 48600 h 8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7196040" y="1078560"/>
            <a:ext cx="172080" cy="176760"/>
            <a:chOff x="7196040" y="1078560"/>
            <a:chExt cx="172080" cy="176760"/>
          </a:xfrm>
        </p:grpSpPr>
        <p:sp>
          <p:nvSpPr>
            <p:cNvPr id="414" name="AutoShape 309"/>
            <p:cNvSpPr/>
            <p:nvPr/>
          </p:nvSpPr>
          <p:spPr>
            <a:xfrm rot="1646400">
              <a:off x="7220160" y="1099440"/>
              <a:ext cx="123840" cy="135000"/>
            </a:xfrm>
            <a:custGeom>
              <a:avLst/>
              <a:gdLst>
                <a:gd name="textAreaLeft" fmla="*/ 46440 w 123840"/>
                <a:gd name="textAreaRight" fmla="*/ 77400 w 123840"/>
                <a:gd name="textAreaTop" fmla="*/ 50760 h 135000"/>
                <a:gd name="textAreaBottom" fmla="*/ 84240 h 13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AutoShape 310"/>
            <p:cNvSpPr/>
            <p:nvPr/>
          </p:nvSpPr>
          <p:spPr>
            <a:xfrm rot="20727000">
              <a:off x="7214400" y="1105200"/>
              <a:ext cx="131760" cy="120960"/>
            </a:xfrm>
            <a:custGeom>
              <a:avLst/>
              <a:gdLst>
                <a:gd name="textAreaLeft" fmla="*/ 52560 w 131760"/>
                <a:gd name="textAreaRight" fmla="*/ 79200 w 131760"/>
                <a:gd name="textAreaTop" fmla="*/ 48240 h 120960"/>
                <a:gd name="textAreaBottom" fmla="*/ 72720 h 1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8532360" y="1579320"/>
            <a:ext cx="171360" cy="175680"/>
            <a:chOff x="8532360" y="1579320"/>
            <a:chExt cx="171360" cy="175680"/>
          </a:xfrm>
        </p:grpSpPr>
        <p:sp>
          <p:nvSpPr>
            <p:cNvPr id="417" name="AutoShape 312"/>
            <p:cNvSpPr/>
            <p:nvPr/>
          </p:nvSpPr>
          <p:spPr>
            <a:xfrm rot="1646400">
              <a:off x="8556120" y="1600200"/>
              <a:ext cx="123840" cy="133560"/>
            </a:xfrm>
            <a:custGeom>
              <a:avLst/>
              <a:gdLst>
                <a:gd name="textAreaLeft" fmla="*/ 46440 w 123840"/>
                <a:gd name="textAreaRight" fmla="*/ 77400 w 123840"/>
                <a:gd name="textAreaTop" fmla="*/ 50040 h 133560"/>
                <a:gd name="textAreaBottom" fmla="*/ 83520 h 1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AutoShape 313"/>
            <p:cNvSpPr/>
            <p:nvPr/>
          </p:nvSpPr>
          <p:spPr>
            <a:xfrm rot="20727000">
              <a:off x="8551440" y="1605600"/>
              <a:ext cx="130320" cy="120960"/>
            </a:xfrm>
            <a:custGeom>
              <a:avLst/>
              <a:gdLst>
                <a:gd name="textAreaLeft" fmla="*/ 51840 w 130320"/>
                <a:gd name="textAreaRight" fmla="*/ 78480 w 130320"/>
                <a:gd name="textAreaTop" fmla="*/ 48240 h 120960"/>
                <a:gd name="textAreaBottom" fmla="*/ 72720 h 1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8138160" y="1507680"/>
            <a:ext cx="114840" cy="118080"/>
            <a:chOff x="8138160" y="1507680"/>
            <a:chExt cx="114840" cy="118080"/>
          </a:xfrm>
        </p:grpSpPr>
        <p:sp>
          <p:nvSpPr>
            <p:cNvPr id="420" name="AutoShape 315"/>
            <p:cNvSpPr/>
            <p:nvPr/>
          </p:nvSpPr>
          <p:spPr>
            <a:xfrm rot="1646400">
              <a:off x="8154360" y="1521360"/>
              <a:ext cx="82440" cy="90360"/>
            </a:xfrm>
            <a:custGeom>
              <a:avLst/>
              <a:gdLst>
                <a:gd name="textAreaLeft" fmla="*/ 30960 w 82440"/>
                <a:gd name="textAreaRight" fmla="*/ 51480 w 82440"/>
                <a:gd name="textAreaTop" fmla="*/ 33840 h 90360"/>
                <a:gd name="textAreaBottom" fmla="*/ 56520 h 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AutoShape 316"/>
            <p:cNvSpPr/>
            <p:nvPr/>
          </p:nvSpPr>
          <p:spPr>
            <a:xfrm rot="20727000">
              <a:off x="8150040" y="1526040"/>
              <a:ext cx="88200" cy="80640"/>
            </a:xfrm>
            <a:custGeom>
              <a:avLst/>
              <a:gdLst>
                <a:gd name="textAreaLeft" fmla="*/ 35280 w 88200"/>
                <a:gd name="textAreaRight" fmla="*/ 52920 w 88200"/>
                <a:gd name="textAreaTop" fmla="*/ 32040 h 80640"/>
                <a:gd name="textAreaBottom" fmla="*/ 48600 h 8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8294400" y="2175120"/>
            <a:ext cx="114120" cy="117000"/>
            <a:chOff x="8294400" y="2175120"/>
            <a:chExt cx="114120" cy="117000"/>
          </a:xfrm>
        </p:grpSpPr>
        <p:sp>
          <p:nvSpPr>
            <p:cNvPr id="423" name="AutoShape 330"/>
            <p:cNvSpPr/>
            <p:nvPr/>
          </p:nvSpPr>
          <p:spPr>
            <a:xfrm rot="1646400">
              <a:off x="8310240" y="2188800"/>
              <a:ext cx="82440" cy="88920"/>
            </a:xfrm>
            <a:custGeom>
              <a:avLst/>
              <a:gdLst>
                <a:gd name="textAreaLeft" fmla="*/ 30960 w 82440"/>
                <a:gd name="textAreaRight" fmla="*/ 51480 w 82440"/>
                <a:gd name="textAreaTop" fmla="*/ 33480 h 88920"/>
                <a:gd name="textAreaBottom" fmla="*/ 5544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AutoShape 331"/>
            <p:cNvSpPr/>
            <p:nvPr/>
          </p:nvSpPr>
          <p:spPr>
            <a:xfrm rot="20727000">
              <a:off x="8307000" y="2193120"/>
              <a:ext cx="86760" cy="80640"/>
            </a:xfrm>
            <a:custGeom>
              <a:avLst/>
              <a:gdLst>
                <a:gd name="textAreaLeft" fmla="*/ 34560 w 86760"/>
                <a:gd name="textAreaRight" fmla="*/ 52200 w 86760"/>
                <a:gd name="textAreaTop" fmla="*/ 32040 h 80640"/>
                <a:gd name="textAreaBottom" fmla="*/ 48600 h 8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8413560" y="1342080"/>
            <a:ext cx="172080" cy="176760"/>
            <a:chOff x="8413560" y="1342080"/>
            <a:chExt cx="172080" cy="176760"/>
          </a:xfrm>
        </p:grpSpPr>
        <p:sp>
          <p:nvSpPr>
            <p:cNvPr id="426" name="AutoShape 333"/>
            <p:cNvSpPr/>
            <p:nvPr/>
          </p:nvSpPr>
          <p:spPr>
            <a:xfrm rot="1646400">
              <a:off x="8437680" y="1362960"/>
              <a:ext cx="123840" cy="135000"/>
            </a:xfrm>
            <a:custGeom>
              <a:avLst/>
              <a:gdLst>
                <a:gd name="textAreaLeft" fmla="*/ 46440 w 123840"/>
                <a:gd name="textAreaRight" fmla="*/ 77400 w 123840"/>
                <a:gd name="textAreaTop" fmla="*/ 50760 h 135000"/>
                <a:gd name="textAreaBottom" fmla="*/ 84240 h 13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AutoShape 334"/>
            <p:cNvSpPr/>
            <p:nvPr/>
          </p:nvSpPr>
          <p:spPr>
            <a:xfrm rot="20727000">
              <a:off x="8431920" y="1368720"/>
              <a:ext cx="131760" cy="120960"/>
            </a:xfrm>
            <a:custGeom>
              <a:avLst/>
              <a:gdLst>
                <a:gd name="textAreaLeft" fmla="*/ 52560 w 131760"/>
                <a:gd name="textAreaRight" fmla="*/ 79200 w 131760"/>
                <a:gd name="textAreaTop" fmla="*/ 48240 h 120960"/>
                <a:gd name="textAreaBottom" fmla="*/ 72720 h 1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8304120" y="1567440"/>
            <a:ext cx="172080" cy="176760"/>
            <a:chOff x="8304120" y="1567440"/>
            <a:chExt cx="172080" cy="176760"/>
          </a:xfrm>
        </p:grpSpPr>
        <p:sp>
          <p:nvSpPr>
            <p:cNvPr id="429" name="AutoShape 336"/>
            <p:cNvSpPr/>
            <p:nvPr/>
          </p:nvSpPr>
          <p:spPr>
            <a:xfrm rot="1646400">
              <a:off x="8328240" y="1588320"/>
              <a:ext cx="123840" cy="135000"/>
            </a:xfrm>
            <a:custGeom>
              <a:avLst/>
              <a:gdLst>
                <a:gd name="textAreaLeft" fmla="*/ 46440 w 123840"/>
                <a:gd name="textAreaRight" fmla="*/ 77400 w 123840"/>
                <a:gd name="textAreaTop" fmla="*/ 50760 h 135000"/>
                <a:gd name="textAreaBottom" fmla="*/ 84240 h 13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AutoShape 337"/>
            <p:cNvSpPr/>
            <p:nvPr/>
          </p:nvSpPr>
          <p:spPr>
            <a:xfrm rot="20727000">
              <a:off x="8322480" y="1594080"/>
              <a:ext cx="131760" cy="120960"/>
            </a:xfrm>
            <a:custGeom>
              <a:avLst/>
              <a:gdLst>
                <a:gd name="textAreaLeft" fmla="*/ 52560 w 131760"/>
                <a:gd name="textAreaRight" fmla="*/ 79200 w 131760"/>
                <a:gd name="textAreaTop" fmla="*/ 48240 h 120960"/>
                <a:gd name="textAreaBottom" fmla="*/ 72720 h 1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8121240" y="1756080"/>
            <a:ext cx="114120" cy="117000"/>
            <a:chOff x="8121240" y="1756080"/>
            <a:chExt cx="114120" cy="117000"/>
          </a:xfrm>
        </p:grpSpPr>
        <p:sp>
          <p:nvSpPr>
            <p:cNvPr id="432" name="AutoShape 342"/>
            <p:cNvSpPr/>
            <p:nvPr/>
          </p:nvSpPr>
          <p:spPr>
            <a:xfrm rot="1646400">
              <a:off x="8137080" y="1769760"/>
              <a:ext cx="82440" cy="88920"/>
            </a:xfrm>
            <a:custGeom>
              <a:avLst/>
              <a:gdLst>
                <a:gd name="textAreaLeft" fmla="*/ 30960 w 82440"/>
                <a:gd name="textAreaRight" fmla="*/ 51480 w 82440"/>
                <a:gd name="textAreaTop" fmla="*/ 33480 h 88920"/>
                <a:gd name="textAreaBottom" fmla="*/ 5544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AutoShape 343"/>
            <p:cNvSpPr/>
            <p:nvPr/>
          </p:nvSpPr>
          <p:spPr>
            <a:xfrm rot="20727000">
              <a:off x="8133840" y="1774080"/>
              <a:ext cx="86760" cy="80640"/>
            </a:xfrm>
            <a:custGeom>
              <a:avLst/>
              <a:gdLst>
                <a:gd name="textAreaLeft" fmla="*/ 34560 w 86760"/>
                <a:gd name="textAreaRight" fmla="*/ 52200 w 86760"/>
                <a:gd name="textAreaTop" fmla="*/ 32040 h 80640"/>
                <a:gd name="textAreaBottom" fmla="*/ 48600 h 8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8413560" y="1342080"/>
            <a:ext cx="172080" cy="176760"/>
            <a:chOff x="8413560" y="1342080"/>
            <a:chExt cx="172080" cy="176760"/>
          </a:xfrm>
        </p:grpSpPr>
        <p:sp>
          <p:nvSpPr>
            <p:cNvPr id="435" name="AutoShape 345"/>
            <p:cNvSpPr/>
            <p:nvPr/>
          </p:nvSpPr>
          <p:spPr>
            <a:xfrm rot="1646400">
              <a:off x="8437680" y="1362960"/>
              <a:ext cx="123840" cy="135000"/>
            </a:xfrm>
            <a:custGeom>
              <a:avLst/>
              <a:gdLst>
                <a:gd name="textAreaLeft" fmla="*/ 46440 w 123840"/>
                <a:gd name="textAreaRight" fmla="*/ 77400 w 123840"/>
                <a:gd name="textAreaTop" fmla="*/ 50760 h 135000"/>
                <a:gd name="textAreaBottom" fmla="*/ 84240 h 13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AutoShape 346"/>
            <p:cNvSpPr/>
            <p:nvPr/>
          </p:nvSpPr>
          <p:spPr>
            <a:xfrm rot="20727000">
              <a:off x="8431920" y="1368720"/>
              <a:ext cx="131760" cy="120960"/>
            </a:xfrm>
            <a:custGeom>
              <a:avLst/>
              <a:gdLst>
                <a:gd name="textAreaLeft" fmla="*/ 52560 w 131760"/>
                <a:gd name="textAreaRight" fmla="*/ 79200 w 131760"/>
                <a:gd name="textAreaTop" fmla="*/ 48240 h 120960"/>
                <a:gd name="textAreaBottom" fmla="*/ 72720 h 1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297200" y="1667160"/>
            <a:ext cx="340920" cy="349920"/>
            <a:chOff x="7297200" y="1667160"/>
            <a:chExt cx="340920" cy="349920"/>
          </a:xfrm>
        </p:grpSpPr>
        <p:sp>
          <p:nvSpPr>
            <p:cNvPr id="438" name="AutoShape 348"/>
            <p:cNvSpPr/>
            <p:nvPr/>
          </p:nvSpPr>
          <p:spPr>
            <a:xfrm rot="1646400">
              <a:off x="7344360" y="1708560"/>
              <a:ext cx="245880" cy="266760"/>
            </a:xfrm>
            <a:custGeom>
              <a:avLst/>
              <a:gdLst>
                <a:gd name="textAreaLeft" fmla="*/ 92520 w 245880"/>
                <a:gd name="textAreaRight" fmla="*/ 153360 w 245880"/>
                <a:gd name="textAreaTop" fmla="*/ 100440 h 266760"/>
                <a:gd name="textAreaBottom" fmla="*/ 16632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AutoShape 349"/>
            <p:cNvSpPr/>
            <p:nvPr/>
          </p:nvSpPr>
          <p:spPr>
            <a:xfrm rot="20727000">
              <a:off x="7333200" y="1721160"/>
              <a:ext cx="259920" cy="239760"/>
            </a:xfrm>
            <a:custGeom>
              <a:avLst/>
              <a:gdLst>
                <a:gd name="textAreaLeft" fmla="*/ 103680 w 259920"/>
                <a:gd name="textAreaRight" fmla="*/ 156240 w 259920"/>
                <a:gd name="textAreaTop" fmla="*/ 95760 h 239760"/>
                <a:gd name="textAreaBottom" fmla="*/ 14400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cc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422680" y="2036520"/>
            <a:ext cx="180720" cy="180360"/>
            <a:chOff x="5422680" y="2036520"/>
            <a:chExt cx="180720" cy="180360"/>
          </a:xfrm>
        </p:grpSpPr>
        <p:sp>
          <p:nvSpPr>
            <p:cNvPr id="441" name="AutoShape 60"/>
            <p:cNvSpPr/>
            <p:nvPr/>
          </p:nvSpPr>
          <p:spPr>
            <a:xfrm rot="19020000">
              <a:off x="5446440" y="2065320"/>
              <a:ext cx="133200" cy="122400"/>
            </a:xfrm>
            <a:custGeom>
              <a:avLst/>
              <a:gdLst>
                <a:gd name="textAreaLeft" fmla="*/ 50040 w 133200"/>
                <a:gd name="textAreaRight" fmla="*/ 83160 w 133200"/>
                <a:gd name="textAreaTop" fmla="*/ 46080 h 122400"/>
                <a:gd name="textAreaBottom" fmla="*/ 7632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AutoShape 61"/>
            <p:cNvSpPr/>
            <p:nvPr/>
          </p:nvSpPr>
          <p:spPr>
            <a:xfrm rot="16500000">
              <a:off x="5452200" y="2063160"/>
              <a:ext cx="119520" cy="129960"/>
            </a:xfrm>
            <a:custGeom>
              <a:avLst/>
              <a:gdLst>
                <a:gd name="textAreaLeft" fmla="*/ 47520 w 119520"/>
                <a:gd name="textAreaRight" fmla="*/ 72000 w 119520"/>
                <a:gd name="textAreaTop" fmla="*/ 51840 h 129960"/>
                <a:gd name="textAreaBottom" fmla="*/ 78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514120" y="2620800"/>
            <a:ext cx="121680" cy="120960"/>
            <a:chOff x="5514120" y="2620800"/>
            <a:chExt cx="121680" cy="120960"/>
          </a:xfrm>
        </p:grpSpPr>
        <p:sp>
          <p:nvSpPr>
            <p:cNvPr id="444" name="AutoShape 63"/>
            <p:cNvSpPr/>
            <p:nvPr/>
          </p:nvSpPr>
          <p:spPr>
            <a:xfrm rot="19020000">
              <a:off x="5530320" y="2639520"/>
              <a:ext cx="88920" cy="82800"/>
            </a:xfrm>
            <a:custGeom>
              <a:avLst/>
              <a:gdLst>
                <a:gd name="textAreaLeft" fmla="*/ 33480 w 88920"/>
                <a:gd name="textAreaRight" fmla="*/ 55440 w 88920"/>
                <a:gd name="textAreaTop" fmla="*/ 30960 h 82800"/>
                <a:gd name="textAreaBottom" fmla="*/ 51840 h 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AutoShape 64"/>
            <p:cNvSpPr/>
            <p:nvPr/>
          </p:nvSpPr>
          <p:spPr>
            <a:xfrm rot="16500000">
              <a:off x="5533560" y="2638440"/>
              <a:ext cx="81000" cy="86760"/>
            </a:xfrm>
            <a:custGeom>
              <a:avLst/>
              <a:gdLst>
                <a:gd name="textAreaLeft" fmla="*/ 32400 w 81000"/>
                <a:gd name="textAreaRight" fmla="*/ 48600 w 81000"/>
                <a:gd name="textAreaTop" fmla="*/ 34560 h 86760"/>
                <a:gd name="textAreaBottom" fmla="*/ 52200 h 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5175000" y="1472400"/>
            <a:ext cx="362880" cy="361440"/>
            <a:chOff x="5175000" y="1472400"/>
            <a:chExt cx="362880" cy="361440"/>
          </a:xfrm>
        </p:grpSpPr>
        <p:sp>
          <p:nvSpPr>
            <p:cNvPr id="447" name="AutoShape 66"/>
            <p:cNvSpPr/>
            <p:nvPr/>
          </p:nvSpPr>
          <p:spPr>
            <a:xfrm rot="19020000">
              <a:off x="5222880" y="1530000"/>
              <a:ext cx="266760" cy="245880"/>
            </a:xfrm>
            <a:custGeom>
              <a:avLst/>
              <a:gdLst>
                <a:gd name="textAreaLeft" fmla="*/ 100440 w 266760"/>
                <a:gd name="textAreaRight" fmla="*/ 166320 w 266760"/>
                <a:gd name="textAreaTop" fmla="*/ 92520 h 245880"/>
                <a:gd name="textAreaBottom" fmla="*/ 15336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AutoShape 67"/>
            <p:cNvSpPr/>
            <p:nvPr/>
          </p:nvSpPr>
          <p:spPr>
            <a:xfrm rot="16500000">
              <a:off x="5233320" y="1526400"/>
              <a:ext cx="239760" cy="259920"/>
            </a:xfrm>
            <a:custGeom>
              <a:avLst/>
              <a:gdLst>
                <a:gd name="textAreaLeft" fmla="*/ 95760 w 239760"/>
                <a:gd name="textAreaRight" fmla="*/ 144000 w 239760"/>
                <a:gd name="textAreaTop" fmla="*/ 103680 h 259920"/>
                <a:gd name="textAreaBottom" fmla="*/ 15624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cc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618800" y="1998360"/>
            <a:ext cx="182160" cy="181800"/>
            <a:chOff x="4618800" y="1998360"/>
            <a:chExt cx="182160" cy="181800"/>
          </a:xfrm>
        </p:grpSpPr>
        <p:sp>
          <p:nvSpPr>
            <p:cNvPr id="450" name="AutoShape 93"/>
            <p:cNvSpPr/>
            <p:nvPr/>
          </p:nvSpPr>
          <p:spPr>
            <a:xfrm rot="19020000">
              <a:off x="4642920" y="2027160"/>
              <a:ext cx="133560" cy="123840"/>
            </a:xfrm>
            <a:custGeom>
              <a:avLst/>
              <a:gdLst>
                <a:gd name="textAreaLeft" fmla="*/ 50040 w 133560"/>
                <a:gd name="textAreaRight" fmla="*/ 83520 w 13356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AutoShape 94"/>
            <p:cNvSpPr/>
            <p:nvPr/>
          </p:nvSpPr>
          <p:spPr>
            <a:xfrm rot="16500000">
              <a:off x="4647960" y="2025360"/>
              <a:ext cx="120960" cy="13032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1840 h 130320"/>
                <a:gd name="textAreaBottom" fmla="*/ 7848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990680" y="1586880"/>
            <a:ext cx="181080" cy="180720"/>
            <a:chOff x="4990680" y="1586880"/>
            <a:chExt cx="181080" cy="180720"/>
          </a:xfrm>
        </p:grpSpPr>
        <p:sp>
          <p:nvSpPr>
            <p:cNvPr id="453" name="AutoShape 96"/>
            <p:cNvSpPr/>
            <p:nvPr/>
          </p:nvSpPr>
          <p:spPr>
            <a:xfrm rot="19020000">
              <a:off x="5014440" y="1615680"/>
              <a:ext cx="133560" cy="122400"/>
            </a:xfrm>
            <a:custGeom>
              <a:avLst/>
              <a:gdLst>
                <a:gd name="textAreaLeft" fmla="*/ 50040 w 133560"/>
                <a:gd name="textAreaRight" fmla="*/ 83520 w 133560"/>
                <a:gd name="textAreaTop" fmla="*/ 46080 h 122400"/>
                <a:gd name="textAreaBottom" fmla="*/ 7632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AutoShape 97"/>
            <p:cNvSpPr/>
            <p:nvPr/>
          </p:nvSpPr>
          <p:spPr>
            <a:xfrm rot="16500000">
              <a:off x="5020200" y="1613520"/>
              <a:ext cx="119520" cy="130320"/>
            </a:xfrm>
            <a:custGeom>
              <a:avLst/>
              <a:gdLst>
                <a:gd name="textAreaLeft" fmla="*/ 47520 w 119520"/>
                <a:gd name="textAreaRight" fmla="*/ 72000 w 119520"/>
                <a:gd name="textAreaTop" fmla="*/ 51840 h 130320"/>
                <a:gd name="textAreaBottom" fmla="*/ 7848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367520" y="2805120"/>
            <a:ext cx="170640" cy="174600"/>
            <a:chOff x="4367520" y="2805120"/>
            <a:chExt cx="170640" cy="174600"/>
          </a:xfrm>
        </p:grpSpPr>
        <p:sp>
          <p:nvSpPr>
            <p:cNvPr id="456" name="AutoShape 190"/>
            <p:cNvSpPr/>
            <p:nvPr/>
          </p:nvSpPr>
          <p:spPr>
            <a:xfrm rot="7028400">
              <a:off x="4385880" y="2830320"/>
              <a:ext cx="133200" cy="123480"/>
            </a:xfrm>
            <a:custGeom>
              <a:avLst/>
              <a:gdLst>
                <a:gd name="textAreaLeft" fmla="*/ 50040 w 133200"/>
                <a:gd name="textAreaRight" fmla="*/ 83160 w 133200"/>
                <a:gd name="textAreaTop" fmla="*/ 46440 h 123480"/>
                <a:gd name="textAreaBottom" fmla="*/ 77040 h 12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AutoShape 191"/>
            <p:cNvSpPr/>
            <p:nvPr/>
          </p:nvSpPr>
          <p:spPr>
            <a:xfrm rot="4509000">
              <a:off x="4392720" y="2824920"/>
              <a:ext cx="120600" cy="129960"/>
            </a:xfrm>
            <a:custGeom>
              <a:avLst/>
              <a:gdLst>
                <a:gd name="textAreaLeft" fmla="*/ 48240 w 120600"/>
                <a:gd name="textAreaRight" fmla="*/ 72360 w 120600"/>
                <a:gd name="textAreaTop" fmla="*/ 51840 h 129960"/>
                <a:gd name="textAreaBottom" fmla="*/ 78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AutoShape 398"/>
          <p:cNvSpPr/>
          <p:nvPr/>
        </p:nvSpPr>
        <p:spPr>
          <a:xfrm rot="19019400">
            <a:off x="6932520" y="1622520"/>
            <a:ext cx="90720" cy="82440"/>
          </a:xfrm>
          <a:custGeom>
            <a:avLst/>
            <a:gdLst>
              <a:gd name="textAreaLeft" fmla="*/ 34200 w 90720"/>
              <a:gd name="textAreaRight" fmla="*/ 56520 w 90720"/>
              <a:gd name="textAreaTop" fmla="*/ 30960 h 82440"/>
              <a:gd name="textAreaBottom" fmla="*/ 51480 h 82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24" y="8124"/>
                </a:lnTo>
                <a:lnTo>
                  <a:pt x="10800" y="0"/>
                </a:lnTo>
                <a:lnTo>
                  <a:pt x="13476" y="8124"/>
                </a:lnTo>
                <a:lnTo>
                  <a:pt x="21600" y="10800"/>
                </a:lnTo>
                <a:lnTo>
                  <a:pt x="13476" y="13476"/>
                </a:lnTo>
                <a:lnTo>
                  <a:pt x="10800" y="21600"/>
                </a:lnTo>
                <a:lnTo>
                  <a:pt x="8124" y="134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AutoShape 399"/>
          <p:cNvSpPr/>
          <p:nvPr/>
        </p:nvSpPr>
        <p:spPr>
          <a:xfrm rot="16500000">
            <a:off x="6935760" y="1620360"/>
            <a:ext cx="81000" cy="87480"/>
          </a:xfrm>
          <a:custGeom>
            <a:avLst/>
            <a:gdLst>
              <a:gd name="textAreaLeft" fmla="*/ 32400 w 81000"/>
              <a:gd name="textAreaRight" fmla="*/ 48600 w 81000"/>
              <a:gd name="textAreaTop" fmla="*/ 34920 h 87480"/>
              <a:gd name="textAreaBottom" fmla="*/ 52560 h 8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6" y="8616"/>
                </a:lnTo>
                <a:lnTo>
                  <a:pt x="10800" y="0"/>
                </a:lnTo>
                <a:lnTo>
                  <a:pt x="12984" y="8616"/>
                </a:lnTo>
                <a:lnTo>
                  <a:pt x="21600" y="10800"/>
                </a:lnTo>
                <a:lnTo>
                  <a:pt x="12984" y="12984"/>
                </a:lnTo>
                <a:lnTo>
                  <a:pt x="10800" y="21600"/>
                </a:lnTo>
                <a:lnTo>
                  <a:pt x="8616" y="1298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9720" bIns="-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AutoShape 410"/>
          <p:cNvSpPr/>
          <p:nvPr/>
        </p:nvSpPr>
        <p:spPr>
          <a:xfrm rot="19019400">
            <a:off x="7778520" y="2739600"/>
            <a:ext cx="88920" cy="82440"/>
          </a:xfrm>
          <a:custGeom>
            <a:avLst/>
            <a:gdLst>
              <a:gd name="textAreaLeft" fmla="*/ 33480 w 88920"/>
              <a:gd name="textAreaRight" fmla="*/ 55440 w 88920"/>
              <a:gd name="textAreaTop" fmla="*/ 30960 h 82440"/>
              <a:gd name="textAreaBottom" fmla="*/ 51480 h 82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24" y="8124"/>
                </a:lnTo>
                <a:lnTo>
                  <a:pt x="10800" y="0"/>
                </a:lnTo>
                <a:lnTo>
                  <a:pt x="13476" y="8124"/>
                </a:lnTo>
                <a:lnTo>
                  <a:pt x="21600" y="10800"/>
                </a:lnTo>
                <a:lnTo>
                  <a:pt x="13476" y="13476"/>
                </a:lnTo>
                <a:lnTo>
                  <a:pt x="10800" y="21600"/>
                </a:lnTo>
                <a:lnTo>
                  <a:pt x="8124" y="134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AutoShape 411"/>
          <p:cNvSpPr/>
          <p:nvPr/>
        </p:nvSpPr>
        <p:spPr>
          <a:xfrm rot="16500000">
            <a:off x="7782120" y="2738160"/>
            <a:ext cx="80640" cy="87120"/>
          </a:xfrm>
          <a:custGeom>
            <a:avLst/>
            <a:gdLst>
              <a:gd name="textAreaLeft" fmla="*/ 32040 w 80640"/>
              <a:gd name="textAreaRight" fmla="*/ 48600 w 80640"/>
              <a:gd name="textAreaTop" fmla="*/ 34560 h 87120"/>
              <a:gd name="textAreaBottom" fmla="*/ 52560 h 8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6" y="8616"/>
                </a:lnTo>
                <a:lnTo>
                  <a:pt x="10800" y="0"/>
                </a:lnTo>
                <a:lnTo>
                  <a:pt x="12984" y="8616"/>
                </a:lnTo>
                <a:lnTo>
                  <a:pt x="21600" y="10800"/>
                </a:lnTo>
                <a:lnTo>
                  <a:pt x="12984" y="12984"/>
                </a:lnTo>
                <a:lnTo>
                  <a:pt x="10800" y="21600"/>
                </a:lnTo>
                <a:lnTo>
                  <a:pt x="8616" y="1298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9360" bIns="-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AutoShape 413"/>
          <p:cNvSpPr/>
          <p:nvPr/>
        </p:nvSpPr>
        <p:spPr>
          <a:xfrm rot="19019400">
            <a:off x="7140240" y="2336400"/>
            <a:ext cx="133200" cy="123840"/>
          </a:xfrm>
          <a:custGeom>
            <a:avLst/>
            <a:gdLst>
              <a:gd name="textAreaLeft" fmla="*/ 50040 w 133200"/>
              <a:gd name="textAreaRight" fmla="*/ 83160 w 133200"/>
              <a:gd name="textAreaTop" fmla="*/ 46440 h 123840"/>
              <a:gd name="textAreaBottom" fmla="*/ 774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24" y="8124"/>
                </a:lnTo>
                <a:lnTo>
                  <a:pt x="10800" y="0"/>
                </a:lnTo>
                <a:lnTo>
                  <a:pt x="13476" y="8124"/>
                </a:lnTo>
                <a:lnTo>
                  <a:pt x="21600" y="10800"/>
                </a:lnTo>
                <a:lnTo>
                  <a:pt x="13476" y="13476"/>
                </a:lnTo>
                <a:lnTo>
                  <a:pt x="10800" y="21600"/>
                </a:lnTo>
                <a:lnTo>
                  <a:pt x="8124" y="134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AutoShape 414"/>
          <p:cNvSpPr/>
          <p:nvPr/>
        </p:nvSpPr>
        <p:spPr>
          <a:xfrm rot="16500000">
            <a:off x="7144200" y="2335680"/>
            <a:ext cx="120600" cy="128520"/>
          </a:xfrm>
          <a:custGeom>
            <a:avLst/>
            <a:gdLst>
              <a:gd name="textAreaLeft" fmla="*/ 48240 w 120600"/>
              <a:gd name="textAreaRight" fmla="*/ 72360 w 120600"/>
              <a:gd name="textAreaTop" fmla="*/ 51120 h 128520"/>
              <a:gd name="textAreaBottom" fmla="*/ 77400 h 12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6" y="8616"/>
                </a:lnTo>
                <a:lnTo>
                  <a:pt x="10800" y="0"/>
                </a:lnTo>
                <a:lnTo>
                  <a:pt x="12984" y="8616"/>
                </a:lnTo>
                <a:lnTo>
                  <a:pt x="21600" y="10800"/>
                </a:lnTo>
                <a:lnTo>
                  <a:pt x="12984" y="12984"/>
                </a:lnTo>
                <a:lnTo>
                  <a:pt x="10800" y="21600"/>
                </a:lnTo>
                <a:lnTo>
                  <a:pt x="8616" y="1298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1080" bIns="-1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AutoShape 416"/>
          <p:cNvSpPr/>
          <p:nvPr/>
        </p:nvSpPr>
        <p:spPr>
          <a:xfrm rot="19019400">
            <a:off x="7223040" y="2912760"/>
            <a:ext cx="92160" cy="82440"/>
          </a:xfrm>
          <a:custGeom>
            <a:avLst/>
            <a:gdLst>
              <a:gd name="textAreaLeft" fmla="*/ 34560 w 92160"/>
              <a:gd name="textAreaRight" fmla="*/ 57600 w 92160"/>
              <a:gd name="textAreaTop" fmla="*/ 30960 h 82440"/>
              <a:gd name="textAreaBottom" fmla="*/ 51480 h 82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24" y="8124"/>
                </a:lnTo>
                <a:lnTo>
                  <a:pt x="10800" y="0"/>
                </a:lnTo>
                <a:lnTo>
                  <a:pt x="13476" y="8124"/>
                </a:lnTo>
                <a:lnTo>
                  <a:pt x="21600" y="10800"/>
                </a:lnTo>
                <a:lnTo>
                  <a:pt x="13476" y="13476"/>
                </a:lnTo>
                <a:lnTo>
                  <a:pt x="10800" y="21600"/>
                </a:lnTo>
                <a:lnTo>
                  <a:pt x="8124" y="134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AutoShape 417"/>
          <p:cNvSpPr/>
          <p:nvPr/>
        </p:nvSpPr>
        <p:spPr>
          <a:xfrm rot="16500000">
            <a:off x="7227000" y="2912040"/>
            <a:ext cx="79200" cy="87480"/>
          </a:xfrm>
          <a:custGeom>
            <a:avLst/>
            <a:gdLst>
              <a:gd name="textAreaLeft" fmla="*/ 31680 w 79200"/>
              <a:gd name="textAreaRight" fmla="*/ 47520 w 79200"/>
              <a:gd name="textAreaTop" fmla="*/ 34920 h 87480"/>
              <a:gd name="textAreaBottom" fmla="*/ 52560 h 8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6" y="8616"/>
                </a:lnTo>
                <a:lnTo>
                  <a:pt x="10800" y="0"/>
                </a:lnTo>
                <a:lnTo>
                  <a:pt x="12984" y="8616"/>
                </a:lnTo>
                <a:lnTo>
                  <a:pt x="21600" y="10800"/>
                </a:lnTo>
                <a:lnTo>
                  <a:pt x="12984" y="12984"/>
                </a:lnTo>
                <a:lnTo>
                  <a:pt x="10800" y="21600"/>
                </a:lnTo>
                <a:lnTo>
                  <a:pt x="8616" y="1298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-9720" bIns="-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reeform 185"/>
          <p:cNvSpPr/>
          <p:nvPr/>
        </p:nvSpPr>
        <p:spPr>
          <a:xfrm rot="3609000">
            <a:off x="5480640" y="3340800"/>
            <a:ext cx="17640" cy="25200"/>
          </a:xfrm>
          <a:custGeom>
            <a:avLst/>
            <a:gdLst>
              <a:gd name="textAreaLeft" fmla="*/ 0 w 17640"/>
              <a:gd name="textAreaRight" fmla="*/ 18000 w 176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7" h="11">
                <a:moveTo>
                  <a:pt x="4" y="0"/>
                </a:moveTo>
                <a:cubicBezTo>
                  <a:pt x="5" y="1"/>
                  <a:pt x="5" y="3"/>
                  <a:pt x="7" y="3"/>
                </a:cubicBezTo>
                <a:cubicBezTo>
                  <a:pt x="6" y="5"/>
                  <a:pt x="6" y="7"/>
                  <a:pt x="6" y="10"/>
                </a:cubicBezTo>
                <a:cubicBezTo>
                  <a:pt x="3" y="9"/>
                  <a:pt x="3" y="11"/>
                  <a:pt x="0" y="11"/>
                </a:cubicBezTo>
                <a:cubicBezTo>
                  <a:pt x="1" y="9"/>
                  <a:pt x="0" y="8"/>
                  <a:pt x="1" y="6"/>
                </a:cubicBezTo>
                <a:cubicBezTo>
                  <a:pt x="3" y="6"/>
                  <a:pt x="4" y="7"/>
                  <a:pt x="4" y="9"/>
                </a:cubicBezTo>
                <a:cubicBezTo>
                  <a:pt x="5" y="6"/>
                  <a:pt x="3" y="5"/>
                  <a:pt x="6" y="4"/>
                </a:cubicBezTo>
                <a:cubicBezTo>
                  <a:pt x="6" y="2"/>
                  <a:pt x="3" y="3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604480" y="4162320"/>
            <a:ext cx="172440" cy="177840"/>
            <a:chOff x="5604480" y="4162320"/>
            <a:chExt cx="172440" cy="177840"/>
          </a:xfrm>
        </p:grpSpPr>
        <p:sp>
          <p:nvSpPr>
            <p:cNvPr id="468" name="AutoShape 187"/>
            <p:cNvSpPr/>
            <p:nvPr/>
          </p:nvSpPr>
          <p:spPr>
            <a:xfrm rot="7028400">
              <a:off x="5622120" y="4189320"/>
              <a:ext cx="136440" cy="123840"/>
            </a:xfrm>
            <a:custGeom>
              <a:avLst/>
              <a:gdLst>
                <a:gd name="textAreaLeft" fmla="*/ 51120 w 136440"/>
                <a:gd name="textAreaRight" fmla="*/ 85320 w 13644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AutoShape 188"/>
            <p:cNvSpPr/>
            <p:nvPr/>
          </p:nvSpPr>
          <p:spPr>
            <a:xfrm rot="4509000">
              <a:off x="5630760" y="4182480"/>
              <a:ext cx="120960" cy="13320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2920 h 133200"/>
                <a:gd name="textAreaBottom" fmla="*/ 8028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590440" y="3738600"/>
            <a:ext cx="172440" cy="175680"/>
            <a:chOff x="5590440" y="3738600"/>
            <a:chExt cx="172440" cy="175680"/>
          </a:xfrm>
        </p:grpSpPr>
        <p:sp>
          <p:nvSpPr>
            <p:cNvPr id="471" name="AutoShape 226"/>
            <p:cNvSpPr/>
            <p:nvPr/>
          </p:nvSpPr>
          <p:spPr>
            <a:xfrm rot="7028400">
              <a:off x="5609880" y="3763440"/>
              <a:ext cx="133200" cy="125640"/>
            </a:xfrm>
            <a:custGeom>
              <a:avLst/>
              <a:gdLst>
                <a:gd name="textAreaLeft" fmla="*/ 50040 w 133200"/>
                <a:gd name="textAreaRight" fmla="*/ 83160 w 133200"/>
                <a:gd name="textAreaTop" fmla="*/ 47160 h 125640"/>
                <a:gd name="textAreaBottom" fmla="*/ 7848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AutoShape 227"/>
            <p:cNvSpPr/>
            <p:nvPr/>
          </p:nvSpPr>
          <p:spPr>
            <a:xfrm rot="4509000">
              <a:off x="5616360" y="3759120"/>
              <a:ext cx="122400" cy="129960"/>
            </a:xfrm>
            <a:custGeom>
              <a:avLst/>
              <a:gdLst>
                <a:gd name="textAreaLeft" fmla="*/ 48960 w 122400"/>
                <a:gd name="textAreaRight" fmla="*/ 73440 w 122400"/>
                <a:gd name="textAreaTop" fmla="*/ 51840 h 129960"/>
                <a:gd name="textAreaBottom" fmla="*/ 78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801400" y="3313440"/>
            <a:ext cx="115560" cy="119520"/>
            <a:chOff x="5801400" y="3313440"/>
            <a:chExt cx="115560" cy="119520"/>
          </a:xfrm>
        </p:grpSpPr>
        <p:sp>
          <p:nvSpPr>
            <p:cNvPr id="474" name="AutoShape 229"/>
            <p:cNvSpPr/>
            <p:nvPr/>
          </p:nvSpPr>
          <p:spPr>
            <a:xfrm rot="7028400">
              <a:off x="5812920" y="3331800"/>
              <a:ext cx="92160" cy="82440"/>
            </a:xfrm>
            <a:custGeom>
              <a:avLst/>
              <a:gdLst>
                <a:gd name="textAreaLeft" fmla="*/ 34560 w 92160"/>
                <a:gd name="textAreaRight" fmla="*/ 57600 w 9216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AutoShape 230"/>
            <p:cNvSpPr/>
            <p:nvPr/>
          </p:nvSpPr>
          <p:spPr>
            <a:xfrm rot="4509000">
              <a:off x="5819400" y="3326760"/>
              <a:ext cx="80640" cy="9000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6000 h 90000"/>
                <a:gd name="textAreaBottom" fmla="*/ 54000 h 9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5081400" y="3461760"/>
            <a:ext cx="113040" cy="114840"/>
            <a:chOff x="5081400" y="3461760"/>
            <a:chExt cx="113040" cy="114840"/>
          </a:xfrm>
        </p:grpSpPr>
        <p:sp>
          <p:nvSpPr>
            <p:cNvPr id="477" name="AutoShape 244"/>
            <p:cNvSpPr/>
            <p:nvPr/>
          </p:nvSpPr>
          <p:spPr>
            <a:xfrm rot="7028400">
              <a:off x="5094000" y="3477600"/>
              <a:ext cx="87120" cy="82440"/>
            </a:xfrm>
            <a:custGeom>
              <a:avLst/>
              <a:gdLst>
                <a:gd name="textAreaLeft" fmla="*/ 32760 w 87120"/>
                <a:gd name="textAreaRight" fmla="*/ 54360 w 8712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AutoShape 245"/>
            <p:cNvSpPr/>
            <p:nvPr/>
          </p:nvSpPr>
          <p:spPr>
            <a:xfrm rot="4509000">
              <a:off x="5097960" y="3475440"/>
              <a:ext cx="80640" cy="8496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3840 h 84960"/>
                <a:gd name="textAreaBottom" fmla="*/ 51120 h 8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5925600" y="3566160"/>
            <a:ext cx="167400" cy="172440"/>
            <a:chOff x="5925600" y="3566160"/>
            <a:chExt cx="167400" cy="172440"/>
          </a:xfrm>
        </p:grpSpPr>
        <p:sp>
          <p:nvSpPr>
            <p:cNvPr id="480" name="AutoShape 247"/>
            <p:cNvSpPr/>
            <p:nvPr/>
          </p:nvSpPr>
          <p:spPr>
            <a:xfrm rot="7028400">
              <a:off x="5943240" y="3591720"/>
              <a:ext cx="131760" cy="120600"/>
            </a:xfrm>
            <a:custGeom>
              <a:avLst/>
              <a:gdLst>
                <a:gd name="textAreaLeft" fmla="*/ 49680 w 131760"/>
                <a:gd name="textAreaRight" fmla="*/ 82080 w 131760"/>
                <a:gd name="textAreaTop" fmla="*/ 45360 h 120600"/>
                <a:gd name="textAreaBottom" fmla="*/ 75240 h 12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AutoShape 248"/>
            <p:cNvSpPr/>
            <p:nvPr/>
          </p:nvSpPr>
          <p:spPr>
            <a:xfrm rot="4509000">
              <a:off x="5951160" y="3586320"/>
              <a:ext cx="117720" cy="128520"/>
            </a:xfrm>
            <a:custGeom>
              <a:avLst/>
              <a:gdLst>
                <a:gd name="textAreaLeft" fmla="*/ 46800 w 117720"/>
                <a:gd name="textAreaRight" fmla="*/ 70920 w 117720"/>
                <a:gd name="textAreaTop" fmla="*/ 51120 h 128520"/>
                <a:gd name="textAreaBottom" fmla="*/ 77400 h 1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707800" y="3441600"/>
            <a:ext cx="172440" cy="177840"/>
            <a:chOff x="5707800" y="3441600"/>
            <a:chExt cx="172440" cy="177840"/>
          </a:xfrm>
        </p:grpSpPr>
        <p:sp>
          <p:nvSpPr>
            <p:cNvPr id="483" name="AutoShape 250"/>
            <p:cNvSpPr/>
            <p:nvPr/>
          </p:nvSpPr>
          <p:spPr>
            <a:xfrm rot="7028400">
              <a:off x="5725440" y="3468600"/>
              <a:ext cx="136440" cy="123840"/>
            </a:xfrm>
            <a:custGeom>
              <a:avLst/>
              <a:gdLst>
                <a:gd name="textAreaLeft" fmla="*/ 51120 w 136440"/>
                <a:gd name="textAreaRight" fmla="*/ 85320 w 13644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AutoShape 251"/>
            <p:cNvSpPr/>
            <p:nvPr/>
          </p:nvSpPr>
          <p:spPr>
            <a:xfrm rot="4509000">
              <a:off x="5734080" y="3461760"/>
              <a:ext cx="120960" cy="13320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2920 h 133200"/>
                <a:gd name="textAreaBottom" fmla="*/ 8028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5569200" y="3300120"/>
            <a:ext cx="114840" cy="118080"/>
            <a:chOff x="5569200" y="3300120"/>
            <a:chExt cx="114840" cy="118080"/>
          </a:xfrm>
        </p:grpSpPr>
        <p:sp>
          <p:nvSpPr>
            <p:cNvPr id="486" name="AutoShape 256"/>
            <p:cNvSpPr/>
            <p:nvPr/>
          </p:nvSpPr>
          <p:spPr>
            <a:xfrm rot="7028400">
              <a:off x="5581080" y="3317760"/>
              <a:ext cx="90360" cy="82800"/>
            </a:xfrm>
            <a:custGeom>
              <a:avLst/>
              <a:gdLst>
                <a:gd name="textAreaLeft" fmla="*/ 33840 w 90360"/>
                <a:gd name="textAreaRight" fmla="*/ 56520 w 90360"/>
                <a:gd name="textAreaTop" fmla="*/ 30960 h 82800"/>
                <a:gd name="textAreaBottom" fmla="*/ 51840 h 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AutoShape 257"/>
            <p:cNvSpPr/>
            <p:nvPr/>
          </p:nvSpPr>
          <p:spPr>
            <a:xfrm rot="4509000">
              <a:off x="5586120" y="3313440"/>
              <a:ext cx="81000" cy="88200"/>
            </a:xfrm>
            <a:custGeom>
              <a:avLst/>
              <a:gdLst>
                <a:gd name="textAreaLeft" fmla="*/ 32400 w 81000"/>
                <a:gd name="textAreaRight" fmla="*/ 48600 w 81000"/>
                <a:gd name="textAreaTop" fmla="*/ 35280 h 88200"/>
                <a:gd name="textAreaBottom" fmla="*/ 52920 h 8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925600" y="3566160"/>
            <a:ext cx="167400" cy="172440"/>
            <a:chOff x="5925600" y="3566160"/>
            <a:chExt cx="167400" cy="172440"/>
          </a:xfrm>
        </p:grpSpPr>
        <p:sp>
          <p:nvSpPr>
            <p:cNvPr id="489" name="AutoShape 259"/>
            <p:cNvSpPr/>
            <p:nvPr/>
          </p:nvSpPr>
          <p:spPr>
            <a:xfrm rot="7028400">
              <a:off x="5943240" y="3591720"/>
              <a:ext cx="131760" cy="120600"/>
            </a:xfrm>
            <a:custGeom>
              <a:avLst/>
              <a:gdLst>
                <a:gd name="textAreaLeft" fmla="*/ 49680 w 131760"/>
                <a:gd name="textAreaRight" fmla="*/ 82080 w 131760"/>
                <a:gd name="textAreaTop" fmla="*/ 45360 h 120600"/>
                <a:gd name="textAreaBottom" fmla="*/ 75240 h 12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AutoShape 260"/>
            <p:cNvSpPr/>
            <p:nvPr/>
          </p:nvSpPr>
          <p:spPr>
            <a:xfrm rot="4509000">
              <a:off x="5951160" y="3586320"/>
              <a:ext cx="117720" cy="128520"/>
            </a:xfrm>
            <a:custGeom>
              <a:avLst/>
              <a:gdLst>
                <a:gd name="textAreaLeft" fmla="*/ 46800 w 117720"/>
                <a:gd name="textAreaRight" fmla="*/ 70920 w 117720"/>
                <a:gd name="textAreaTop" fmla="*/ 51120 h 128520"/>
                <a:gd name="textAreaBottom" fmla="*/ 77400 h 1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418360" y="3536640"/>
            <a:ext cx="114840" cy="118080"/>
            <a:chOff x="5418360" y="3536640"/>
            <a:chExt cx="114840" cy="118080"/>
          </a:xfrm>
        </p:grpSpPr>
        <p:sp>
          <p:nvSpPr>
            <p:cNvPr id="492" name="AutoShape 921"/>
            <p:cNvSpPr/>
            <p:nvPr/>
          </p:nvSpPr>
          <p:spPr>
            <a:xfrm rot="7028400">
              <a:off x="5430240" y="3554280"/>
              <a:ext cx="90360" cy="82800"/>
            </a:xfrm>
            <a:custGeom>
              <a:avLst/>
              <a:gdLst>
                <a:gd name="textAreaLeft" fmla="*/ 33840 w 90360"/>
                <a:gd name="textAreaRight" fmla="*/ 56520 w 90360"/>
                <a:gd name="textAreaTop" fmla="*/ 30960 h 82800"/>
                <a:gd name="textAreaBottom" fmla="*/ 51840 h 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AutoShape 922"/>
            <p:cNvSpPr/>
            <p:nvPr/>
          </p:nvSpPr>
          <p:spPr>
            <a:xfrm rot="4509000">
              <a:off x="5435280" y="3549960"/>
              <a:ext cx="81000" cy="88200"/>
            </a:xfrm>
            <a:custGeom>
              <a:avLst/>
              <a:gdLst>
                <a:gd name="textAreaLeft" fmla="*/ 32400 w 81000"/>
                <a:gd name="textAreaRight" fmla="*/ 48600 w 81000"/>
                <a:gd name="textAreaTop" fmla="*/ 35280 h 88200"/>
                <a:gd name="textAreaBottom" fmla="*/ 52920 h 8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4" name="Freeform 185"/>
          <p:cNvSpPr/>
          <p:nvPr/>
        </p:nvSpPr>
        <p:spPr>
          <a:xfrm rot="3609000">
            <a:off x="1046880" y="4242960"/>
            <a:ext cx="16200" cy="25560"/>
          </a:xfrm>
          <a:custGeom>
            <a:avLst/>
            <a:gdLst>
              <a:gd name="textAreaLeft" fmla="*/ 0 w 16200"/>
              <a:gd name="textAreaRight" fmla="*/ 16560 w 162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7" h="11">
                <a:moveTo>
                  <a:pt x="4" y="0"/>
                </a:moveTo>
                <a:cubicBezTo>
                  <a:pt x="5" y="1"/>
                  <a:pt x="5" y="3"/>
                  <a:pt x="7" y="3"/>
                </a:cubicBezTo>
                <a:cubicBezTo>
                  <a:pt x="6" y="5"/>
                  <a:pt x="6" y="7"/>
                  <a:pt x="6" y="10"/>
                </a:cubicBezTo>
                <a:cubicBezTo>
                  <a:pt x="3" y="9"/>
                  <a:pt x="3" y="11"/>
                  <a:pt x="0" y="11"/>
                </a:cubicBezTo>
                <a:cubicBezTo>
                  <a:pt x="1" y="9"/>
                  <a:pt x="0" y="8"/>
                  <a:pt x="1" y="6"/>
                </a:cubicBezTo>
                <a:cubicBezTo>
                  <a:pt x="3" y="6"/>
                  <a:pt x="4" y="7"/>
                  <a:pt x="4" y="9"/>
                </a:cubicBezTo>
                <a:cubicBezTo>
                  <a:pt x="5" y="6"/>
                  <a:pt x="3" y="5"/>
                  <a:pt x="6" y="4"/>
                </a:cubicBezTo>
                <a:cubicBezTo>
                  <a:pt x="6" y="2"/>
                  <a:pt x="3" y="3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919440" y="3879360"/>
            <a:ext cx="114480" cy="117720"/>
            <a:chOff x="919440" y="3879360"/>
            <a:chExt cx="114480" cy="117720"/>
          </a:xfrm>
        </p:grpSpPr>
        <p:sp>
          <p:nvSpPr>
            <p:cNvPr id="496" name="AutoShape 205"/>
            <p:cNvSpPr/>
            <p:nvPr/>
          </p:nvSpPr>
          <p:spPr>
            <a:xfrm rot="7028400">
              <a:off x="931320" y="3896640"/>
              <a:ext cx="90360" cy="82440"/>
            </a:xfrm>
            <a:custGeom>
              <a:avLst/>
              <a:gdLst>
                <a:gd name="textAreaLeft" fmla="*/ 33840 w 90360"/>
                <a:gd name="textAreaRight" fmla="*/ 56520 w 9036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AutoShape 206"/>
            <p:cNvSpPr/>
            <p:nvPr/>
          </p:nvSpPr>
          <p:spPr>
            <a:xfrm rot="4509000">
              <a:off x="937080" y="3893040"/>
              <a:ext cx="80640" cy="8820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5280 h 88200"/>
                <a:gd name="textAreaBottom" fmla="*/ 52920 h 8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1273320" y="3768120"/>
            <a:ext cx="114480" cy="117720"/>
            <a:chOff x="1273320" y="3768120"/>
            <a:chExt cx="114480" cy="117720"/>
          </a:xfrm>
        </p:grpSpPr>
        <p:sp>
          <p:nvSpPr>
            <p:cNvPr id="499" name="AutoShape 217"/>
            <p:cNvSpPr/>
            <p:nvPr/>
          </p:nvSpPr>
          <p:spPr>
            <a:xfrm rot="7028400">
              <a:off x="1285200" y="3785400"/>
              <a:ext cx="90360" cy="82440"/>
            </a:xfrm>
            <a:custGeom>
              <a:avLst/>
              <a:gdLst>
                <a:gd name="textAreaLeft" fmla="*/ 33840 w 90360"/>
                <a:gd name="textAreaRight" fmla="*/ 56520 w 9036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AutoShape 218"/>
            <p:cNvSpPr/>
            <p:nvPr/>
          </p:nvSpPr>
          <p:spPr>
            <a:xfrm rot="4509000">
              <a:off x="1290960" y="3781800"/>
              <a:ext cx="80640" cy="8820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5280 h 88200"/>
                <a:gd name="textAreaBottom" fmla="*/ 52920 h 8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368720" y="4215960"/>
            <a:ext cx="114840" cy="118080"/>
            <a:chOff x="1368720" y="4215960"/>
            <a:chExt cx="114840" cy="118080"/>
          </a:xfrm>
        </p:grpSpPr>
        <p:sp>
          <p:nvSpPr>
            <p:cNvPr id="502" name="AutoShape 229"/>
            <p:cNvSpPr/>
            <p:nvPr/>
          </p:nvSpPr>
          <p:spPr>
            <a:xfrm rot="7028400">
              <a:off x="1380600" y="4233600"/>
              <a:ext cx="90720" cy="82440"/>
            </a:xfrm>
            <a:custGeom>
              <a:avLst/>
              <a:gdLst>
                <a:gd name="textAreaLeft" fmla="*/ 34200 w 90720"/>
                <a:gd name="textAreaRight" fmla="*/ 56520 w 9072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AutoShape 230"/>
            <p:cNvSpPr/>
            <p:nvPr/>
          </p:nvSpPr>
          <p:spPr>
            <a:xfrm rot="4509000">
              <a:off x="1386360" y="4229280"/>
              <a:ext cx="80640" cy="8856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5280 h 88560"/>
                <a:gd name="textAreaBottom" fmla="*/ 5328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47640" y="4364640"/>
            <a:ext cx="113760" cy="116640"/>
            <a:chOff x="647640" y="4364640"/>
            <a:chExt cx="113760" cy="116640"/>
          </a:xfrm>
        </p:grpSpPr>
        <p:sp>
          <p:nvSpPr>
            <p:cNvPr id="505" name="AutoShape 244"/>
            <p:cNvSpPr/>
            <p:nvPr/>
          </p:nvSpPr>
          <p:spPr>
            <a:xfrm rot="7028400">
              <a:off x="659880" y="4381560"/>
              <a:ext cx="88920" cy="82440"/>
            </a:xfrm>
            <a:custGeom>
              <a:avLst/>
              <a:gdLst>
                <a:gd name="textAreaLeft" fmla="*/ 33480 w 88920"/>
                <a:gd name="textAreaRight" fmla="*/ 55440 w 8892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AutoShape 245"/>
            <p:cNvSpPr/>
            <p:nvPr/>
          </p:nvSpPr>
          <p:spPr>
            <a:xfrm rot="4509000">
              <a:off x="664560" y="4377960"/>
              <a:ext cx="80640" cy="8676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4560 h 86760"/>
                <a:gd name="textAreaBottom" fmla="*/ 52200 h 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275480" y="4343760"/>
            <a:ext cx="171720" cy="176760"/>
            <a:chOff x="1275480" y="4343760"/>
            <a:chExt cx="171720" cy="176760"/>
          </a:xfrm>
        </p:grpSpPr>
        <p:sp>
          <p:nvSpPr>
            <p:cNvPr id="508" name="AutoShape 250"/>
            <p:cNvSpPr/>
            <p:nvPr/>
          </p:nvSpPr>
          <p:spPr>
            <a:xfrm rot="7028400">
              <a:off x="1293480" y="4370040"/>
              <a:ext cx="135000" cy="123840"/>
            </a:xfrm>
            <a:custGeom>
              <a:avLst/>
              <a:gdLst>
                <a:gd name="textAreaLeft" fmla="*/ 50760 w 135000"/>
                <a:gd name="textAreaRight" fmla="*/ 84240 w 13500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AutoShape 251"/>
            <p:cNvSpPr/>
            <p:nvPr/>
          </p:nvSpPr>
          <p:spPr>
            <a:xfrm rot="4509000">
              <a:off x="1301040" y="4364280"/>
              <a:ext cx="120960" cy="13176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2560 h 131760"/>
                <a:gd name="textAreaBottom" fmla="*/ 7920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1135440" y="4201560"/>
            <a:ext cx="114840" cy="118080"/>
            <a:chOff x="1135440" y="4201560"/>
            <a:chExt cx="114840" cy="118080"/>
          </a:xfrm>
        </p:grpSpPr>
        <p:sp>
          <p:nvSpPr>
            <p:cNvPr id="511" name="AutoShape 256"/>
            <p:cNvSpPr/>
            <p:nvPr/>
          </p:nvSpPr>
          <p:spPr>
            <a:xfrm rot="7028400">
              <a:off x="1147320" y="4219200"/>
              <a:ext cx="90720" cy="82440"/>
            </a:xfrm>
            <a:custGeom>
              <a:avLst/>
              <a:gdLst>
                <a:gd name="textAreaLeft" fmla="*/ 34200 w 90720"/>
                <a:gd name="textAreaRight" fmla="*/ 56520 w 9072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AutoShape 257"/>
            <p:cNvSpPr/>
            <p:nvPr/>
          </p:nvSpPr>
          <p:spPr>
            <a:xfrm rot="4509000">
              <a:off x="1153080" y="4214880"/>
              <a:ext cx="80640" cy="8856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5280 h 88560"/>
                <a:gd name="textAreaBottom" fmla="*/ 5328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660240" y="3982680"/>
            <a:ext cx="171000" cy="175320"/>
            <a:chOff x="660240" y="3982680"/>
            <a:chExt cx="171000" cy="175320"/>
          </a:xfrm>
        </p:grpSpPr>
        <p:sp>
          <p:nvSpPr>
            <p:cNvPr id="514" name="AutoShape 909"/>
            <p:cNvSpPr/>
            <p:nvPr/>
          </p:nvSpPr>
          <p:spPr>
            <a:xfrm rot="7028400">
              <a:off x="678600" y="4008240"/>
              <a:ext cx="133560" cy="123840"/>
            </a:xfrm>
            <a:custGeom>
              <a:avLst/>
              <a:gdLst>
                <a:gd name="textAreaLeft" fmla="*/ 50040 w 133560"/>
                <a:gd name="textAreaRight" fmla="*/ 83520 w 13356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AutoShape 910"/>
            <p:cNvSpPr/>
            <p:nvPr/>
          </p:nvSpPr>
          <p:spPr>
            <a:xfrm rot="4509000">
              <a:off x="685800" y="4003200"/>
              <a:ext cx="120960" cy="13032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1840 h 130320"/>
                <a:gd name="textAreaBottom" fmla="*/ 7848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812880" y="3675960"/>
            <a:ext cx="171000" cy="174960"/>
            <a:chOff x="812880" y="3675960"/>
            <a:chExt cx="171000" cy="174960"/>
          </a:xfrm>
        </p:grpSpPr>
        <p:sp>
          <p:nvSpPr>
            <p:cNvPr id="517" name="AutoShape 912"/>
            <p:cNvSpPr/>
            <p:nvPr/>
          </p:nvSpPr>
          <p:spPr>
            <a:xfrm rot="7028400">
              <a:off x="831600" y="3701520"/>
              <a:ext cx="133200" cy="123840"/>
            </a:xfrm>
            <a:custGeom>
              <a:avLst/>
              <a:gdLst>
                <a:gd name="textAreaLeft" fmla="*/ 50040 w 133200"/>
                <a:gd name="textAreaRight" fmla="*/ 83160 w 133200"/>
                <a:gd name="textAreaTop" fmla="*/ 46440 h 123840"/>
                <a:gd name="textAreaBottom" fmla="*/ 7740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AutoShape 913"/>
            <p:cNvSpPr/>
            <p:nvPr/>
          </p:nvSpPr>
          <p:spPr>
            <a:xfrm rot="4509000">
              <a:off x="838440" y="3696480"/>
              <a:ext cx="120960" cy="129960"/>
            </a:xfrm>
            <a:custGeom>
              <a:avLst/>
              <a:gdLst>
                <a:gd name="textAreaLeft" fmla="*/ 48240 w 120960"/>
                <a:gd name="textAreaRight" fmla="*/ 72720 w 120960"/>
                <a:gd name="textAreaTop" fmla="*/ 51840 h 129960"/>
                <a:gd name="textAreaBottom" fmla="*/ 78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422720" y="3696840"/>
            <a:ext cx="114840" cy="118080"/>
            <a:chOff x="1422720" y="3696840"/>
            <a:chExt cx="114840" cy="118080"/>
          </a:xfrm>
        </p:grpSpPr>
        <p:sp>
          <p:nvSpPr>
            <p:cNvPr id="520" name="AutoShape 915"/>
            <p:cNvSpPr/>
            <p:nvPr/>
          </p:nvSpPr>
          <p:spPr>
            <a:xfrm rot="7028400">
              <a:off x="1434600" y="3714480"/>
              <a:ext cx="90720" cy="82440"/>
            </a:xfrm>
            <a:custGeom>
              <a:avLst/>
              <a:gdLst>
                <a:gd name="textAreaLeft" fmla="*/ 34200 w 90720"/>
                <a:gd name="textAreaRight" fmla="*/ 56520 w 9072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AutoShape 916"/>
            <p:cNvSpPr/>
            <p:nvPr/>
          </p:nvSpPr>
          <p:spPr>
            <a:xfrm rot="4509000">
              <a:off x="1440360" y="3710160"/>
              <a:ext cx="80640" cy="8856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5280 h 88560"/>
                <a:gd name="textAreaBottom" fmla="*/ 5328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986040" y="4440960"/>
            <a:ext cx="113760" cy="116640"/>
            <a:chOff x="986040" y="4440960"/>
            <a:chExt cx="113760" cy="116640"/>
          </a:xfrm>
        </p:grpSpPr>
        <p:sp>
          <p:nvSpPr>
            <p:cNvPr id="523" name="AutoShape 921"/>
            <p:cNvSpPr/>
            <p:nvPr/>
          </p:nvSpPr>
          <p:spPr>
            <a:xfrm rot="7028400">
              <a:off x="998280" y="4457880"/>
              <a:ext cx="88920" cy="82440"/>
            </a:xfrm>
            <a:custGeom>
              <a:avLst/>
              <a:gdLst>
                <a:gd name="textAreaLeft" fmla="*/ 33480 w 88920"/>
                <a:gd name="textAreaRight" fmla="*/ 55440 w 8892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AutoShape 922"/>
            <p:cNvSpPr/>
            <p:nvPr/>
          </p:nvSpPr>
          <p:spPr>
            <a:xfrm rot="4509000">
              <a:off x="1002960" y="4454280"/>
              <a:ext cx="80640" cy="8676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4560 h 86760"/>
                <a:gd name="textAreaBottom" fmla="*/ 52200 h 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8348400" y="3714840"/>
            <a:ext cx="168120" cy="173880"/>
            <a:chOff x="8348400" y="3714840"/>
            <a:chExt cx="168120" cy="173880"/>
          </a:xfrm>
        </p:grpSpPr>
        <p:sp>
          <p:nvSpPr>
            <p:cNvPr id="526" name="AutoShape 202"/>
            <p:cNvSpPr/>
            <p:nvPr/>
          </p:nvSpPr>
          <p:spPr>
            <a:xfrm rot="7028400">
              <a:off x="8365320" y="3741480"/>
              <a:ext cx="133560" cy="120600"/>
            </a:xfrm>
            <a:custGeom>
              <a:avLst/>
              <a:gdLst>
                <a:gd name="textAreaLeft" fmla="*/ 50040 w 133560"/>
                <a:gd name="textAreaRight" fmla="*/ 83520 w 133560"/>
                <a:gd name="textAreaTop" fmla="*/ 45360 h 120600"/>
                <a:gd name="textAreaBottom" fmla="*/ 75240 h 12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AutoShape 203"/>
            <p:cNvSpPr/>
            <p:nvPr/>
          </p:nvSpPr>
          <p:spPr>
            <a:xfrm rot="4509000">
              <a:off x="8373960" y="3734640"/>
              <a:ext cx="117720" cy="130320"/>
            </a:xfrm>
            <a:custGeom>
              <a:avLst/>
              <a:gdLst>
                <a:gd name="textAreaLeft" fmla="*/ 46800 w 117720"/>
                <a:gd name="textAreaRight" fmla="*/ 70920 w 117720"/>
                <a:gd name="textAreaTop" fmla="*/ 51840 h 130320"/>
                <a:gd name="textAreaBottom" fmla="*/ 7848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8591760" y="3420000"/>
            <a:ext cx="113760" cy="116640"/>
            <a:chOff x="8591760" y="3420000"/>
            <a:chExt cx="113760" cy="116640"/>
          </a:xfrm>
        </p:grpSpPr>
        <p:sp>
          <p:nvSpPr>
            <p:cNvPr id="529" name="AutoShape 208"/>
            <p:cNvSpPr/>
            <p:nvPr/>
          </p:nvSpPr>
          <p:spPr>
            <a:xfrm rot="7028400">
              <a:off x="8604000" y="3436920"/>
              <a:ext cx="88920" cy="82440"/>
            </a:xfrm>
            <a:custGeom>
              <a:avLst/>
              <a:gdLst>
                <a:gd name="textAreaLeft" fmla="*/ 33480 w 88920"/>
                <a:gd name="textAreaRight" fmla="*/ 55440 w 8892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AutoShape 209"/>
            <p:cNvSpPr/>
            <p:nvPr/>
          </p:nvSpPr>
          <p:spPr>
            <a:xfrm rot="4509000">
              <a:off x="8608680" y="3433320"/>
              <a:ext cx="80640" cy="8676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4560 h 86760"/>
                <a:gd name="textAreaBottom" fmla="*/ 52200 h 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7704360" y="4073040"/>
            <a:ext cx="114480" cy="117720"/>
            <a:chOff x="7704360" y="4073040"/>
            <a:chExt cx="114480" cy="117720"/>
          </a:xfrm>
        </p:grpSpPr>
        <p:sp>
          <p:nvSpPr>
            <p:cNvPr id="532" name="AutoShape 220"/>
            <p:cNvSpPr/>
            <p:nvPr/>
          </p:nvSpPr>
          <p:spPr>
            <a:xfrm rot="7028400">
              <a:off x="7716240" y="4090320"/>
              <a:ext cx="90360" cy="82440"/>
            </a:xfrm>
            <a:custGeom>
              <a:avLst/>
              <a:gdLst>
                <a:gd name="textAreaLeft" fmla="*/ 33840 w 90360"/>
                <a:gd name="textAreaRight" fmla="*/ 56520 w 90360"/>
                <a:gd name="textAreaTop" fmla="*/ 30960 h 82440"/>
                <a:gd name="textAreaBottom" fmla="*/ 5148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AutoShape 221"/>
            <p:cNvSpPr/>
            <p:nvPr/>
          </p:nvSpPr>
          <p:spPr>
            <a:xfrm rot="4509000">
              <a:off x="7722000" y="4086720"/>
              <a:ext cx="80640" cy="88200"/>
            </a:xfrm>
            <a:custGeom>
              <a:avLst/>
              <a:gdLst>
                <a:gd name="textAreaLeft" fmla="*/ 32040 w 80640"/>
                <a:gd name="textAreaRight" fmla="*/ 48600 w 80640"/>
                <a:gd name="textAreaTop" fmla="*/ 35280 h 88200"/>
                <a:gd name="textAreaBottom" fmla="*/ 52920 h 8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7032600" y="3503880"/>
            <a:ext cx="339120" cy="348840"/>
            <a:chOff x="7032600" y="3503880"/>
            <a:chExt cx="339120" cy="348840"/>
          </a:xfrm>
        </p:grpSpPr>
        <p:sp>
          <p:nvSpPr>
            <p:cNvPr id="535" name="AutoShape 238"/>
            <p:cNvSpPr/>
            <p:nvPr/>
          </p:nvSpPr>
          <p:spPr>
            <a:xfrm rot="7028400">
              <a:off x="7068600" y="3556080"/>
              <a:ext cx="266760" cy="244440"/>
            </a:xfrm>
            <a:custGeom>
              <a:avLst/>
              <a:gdLst>
                <a:gd name="textAreaLeft" fmla="*/ 100440 w 266760"/>
                <a:gd name="textAreaRight" fmla="*/ 166320 w 266760"/>
                <a:gd name="textAreaTop" fmla="*/ 91800 h 244440"/>
                <a:gd name="textAreaBottom" fmla="*/ 152640 h 24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AutoShape 239"/>
            <p:cNvSpPr/>
            <p:nvPr/>
          </p:nvSpPr>
          <p:spPr>
            <a:xfrm rot="4509000">
              <a:off x="7084080" y="3544200"/>
              <a:ext cx="238320" cy="259920"/>
            </a:xfrm>
            <a:custGeom>
              <a:avLst/>
              <a:gdLst>
                <a:gd name="textAreaLeft" fmla="*/ 95040 w 238320"/>
                <a:gd name="textAreaRight" fmla="*/ 143280 w 238320"/>
                <a:gd name="textAreaTop" fmla="*/ 103680 h 259920"/>
                <a:gd name="textAreaBottom" fmla="*/ 15624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cc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7367040" y="3480840"/>
            <a:ext cx="173160" cy="177480"/>
            <a:chOff x="7367040" y="3480840"/>
            <a:chExt cx="173160" cy="177480"/>
          </a:xfrm>
        </p:grpSpPr>
        <p:sp>
          <p:nvSpPr>
            <p:cNvPr id="538" name="AutoShape 268"/>
            <p:cNvSpPr/>
            <p:nvPr/>
          </p:nvSpPr>
          <p:spPr>
            <a:xfrm rot="7028400">
              <a:off x="7386120" y="3506760"/>
              <a:ext cx="135000" cy="125280"/>
            </a:xfrm>
            <a:custGeom>
              <a:avLst/>
              <a:gdLst>
                <a:gd name="textAreaLeft" fmla="*/ 50760 w 135000"/>
                <a:gd name="textAreaRight" fmla="*/ 84240 w 135000"/>
                <a:gd name="textAreaTop" fmla="*/ 47160 h 125280"/>
                <a:gd name="textAreaBottom" fmla="*/ 7812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AutoShape 269"/>
            <p:cNvSpPr/>
            <p:nvPr/>
          </p:nvSpPr>
          <p:spPr>
            <a:xfrm rot="4509000">
              <a:off x="7393320" y="3501000"/>
              <a:ext cx="122040" cy="131760"/>
            </a:xfrm>
            <a:custGeom>
              <a:avLst/>
              <a:gdLst>
                <a:gd name="textAreaLeft" fmla="*/ 48600 w 122040"/>
                <a:gd name="textAreaRight" fmla="*/ 73440 w 122040"/>
                <a:gd name="textAreaTop" fmla="*/ 52560 h 131760"/>
                <a:gd name="textAreaBottom" fmla="*/ 7920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6968160" y="4018320"/>
            <a:ext cx="171000" cy="176040"/>
            <a:chOff x="6968160" y="4018320"/>
            <a:chExt cx="171000" cy="176040"/>
          </a:xfrm>
        </p:grpSpPr>
        <p:sp>
          <p:nvSpPr>
            <p:cNvPr id="541" name="AutoShape 318"/>
            <p:cNvSpPr/>
            <p:nvPr/>
          </p:nvSpPr>
          <p:spPr>
            <a:xfrm rot="1646400">
              <a:off x="6992280" y="4038840"/>
              <a:ext cx="122400" cy="135000"/>
            </a:xfrm>
            <a:custGeom>
              <a:avLst/>
              <a:gdLst>
                <a:gd name="textAreaLeft" fmla="*/ 46080 w 122400"/>
                <a:gd name="textAreaRight" fmla="*/ 76320 w 122400"/>
                <a:gd name="textAreaTop" fmla="*/ 50760 h 135000"/>
                <a:gd name="textAreaBottom" fmla="*/ 84240 h 13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AutoShape 319"/>
            <p:cNvSpPr/>
            <p:nvPr/>
          </p:nvSpPr>
          <p:spPr>
            <a:xfrm rot="20727000">
              <a:off x="6985440" y="4045680"/>
              <a:ext cx="131760" cy="119520"/>
            </a:xfrm>
            <a:custGeom>
              <a:avLst/>
              <a:gdLst>
                <a:gd name="textAreaLeft" fmla="*/ 52560 w 131760"/>
                <a:gd name="textAreaRight" fmla="*/ 79200 w 131760"/>
                <a:gd name="textAreaTop" fmla="*/ 47520 h 119520"/>
                <a:gd name="textAreaBottom" fmla="*/ 72000 h 1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7313040" y="3633480"/>
            <a:ext cx="342000" cy="351360"/>
            <a:chOff x="7313040" y="3633480"/>
            <a:chExt cx="342000" cy="351360"/>
          </a:xfrm>
        </p:grpSpPr>
        <p:sp>
          <p:nvSpPr>
            <p:cNvPr id="544" name="AutoShape 324"/>
            <p:cNvSpPr/>
            <p:nvPr/>
          </p:nvSpPr>
          <p:spPr>
            <a:xfrm rot="1646400">
              <a:off x="7360560" y="3674880"/>
              <a:ext cx="246240" cy="268200"/>
            </a:xfrm>
            <a:custGeom>
              <a:avLst/>
              <a:gdLst>
                <a:gd name="textAreaLeft" fmla="*/ 92520 w 246240"/>
                <a:gd name="textAreaRight" fmla="*/ 153720 w 246240"/>
                <a:gd name="textAreaTop" fmla="*/ 100800 h 268200"/>
                <a:gd name="textAreaBottom" fmla="*/ 167400 h 26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AutoShape 325"/>
            <p:cNvSpPr/>
            <p:nvPr/>
          </p:nvSpPr>
          <p:spPr>
            <a:xfrm rot="20727000">
              <a:off x="7349040" y="3687840"/>
              <a:ext cx="261360" cy="240120"/>
            </a:xfrm>
            <a:custGeom>
              <a:avLst/>
              <a:gdLst>
                <a:gd name="textAreaLeft" fmla="*/ 104040 w 261360"/>
                <a:gd name="textAreaRight" fmla="*/ 157320 w 261360"/>
                <a:gd name="textAreaTop" fmla="*/ 95760 h 240120"/>
                <a:gd name="textAreaBottom" fmla="*/ 144360 h 24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cc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7282440" y="3491640"/>
            <a:ext cx="169920" cy="174600"/>
            <a:chOff x="7282440" y="3491640"/>
            <a:chExt cx="169920" cy="174600"/>
          </a:xfrm>
        </p:grpSpPr>
        <p:sp>
          <p:nvSpPr>
            <p:cNvPr id="547" name="AutoShape 354"/>
            <p:cNvSpPr/>
            <p:nvPr/>
          </p:nvSpPr>
          <p:spPr>
            <a:xfrm rot="1646400">
              <a:off x="7306200" y="3512160"/>
              <a:ext cx="122040" cy="133560"/>
            </a:xfrm>
            <a:custGeom>
              <a:avLst/>
              <a:gdLst>
                <a:gd name="textAreaLeft" fmla="*/ 45720 w 122040"/>
                <a:gd name="textAreaRight" fmla="*/ 76320 w 122040"/>
                <a:gd name="textAreaTop" fmla="*/ 50040 h 133560"/>
                <a:gd name="textAreaBottom" fmla="*/ 83520 h 1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AutoShape 355"/>
            <p:cNvSpPr/>
            <p:nvPr/>
          </p:nvSpPr>
          <p:spPr>
            <a:xfrm rot="20727000">
              <a:off x="7300080" y="3518640"/>
              <a:ext cx="130320" cy="119160"/>
            </a:xfrm>
            <a:custGeom>
              <a:avLst/>
              <a:gdLst>
                <a:gd name="textAreaLeft" fmla="*/ 51840 w 130320"/>
                <a:gd name="textAreaRight" fmla="*/ 78480 w 130320"/>
                <a:gd name="textAreaTop" fmla="*/ 47520 h 119160"/>
                <a:gd name="textAreaBottom" fmla="*/ 7164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9" name="AutoShape 419"/>
          <p:cNvSpPr/>
          <p:nvPr/>
        </p:nvSpPr>
        <p:spPr>
          <a:xfrm rot="19019400">
            <a:off x="4245120" y="2238480"/>
            <a:ext cx="458640" cy="426960"/>
          </a:xfrm>
          <a:custGeom>
            <a:avLst/>
            <a:gdLst>
              <a:gd name="textAreaLeft" fmla="*/ 172440 w 458640"/>
              <a:gd name="textAreaRight" fmla="*/ 286200 w 458640"/>
              <a:gd name="textAreaTop" fmla="*/ 160560 h 426960"/>
              <a:gd name="textAreaBottom" fmla="*/ 266400 h 426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24" y="8124"/>
                </a:lnTo>
                <a:lnTo>
                  <a:pt x="10800" y="0"/>
                </a:lnTo>
                <a:lnTo>
                  <a:pt x="13476" y="8124"/>
                </a:lnTo>
                <a:lnTo>
                  <a:pt x="21600" y="10800"/>
                </a:lnTo>
                <a:lnTo>
                  <a:pt x="13476" y="13476"/>
                </a:lnTo>
                <a:lnTo>
                  <a:pt x="10800" y="21600"/>
                </a:lnTo>
                <a:lnTo>
                  <a:pt x="8124" y="134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AutoShape 420"/>
          <p:cNvSpPr/>
          <p:nvPr/>
        </p:nvSpPr>
        <p:spPr>
          <a:xfrm rot="16500000">
            <a:off x="4265280" y="2229840"/>
            <a:ext cx="412920" cy="447840"/>
          </a:xfrm>
          <a:custGeom>
            <a:avLst/>
            <a:gdLst>
              <a:gd name="textAreaLeft" fmla="*/ 164520 w 412920"/>
              <a:gd name="textAreaRight" fmla="*/ 248400 w 412920"/>
              <a:gd name="textAreaTop" fmla="*/ 178560 h 447840"/>
              <a:gd name="textAreaBottom" fmla="*/ 269280 h 447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6" y="8616"/>
                </a:lnTo>
                <a:lnTo>
                  <a:pt x="10800" y="0"/>
                </a:lnTo>
                <a:lnTo>
                  <a:pt x="12984" y="8616"/>
                </a:lnTo>
                <a:lnTo>
                  <a:pt x="21600" y="10800"/>
                </a:lnTo>
                <a:lnTo>
                  <a:pt x="12984" y="12984"/>
                </a:lnTo>
                <a:lnTo>
                  <a:pt x="10800" y="21600"/>
                </a:lnTo>
                <a:lnTo>
                  <a:pt x="8616" y="1298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Oval 171"/>
          <p:cNvSpPr/>
          <p:nvPr/>
        </p:nvSpPr>
        <p:spPr>
          <a:xfrm rot="3518400">
            <a:off x="10106640" y="-1353240"/>
            <a:ext cx="36720" cy="10098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Oval 172"/>
          <p:cNvSpPr/>
          <p:nvPr/>
        </p:nvSpPr>
        <p:spPr>
          <a:xfrm rot="3247800">
            <a:off x="9980280" y="745920"/>
            <a:ext cx="73080" cy="10098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21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Oval 173"/>
          <p:cNvSpPr/>
          <p:nvPr/>
        </p:nvSpPr>
        <p:spPr>
          <a:xfrm rot="3518400">
            <a:off x="10613160" y="-276480"/>
            <a:ext cx="36720" cy="10094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图片 13633" descr=""/>
          <p:cNvPicPr/>
          <p:nvPr/>
        </p:nvPicPr>
        <p:blipFill>
          <a:blip r:embed="rId2"/>
          <a:stretch/>
        </p:blipFill>
        <p:spPr>
          <a:xfrm>
            <a:off x="2976480" y="0"/>
            <a:ext cx="3191040" cy="514368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9901080" y="2787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24480" y="480384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50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50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6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30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5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6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30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5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50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6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30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50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50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50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50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50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50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50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50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50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50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50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500" autoRev="1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50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50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5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50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50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50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50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50" autoRev="1" fill="hold"/>
                                        <p:tgtEl>
                                          <p:spTgt spid="1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500" autoRev="1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50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500" autoRev="1" fill="hold"/>
                                        <p:tgtEl>
                                          <p:spTgt spid="1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500" autoRev="1" fill="hold"/>
                                        <p:tgtEl>
                                          <p:spTgt spid="1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500" autoRev="1" fill="hold"/>
                                        <p:tgtEl>
                                          <p:spTgt spid="2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3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650" autoRev="1" fill="hold"/>
                                        <p:tgtEl>
                                          <p:spTgt spid="2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50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50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50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650" autoRev="1" fill="hold"/>
                                        <p:tgtEl>
                                          <p:spTgt spid="2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50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500" autoRev="1" fill="hold"/>
                                        <p:tgtEl>
                                          <p:spTgt spid="2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650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50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50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500" autoRev="1" fill="hold"/>
                                        <p:tgtEl>
                                          <p:spTgt spid="2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50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50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50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50" autoRev="1" fill="hold"/>
                                        <p:tgtEl>
                                          <p:spTgt spid="2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500" autoRev="1" fill="hold"/>
                                        <p:tgtEl>
                                          <p:spTgt spid="2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6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300" autoRev="1" fill="hold"/>
                                        <p:tgtEl>
                                          <p:spTgt spid="2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6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300" autoRev="1" fill="hold"/>
                                        <p:tgtEl>
                                          <p:spTgt spid="2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6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300" autoRev="1" fill="hold"/>
                                        <p:tgtEl>
                                          <p:spTgt spid="2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500" autoRev="1" fill="hold"/>
                                        <p:tgtEl>
                                          <p:spTgt spid="2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6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300" autoRev="1" fill="hold"/>
                                        <p:tgtEl>
                                          <p:spTgt spid="2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500" autoRev="1" fill="hold"/>
                                        <p:tgtEl>
                                          <p:spTgt spid="2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500" autoRev="1" fill="hold"/>
                                        <p:tgtEl>
                                          <p:spTgt spid="2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3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650" autoRev="1" fill="hold"/>
                                        <p:tgtEl>
                                          <p:spTgt spid="2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50" autoRev="1" fill="hold"/>
                                        <p:tgtEl>
                                          <p:spTgt spid="2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500" autoRev="1" fill="hold"/>
                                        <p:tgtEl>
                                          <p:spTgt spid="2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3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650" autoRev="1" fill="hold"/>
                                        <p:tgtEl>
                                          <p:spTgt spid="2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500" autoRev="1" fill="hold"/>
                                        <p:tgtEl>
                                          <p:spTgt spid="2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500" autoRev="1" fill="hold"/>
                                        <p:tgtEl>
                                          <p:spTgt spid="2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3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650" autoRev="1" fill="hold"/>
                                        <p:tgtEl>
                                          <p:spTgt spid="2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5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3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65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500" autoRev="1" fill="hold"/>
                                        <p:tgtEl>
                                          <p:spTgt spid="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1000" autoRev="1" fill="hold"/>
                                        <p:tgtEl>
                                          <p:spTgt spid="3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5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500" autoRev="1" fill="hold"/>
                                        <p:tgtEl>
                                          <p:spTgt spid="3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1000" autoRev="1" fill="hold"/>
                                        <p:tgtEl>
                                          <p:spTgt spid="3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500" autoRev="1" fill="hold"/>
                                        <p:tgtEl>
                                          <p:spTgt spid="3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500" autoRev="1" fill="hold"/>
                                        <p:tgtEl>
                                          <p:spTgt spid="3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500" autoRev="1" fill="hold"/>
                                        <p:tgtEl>
                                          <p:spTgt spid="3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1000" autoRev="1" fill="hold"/>
                                        <p:tgtEl>
                                          <p:spTgt spid="3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500" autoRev="1" fill="hold"/>
                                        <p:tgtEl>
                                          <p:spTgt spid="3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1000" autoRev="1" fill="hold"/>
                                        <p:tgtEl>
                                          <p:spTgt spid="3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500" autoRev="1" fill="hold"/>
                                        <p:tgtEl>
                                          <p:spTgt spid="3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4" dur="500" autoRev="1" fill="hold"/>
                                        <p:tgtEl>
                                          <p:spTgt spid="3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500" autoRev="1" fill="hold"/>
                                        <p:tgtEl>
                                          <p:spTgt spid="3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500" autoRev="1" fill="hold"/>
                                        <p:tgtEl>
                                          <p:spTgt spid="3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13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650" autoRev="1" fill="hold"/>
                                        <p:tgtEl>
                                          <p:spTgt spid="3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3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650" autoRev="1" fill="hold"/>
                                        <p:tgtEl>
                                          <p:spTgt spid="3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500" autoRev="1" fill="hold"/>
                                        <p:tgtEl>
                                          <p:spTgt spid="3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5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500" autoRev="1" fill="hold"/>
                                        <p:tgtEl>
                                          <p:spTgt spid="3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500" autoRev="1" fill="hold"/>
                                        <p:tgtEl>
                                          <p:spTgt spid="3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500" autoRev="1" fill="hold"/>
                                        <p:tgtEl>
                                          <p:spTgt spid="3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500" autoRev="1" fill="hold"/>
                                        <p:tgtEl>
                                          <p:spTgt spid="3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50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500" autoRev="1" fill="hold"/>
                                        <p:tgtEl>
                                          <p:spTgt spid="3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500" autoRev="1" fill="hold"/>
                                        <p:tgtEl>
                                          <p:spTgt spid="3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50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500" autoRev="1" fill="hold"/>
                                        <p:tgtEl>
                                          <p:spTgt spid="3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500" autoRev="1" fill="hold"/>
                                        <p:tgtEl>
                                          <p:spTgt spid="3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50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8" dur="10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1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750" autoRev="1" fill="hold"/>
                                        <p:tgtEl>
                                          <p:spTgt spid="3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500" autoRev="1" fill="hold"/>
                                        <p:tgtEl>
                                          <p:spTgt spid="3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1000" autoRev="1" fill="hold"/>
                                        <p:tgtEl>
                                          <p:spTgt spid="3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500" autoRev="1" fill="hold"/>
                                        <p:tgtEl>
                                          <p:spTgt spid="3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1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750" autoRev="1" fill="hold"/>
                                        <p:tgtEl>
                                          <p:spTgt spid="3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1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5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500" autoRev="1" fill="hold"/>
                                        <p:tgtEl>
                                          <p:spTgt spid="3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1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50" autoRev="1" fill="hold"/>
                                        <p:tgtEl>
                                          <p:spTgt spid="3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500" autoRev="1" fill="hold"/>
                                        <p:tgtEl>
                                          <p:spTgt spid="3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1000" autoRev="1" fill="hold"/>
                                        <p:tgtEl>
                                          <p:spTgt spid="3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500" autoRev="1" fill="hold"/>
                                        <p:tgtEl>
                                          <p:spTgt spid="3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1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750" autoRev="1" fill="hold"/>
                                        <p:tgtEl>
                                          <p:spTgt spid="3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1000" autoRev="1" fill="hold"/>
                                        <p:tgtEl>
                                          <p:spTgt spid="3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9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450" autoRev="1" fill="hold"/>
                                        <p:tgtEl>
                                          <p:spTgt spid="3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500" autoRev="1" fill="hold"/>
                                        <p:tgtEl>
                                          <p:spTgt spid="3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13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6" dur="650" autoRev="1" fill="hold"/>
                                        <p:tgtEl>
                                          <p:spTgt spid="3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1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750" autoRev="1" fill="hold"/>
                                        <p:tgtEl>
                                          <p:spTgt spid="3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13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650" autoRev="1" fill="hold"/>
                                        <p:tgtEl>
                                          <p:spTgt spid="3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1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750" autoRev="1" fill="hold"/>
                                        <p:tgtEl>
                                          <p:spTgt spid="3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6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300" autoRev="1" fill="hold"/>
                                        <p:tgtEl>
                                          <p:spTgt spid="3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500" autoRev="1" fill="hold"/>
                                        <p:tgtEl>
                                          <p:spTgt spid="3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1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750" autoRev="1" fill="hold"/>
                                        <p:tgtEl>
                                          <p:spTgt spid="3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500" autoRev="1" fill="hold"/>
                                        <p:tgtEl>
                                          <p:spTgt spid="3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500" autoRev="1" fill="hold"/>
                                        <p:tgtEl>
                                          <p:spTgt spid="3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3" dur="500" autoRev="1" fill="hold"/>
                                        <p:tgtEl>
                                          <p:spTgt spid="4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500" autoRev="1" fill="hold"/>
                                        <p:tgtEl>
                                          <p:spTgt spid="4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500" autoRev="1" fill="hold"/>
                                        <p:tgtEl>
                                          <p:spTgt spid="4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13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650" autoRev="1" fill="hold"/>
                                        <p:tgtEl>
                                          <p:spTgt spid="4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500" autoRev="1" fill="hold"/>
                                        <p:tgtEl>
                                          <p:spTgt spid="4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13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650" autoRev="1" fill="hold"/>
                                        <p:tgtEl>
                                          <p:spTgt spid="4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1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1" dur="750" autoRev="1" fill="hold"/>
                                        <p:tgtEl>
                                          <p:spTgt spid="4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500" autoRev="1" fill="hold"/>
                                        <p:tgtEl>
                                          <p:spTgt spid="4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1000" autoRev="1" fill="hold"/>
                                        <p:tgtEl>
                                          <p:spTgt spid="4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500" autoRev="1" fill="hold"/>
                                        <p:tgtEl>
                                          <p:spTgt spid="4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500" autoRev="1" fill="hold"/>
                                        <p:tgtEl>
                                          <p:spTgt spid="4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1000" autoRev="1" fill="hold"/>
                                        <p:tgtEl>
                                          <p:spTgt spid="4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500" autoRev="1" fill="hold"/>
                                        <p:tgtEl>
                                          <p:spTgt spid="4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2" dur="500" autoRev="1" fill="hold"/>
                                        <p:tgtEl>
                                          <p:spTgt spid="4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500" autoRev="1" fill="hold"/>
                                        <p:tgtEl>
                                          <p:spTgt spid="4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8" dur="500" autoRev="1" fill="hold"/>
                                        <p:tgtEl>
                                          <p:spTgt spid="4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1" dur="500" autoRev="1" fill="hold"/>
                                        <p:tgtEl>
                                          <p:spTgt spid="4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4" dur="500" autoRev="1" fill="hold"/>
                                        <p:tgtEl>
                                          <p:spTgt spid="4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500" autoRev="1" fill="hold"/>
                                        <p:tgtEl>
                                          <p:spTgt spid="4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500" autoRev="1" fill="hold"/>
                                        <p:tgtEl>
                                          <p:spTgt spid="4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3" dur="1000" autoRev="1" fill="hold"/>
                                        <p:tgtEl>
                                          <p:spTgt spid="4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500" autoRev="1" fill="hold"/>
                                        <p:tgtEl>
                                          <p:spTgt spid="4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750" autoRev="1" fill="hold"/>
                                        <p:tgtEl>
                                          <p:spTgt spid="4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2" dur="500" autoRev="1" fill="hold"/>
                                        <p:tgtEl>
                                          <p:spTgt spid="4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1000" autoRev="1" fill="hold"/>
                                        <p:tgtEl>
                                          <p:spTgt spid="4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500" autoRev="1" fill="hold"/>
                                        <p:tgtEl>
                                          <p:spTgt spid="4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1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750" autoRev="1" fill="hold"/>
                                        <p:tgtEl>
                                          <p:spTgt spid="4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750" autoRev="1" fill="hold"/>
                                        <p:tgtEl>
                                          <p:spTgt spid="4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50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0" dur="500" autoRev="1" fill="hold"/>
                                        <p:tgtEl>
                                          <p:spTgt spid="4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3" dur="50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50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9" dur="50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0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50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1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7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500" autoRev="1" fill="hold"/>
                                        <p:tgtEl>
                                          <p:spTgt spid="4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1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1" dur="750" autoRev="1" fill="hold"/>
                                        <p:tgtEl>
                                          <p:spTgt spid="4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1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750" autoRev="1" fill="hold"/>
                                        <p:tgtEl>
                                          <p:spTgt spid="4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7" dur="500" autoRev="1" fill="hold"/>
                                        <p:tgtEl>
                                          <p:spTgt spid="4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500" autoRev="1" fill="hold"/>
                                        <p:tgtEl>
                                          <p:spTgt spid="4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500" autoRev="1" fill="hold"/>
                                        <p:tgtEl>
                                          <p:spTgt spid="5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6" dur="500" autoRev="1" fill="hold"/>
                                        <p:tgtEl>
                                          <p:spTgt spid="5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500" autoRev="1" fill="hold"/>
                                        <p:tgtEl>
                                          <p:spTgt spid="5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1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50" autoRev="1" fill="hold"/>
                                        <p:tgtEl>
                                          <p:spTgt spid="5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50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6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13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8" dur="650" autoRev="1" fill="hold"/>
                                        <p:tgtEl>
                                          <p:spTgt spid="5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1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7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2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1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4" dur="7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7" dur="50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50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1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750" autoRev="1" fill="hold"/>
                                        <p:tgtEl>
                                          <p:spTgt spid="5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50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6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30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0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13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2" dur="650" autoRev="1" fill="hold"/>
                                        <p:tgtEl>
                                          <p:spTgt spid="5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1000" autoRev="1" fill="hold"/>
                                        <p:tgtEl>
                                          <p:spTgt spid="5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500" autoRev="1" fill="hold"/>
                                        <p:tgtEl>
                                          <p:spTgt spid="5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1" dur="1000" autoRev="1" fill="hold"/>
                                        <p:tgtEl>
                                          <p:spTgt spid="5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2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9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4" dur="450" autoRev="1" fill="hold"/>
                                        <p:tgtEl>
                                          <p:spTgt spid="5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800"/>
                            </p:stCondLst>
                            <p:childTnLst>
                              <p:par>
                                <p:cTn id="566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7" dur="7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7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7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7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25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25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25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25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75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75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75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75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5" dur="75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75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75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75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1" dur="75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75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75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75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7" dur="75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75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75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75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3" dur="7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7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7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7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9" dur="75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75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75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75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75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75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75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75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1" dur="7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7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7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7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75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75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75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75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3" dur="75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75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75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75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9" dur="75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75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75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75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5" dur="75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75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75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75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1" dur="75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75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75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75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7" dur="75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75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75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75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3" dur="75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75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75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75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9" dur="75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75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75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75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5" dur="75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75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75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75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1" dur="75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75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75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75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7" dur="75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75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75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75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3" dur="7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7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7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7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3" presetSubtype="54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75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75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75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75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5" dur="75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75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75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75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1" dur="75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75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75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75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75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75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75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75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23" presetSubtype="54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3" dur="75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75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75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75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75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75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75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75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5" dur="75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75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75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75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23" presetSubtype="544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1" dur="75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75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75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75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7" dur="7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7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7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7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3" dur="75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75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75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75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23" presetSubtype="54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9" dur="75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75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75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75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5" dur="75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75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75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75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1" dur="75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75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75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75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7" dur="7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7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7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7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23" presetSubtype="544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3" dur="75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75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75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75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9" dur="75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75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75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75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23" presetSubtype="54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5" dur="8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8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8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1" dur="75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75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75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75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75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75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75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75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23" presetSubtype="54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3" dur="75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75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75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75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75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75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75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75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5" dur="75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75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75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75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1" dur="75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75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75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75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7" dur="75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75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75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75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3" dur="7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7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7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7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9" dur="75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75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75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75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5" dur="7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7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7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7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1" dur="75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75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75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75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23" presetSubtype="54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7" dur="75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75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75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75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3" dur="75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75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75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75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23" presetSubtype="54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75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75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75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75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5" dur="75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75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75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75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23" presetSubtype="544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1" dur="75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75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75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75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7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7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7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7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3" dur="7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7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7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7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9" dur="75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75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75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75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5" dur="75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75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75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75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23" presetSubtype="54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75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75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75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75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75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75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75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75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3" dur="75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75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75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75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9" dur="75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75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75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75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5" dur="75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75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75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75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1" dur="75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75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75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75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7" dur="75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75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75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75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3" dur="75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75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75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75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9" dur="75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75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75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75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5" dur="75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75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75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75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23" presetSubtype="54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1" dur="75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75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75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75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23" presetSubtype="544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7" dur="75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75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75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75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3" dur="75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75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75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75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9" dur="75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75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75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75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5" dur="75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75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75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75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1" dur="75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75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75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75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75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75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75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75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3" dur="75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75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75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75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23" presetSubtype="544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9" dur="75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75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75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75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5" dur="75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75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75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75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xit" presetID="23" presetSubtype="54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1" dur="75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75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75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75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23" presetSubtype="544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7" dur="75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75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75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75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23" presetSubtype="54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3" dur="75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75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75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75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23" presetSubtype="54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9" dur="75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75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75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75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5" dur="75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75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75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75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1" dur="75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75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75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75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7" dur="75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75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75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75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3" dur="75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75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75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75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75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75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75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75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5" dur="75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75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75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75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1" dur="75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75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75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75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7" dur="75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75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75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75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75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75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75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75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9" dur="75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75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75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75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5" dur="75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75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75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75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1" dur="75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75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75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75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75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75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75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75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3" dur="75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75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75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75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9" dur="75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75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75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75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5" dur="75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75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75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75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75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75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75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75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7" dur="75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75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75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75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3" dur="75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75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75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75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9" dur="75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75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75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75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5" dur="75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75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75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75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xit" presetID="23" presetSubtype="54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1" dur="75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75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75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75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7" dur="75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75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75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75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3" dur="75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75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75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75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9" dur="75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75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75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75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23" presetSubtype="544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5" dur="75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75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75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75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75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75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75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75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23" presetSubtype="54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7" dur="75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75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75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75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75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75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75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75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9" dur="75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75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75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75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5" dur="75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75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75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75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1" dur="75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75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75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75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xit" presetID="23" presetSubtype="54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7" dur="75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75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75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75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3" dur="75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75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75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75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xit" presetID="23" presetSubtype="544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9" dur="75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75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75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75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5" dur="75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75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75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75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1" dur="75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75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75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75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7" dur="75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75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75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75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3" dur="75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75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75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75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9" dur="75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75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75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75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xit" presetID="23" presetSubtype="544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5" dur="75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75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75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75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75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75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75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75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7" dur="75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75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75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75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23" presetSubtype="54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3" dur="75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75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75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75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9" dur="75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75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75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75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5" dur="75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75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75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75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1" dur="75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75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75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75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7" dur="75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75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75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75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xit" presetID="23" presetSubtype="54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3" dur="75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75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75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75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9" dur="75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75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75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75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4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5" dur="75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75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75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75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1" dur="75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75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75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75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6" nodeType="withEffect" fill="hold" presetClass="exit" presetID="23" presetSubtype="54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7" dur="75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75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75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75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3" dur="75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75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75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75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9" dur="75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75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75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75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5" dur="75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75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75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75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1" dur="75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75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75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75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7" dur="75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75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75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75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3" dur="75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75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75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75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9" dur="75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75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75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75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5" dur="75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75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75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75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1" dur="75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75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75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75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7" dur="75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75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75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75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3" dur="75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75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75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75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9" dur="75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75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75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75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5" dur="75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75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75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75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1" dur="75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75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75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75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xit" presetID="23" presetSubtype="544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7" dur="75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75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75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75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3" dur="75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75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75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75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9" dur="75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75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75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75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5" dur="75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75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75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75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1" dur="75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75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75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75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7" dur="75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75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75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75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3" dur="75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75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75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75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9" dur="75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75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75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75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5" dur="75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75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75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75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1" dur="75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75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75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75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6" nodeType="withEffect" fill="hold" presetClass="exit" presetID="23" presetSubtype="54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7" dur="7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7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7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7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2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3" dur="75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75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75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75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xit" presetID="23" presetSubtype="54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9" dur="75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75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75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75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5" dur="75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75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75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75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xit" presetID="23" presetSubtype="544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1" dur="7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7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7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7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7" dur="75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75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75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75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xit" presetID="23" presetSubtype="544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3" dur="7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7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7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7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9" dur="75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75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75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75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5" dur="75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75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75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75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1" dur="75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75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75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75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7" dur="75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75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75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75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xit" presetID="23" presetSubtype="54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3" dur="75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75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75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75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9" dur="75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75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75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75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4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5" dur="75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75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75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75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1" dur="75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75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75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75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7" dur="75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75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75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75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3" dur="75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75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75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75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9" dur="75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75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75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75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3" presetSubtype="544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5" dur="75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75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75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75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0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1" dur="75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75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75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75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xit" presetID="23" presetSubtype="54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7" dur="75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75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75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75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3" dur="75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75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75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75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9" dur="75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75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75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75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5" dur="75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75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75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75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23" presetSubtype="544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75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75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75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75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path" presetID="49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-1.48148E-006 L -0.73229 0.64746 E">
                                      <p:cBhvr>
                                        <p:cTn id="1677" dur="5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10" repeatCount="2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path" presetID="4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32 7.34463E-007 L -0.55954 0.56179 E">
                                      <p:cBhvr>
                                        <p:cTn id="1682" dur="5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path" presetID="49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-3.7037E-007 L -0.7323 0.64745 E">
                                      <p:cBhvr>
                                        <p:cTn id="1690" dur="5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0" repeatCount="2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6" dur="7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矩形 3"/>
          <p:cNvSpPr/>
          <p:nvPr/>
        </p:nvSpPr>
        <p:spPr>
          <a:xfrm>
            <a:off x="0" y="-46080"/>
            <a:ext cx="9144000" cy="5194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组合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3864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1365" descr=""/>
          <p:cNvPicPr/>
          <p:nvPr/>
        </p:nvPicPr>
        <p:blipFill>
          <a:blip r:embed="rId2"/>
          <a:stretch/>
        </p:blipFill>
        <p:spPr>
          <a:xfrm>
            <a:off x="2976480" y="0"/>
            <a:ext cx="3191040" cy="514368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1366" descr=""/>
          <p:cNvPicPr/>
          <p:nvPr/>
        </p:nvPicPr>
        <p:blipFill>
          <a:blip r:embed="rId3"/>
          <a:srcRect l="20634" t="11165" r="21423" b="50005"/>
          <a:stretch/>
        </p:blipFill>
        <p:spPr>
          <a:xfrm>
            <a:off x="1263600" y="1674720"/>
            <a:ext cx="4316400" cy="197640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1370" descr=""/>
          <p:cNvPicPr/>
          <p:nvPr/>
        </p:nvPicPr>
        <p:blipFill>
          <a:blip r:embed="rId4"/>
          <a:srcRect l="0" t="0" r="0" b="73105"/>
          <a:stretch/>
        </p:blipFill>
        <p:spPr>
          <a:xfrm>
            <a:off x="0" y="-87480"/>
            <a:ext cx="9144000" cy="137808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1367" descr="4.PNG"/>
          <p:cNvPicPr/>
          <p:nvPr/>
        </p:nvPicPr>
        <p:blipFill>
          <a:blip r:embed="rId5"/>
          <a:srcRect l="24015" t="0" r="27974" b="0"/>
          <a:stretch/>
        </p:blipFill>
        <p:spPr>
          <a:xfrm>
            <a:off x="2055960" y="1139760"/>
            <a:ext cx="304560" cy="124164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368" descr="3.png"/>
          <p:cNvPicPr/>
          <p:nvPr/>
        </p:nvPicPr>
        <p:blipFill>
          <a:blip r:embed="rId6"/>
          <a:srcRect l="22584" t="9878" r="48519" b="47631"/>
          <a:stretch/>
        </p:blipFill>
        <p:spPr>
          <a:xfrm>
            <a:off x="1571760" y="776160"/>
            <a:ext cx="1285920" cy="118296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1369" descr="4.PNG"/>
          <p:cNvPicPr/>
          <p:nvPr/>
        </p:nvPicPr>
        <p:blipFill>
          <a:blip r:embed="rId7"/>
          <a:srcRect l="24015" t="0" r="27974" b="0"/>
          <a:stretch/>
        </p:blipFill>
        <p:spPr>
          <a:xfrm>
            <a:off x="803160" y="1492200"/>
            <a:ext cx="238320" cy="96516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1372" descr="3.png"/>
          <p:cNvPicPr/>
          <p:nvPr/>
        </p:nvPicPr>
        <p:blipFill>
          <a:blip r:embed="rId8"/>
          <a:srcRect l="22580" t="9878" r="48522" b="47626"/>
          <a:stretch/>
        </p:blipFill>
        <p:spPr>
          <a:xfrm>
            <a:off x="428760" y="112248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1373" descr="4.PNG"/>
          <p:cNvPicPr/>
          <p:nvPr/>
        </p:nvPicPr>
        <p:blipFill>
          <a:blip r:embed="rId9"/>
          <a:srcRect l="24015" t="0" r="27974" b="0"/>
          <a:stretch/>
        </p:blipFill>
        <p:spPr>
          <a:xfrm>
            <a:off x="3303720" y="166860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1374" descr="3.png"/>
          <p:cNvPicPr/>
          <p:nvPr/>
        </p:nvPicPr>
        <p:blipFill>
          <a:blip r:embed="rId10"/>
          <a:srcRect l="22580" t="9878" r="48522" b="47626"/>
          <a:stretch/>
        </p:blipFill>
        <p:spPr>
          <a:xfrm>
            <a:off x="2928960" y="130032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568" name="图片 1375" descr="4.PNG"/>
          <p:cNvPicPr/>
          <p:nvPr/>
        </p:nvPicPr>
        <p:blipFill>
          <a:blip r:embed="rId11"/>
          <a:srcRect l="24015" t="0" r="27974" b="0"/>
          <a:stretch/>
        </p:blipFill>
        <p:spPr>
          <a:xfrm>
            <a:off x="4375080" y="59688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569" name="图片 1376" descr="3.png"/>
          <p:cNvPicPr/>
          <p:nvPr/>
        </p:nvPicPr>
        <p:blipFill>
          <a:blip r:embed="rId12"/>
          <a:srcRect l="22580" t="9878" r="48522" b="47626"/>
          <a:stretch/>
        </p:blipFill>
        <p:spPr>
          <a:xfrm>
            <a:off x="4000680" y="22860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1377" descr="4.PNG"/>
          <p:cNvPicPr/>
          <p:nvPr/>
        </p:nvPicPr>
        <p:blipFill>
          <a:blip r:embed="rId13"/>
          <a:srcRect l="24057" t="0" r="28033" b="0"/>
          <a:stretch/>
        </p:blipFill>
        <p:spPr>
          <a:xfrm>
            <a:off x="4908600" y="180648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571" name="图片 1378" descr="3.png"/>
          <p:cNvPicPr/>
          <p:nvPr/>
        </p:nvPicPr>
        <p:blipFill>
          <a:blip r:embed="rId14"/>
          <a:srcRect l="22580" t="9872" r="48522" b="47637"/>
          <a:stretch/>
        </p:blipFill>
        <p:spPr>
          <a:xfrm>
            <a:off x="4643280" y="1432080"/>
            <a:ext cx="714600" cy="655560"/>
          </a:xfrm>
          <a:prstGeom prst="rect">
            <a:avLst/>
          </a:prstGeom>
          <a:ln w="0">
            <a:noFill/>
          </a:ln>
        </p:spPr>
      </p:pic>
      <p:pic>
        <p:nvPicPr>
          <p:cNvPr id="572" name="图片 1379" descr="4.PNG"/>
          <p:cNvPicPr/>
          <p:nvPr/>
        </p:nvPicPr>
        <p:blipFill>
          <a:blip r:embed="rId15"/>
          <a:srcRect l="24057" t="0" r="28033" b="0"/>
          <a:stretch/>
        </p:blipFill>
        <p:spPr>
          <a:xfrm>
            <a:off x="3336840" y="96192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573" name="图片 1380" descr="3.png"/>
          <p:cNvPicPr/>
          <p:nvPr/>
        </p:nvPicPr>
        <p:blipFill>
          <a:blip r:embed="rId16"/>
          <a:srcRect l="22580" t="9872" r="48522" b="47637"/>
          <a:stretch/>
        </p:blipFill>
        <p:spPr>
          <a:xfrm>
            <a:off x="3071880" y="585720"/>
            <a:ext cx="714240" cy="657360"/>
          </a:xfrm>
          <a:prstGeom prst="rect">
            <a:avLst/>
          </a:prstGeom>
          <a:ln w="0">
            <a:noFill/>
          </a:ln>
        </p:spPr>
      </p:pic>
      <p:pic>
        <p:nvPicPr>
          <p:cNvPr id="574" name="图片 1381" descr="4.PNG"/>
          <p:cNvPicPr/>
          <p:nvPr/>
        </p:nvPicPr>
        <p:blipFill>
          <a:blip r:embed="rId17"/>
          <a:srcRect l="24057" t="0" r="28033" b="0"/>
          <a:stretch/>
        </p:blipFill>
        <p:spPr>
          <a:xfrm>
            <a:off x="5408640" y="1176480"/>
            <a:ext cx="169920" cy="688680"/>
          </a:xfrm>
          <a:prstGeom prst="rect">
            <a:avLst/>
          </a:prstGeom>
          <a:ln w="0">
            <a:noFill/>
          </a:ln>
        </p:spPr>
      </p:pic>
      <p:pic>
        <p:nvPicPr>
          <p:cNvPr id="575" name="图片 1382" descr="3.png"/>
          <p:cNvPicPr/>
          <p:nvPr/>
        </p:nvPicPr>
        <p:blipFill>
          <a:blip r:embed="rId18"/>
          <a:srcRect l="22580" t="9872" r="48522" b="47637"/>
          <a:stretch/>
        </p:blipFill>
        <p:spPr>
          <a:xfrm>
            <a:off x="5143680" y="800280"/>
            <a:ext cx="714240" cy="657000"/>
          </a:xfrm>
          <a:prstGeom prst="rect">
            <a:avLst/>
          </a:prstGeom>
          <a:ln w="0">
            <a:noFill/>
          </a:ln>
        </p:spPr>
      </p:pic>
      <p:pic>
        <p:nvPicPr>
          <p:cNvPr id="576" name="图片 1383" descr="4.PNG"/>
          <p:cNvPicPr/>
          <p:nvPr/>
        </p:nvPicPr>
        <p:blipFill>
          <a:blip r:embed="rId19"/>
          <a:srcRect l="24015" t="0" r="27974" b="0"/>
          <a:stretch/>
        </p:blipFill>
        <p:spPr>
          <a:xfrm>
            <a:off x="7139160" y="1379520"/>
            <a:ext cx="280800" cy="113976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1384" descr="3.png"/>
          <p:cNvPicPr/>
          <p:nvPr/>
        </p:nvPicPr>
        <p:blipFill>
          <a:blip r:embed="rId20"/>
          <a:srcRect l="22583" t="9874" r="48515" b="47637"/>
          <a:stretch/>
        </p:blipFill>
        <p:spPr>
          <a:xfrm>
            <a:off x="6696000" y="1014480"/>
            <a:ext cx="1181160" cy="1085760"/>
          </a:xfrm>
          <a:prstGeom prst="rect">
            <a:avLst/>
          </a:prstGeom>
          <a:ln w="0">
            <a:noFill/>
          </a:ln>
        </p:spPr>
      </p:pic>
      <p:pic>
        <p:nvPicPr>
          <p:cNvPr id="578" name="图片 1385" descr="4.PNG"/>
          <p:cNvPicPr/>
          <p:nvPr/>
        </p:nvPicPr>
        <p:blipFill>
          <a:blip r:embed="rId21"/>
          <a:srcRect l="24015" t="0" r="27974" b="0"/>
          <a:stretch/>
        </p:blipFill>
        <p:spPr>
          <a:xfrm>
            <a:off x="6113520" y="69840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1386" descr="3.png"/>
          <p:cNvPicPr/>
          <p:nvPr/>
        </p:nvPicPr>
        <p:blipFill>
          <a:blip r:embed="rId22"/>
          <a:srcRect l="22578" t="9872" r="48519" b="47631"/>
          <a:stretch/>
        </p:blipFill>
        <p:spPr>
          <a:xfrm>
            <a:off x="5753160" y="32868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1387" descr="4.PNG"/>
          <p:cNvPicPr/>
          <p:nvPr/>
        </p:nvPicPr>
        <p:blipFill>
          <a:blip r:embed="rId23"/>
          <a:srcRect l="24015" t="0" r="27974" b="0"/>
          <a:stretch/>
        </p:blipFill>
        <p:spPr>
          <a:xfrm>
            <a:off x="8481960" y="954000"/>
            <a:ext cx="252360" cy="102240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1388" descr="3.png"/>
          <p:cNvPicPr/>
          <p:nvPr/>
        </p:nvPicPr>
        <p:blipFill>
          <a:blip r:embed="rId24"/>
          <a:srcRect l="22582" t="9873" r="48516" b="47634"/>
          <a:stretch/>
        </p:blipFill>
        <p:spPr>
          <a:xfrm>
            <a:off x="8085240" y="58572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1389" descr="4.PNG"/>
          <p:cNvPicPr/>
          <p:nvPr/>
        </p:nvPicPr>
        <p:blipFill>
          <a:blip r:embed="rId25"/>
          <a:srcRect l="23996" t="0" r="28011" b="0"/>
          <a:stretch/>
        </p:blipFill>
        <p:spPr>
          <a:xfrm>
            <a:off x="7870680" y="60156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583" name="图片 1390" descr="3.png"/>
          <p:cNvPicPr/>
          <p:nvPr/>
        </p:nvPicPr>
        <p:blipFill>
          <a:blip r:embed="rId26"/>
          <a:srcRect l="22584" t="9873" r="48515" b="47631"/>
          <a:stretch/>
        </p:blipFill>
        <p:spPr>
          <a:xfrm>
            <a:off x="7572240" y="22860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1391" descr="4.PNG"/>
          <p:cNvPicPr/>
          <p:nvPr/>
        </p:nvPicPr>
        <p:blipFill>
          <a:blip r:embed="rId27"/>
          <a:srcRect l="23996" t="0" r="28011" b="0"/>
          <a:stretch/>
        </p:blipFill>
        <p:spPr>
          <a:xfrm>
            <a:off x="1143000" y="67140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585" name="图片 1392" descr="3.png"/>
          <p:cNvPicPr/>
          <p:nvPr/>
        </p:nvPicPr>
        <p:blipFill>
          <a:blip r:embed="rId28"/>
          <a:srcRect l="22584" t="9873" r="48515" b="47631"/>
          <a:stretch/>
        </p:blipFill>
        <p:spPr>
          <a:xfrm>
            <a:off x="844560" y="29844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1393" descr="4.PNG"/>
          <p:cNvPicPr/>
          <p:nvPr/>
        </p:nvPicPr>
        <p:blipFill>
          <a:blip r:embed="rId29"/>
          <a:srcRect l="24057" t="0" r="28033" b="0"/>
          <a:stretch/>
        </p:blipFill>
        <p:spPr>
          <a:xfrm>
            <a:off x="2479680" y="609480"/>
            <a:ext cx="169920" cy="69084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1394" descr="3.png"/>
          <p:cNvPicPr/>
          <p:nvPr/>
        </p:nvPicPr>
        <p:blipFill>
          <a:blip r:embed="rId30"/>
          <a:srcRect l="22580" t="9872" r="48522" b="47637"/>
          <a:stretch/>
        </p:blipFill>
        <p:spPr>
          <a:xfrm>
            <a:off x="2214720" y="23508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1395" descr="4.PNG"/>
          <p:cNvPicPr/>
          <p:nvPr/>
        </p:nvPicPr>
        <p:blipFill>
          <a:blip r:embed="rId31"/>
          <a:srcRect l="24015" t="0" r="27974" b="0"/>
          <a:stretch/>
        </p:blipFill>
        <p:spPr>
          <a:xfrm>
            <a:off x="1913040" y="1292400"/>
            <a:ext cx="304560" cy="124128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1396" descr="3.png"/>
          <p:cNvPicPr/>
          <p:nvPr/>
        </p:nvPicPr>
        <p:blipFill>
          <a:blip r:embed="rId32"/>
          <a:srcRect l="22584" t="9878" r="48519" b="47631"/>
          <a:stretch/>
        </p:blipFill>
        <p:spPr>
          <a:xfrm>
            <a:off x="1428840" y="92880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1397" descr="4.PNG"/>
          <p:cNvPicPr/>
          <p:nvPr/>
        </p:nvPicPr>
        <p:blipFill>
          <a:blip r:embed="rId33"/>
          <a:srcRect l="24015" t="0" r="27974" b="0"/>
          <a:stretch/>
        </p:blipFill>
        <p:spPr>
          <a:xfrm>
            <a:off x="660240" y="1644480"/>
            <a:ext cx="238320" cy="96552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1398" descr="3.png"/>
          <p:cNvPicPr/>
          <p:nvPr/>
        </p:nvPicPr>
        <p:blipFill>
          <a:blip r:embed="rId34"/>
          <a:srcRect l="22580" t="9878" r="48522" b="47626"/>
          <a:stretch/>
        </p:blipFill>
        <p:spPr>
          <a:xfrm>
            <a:off x="285840" y="127476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1399" descr="4.PNG"/>
          <p:cNvPicPr/>
          <p:nvPr/>
        </p:nvPicPr>
        <p:blipFill>
          <a:blip r:embed="rId35"/>
          <a:srcRect l="24015" t="0" r="27974" b="0"/>
          <a:stretch/>
        </p:blipFill>
        <p:spPr>
          <a:xfrm>
            <a:off x="3160800" y="182088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1400" descr="3.png"/>
          <p:cNvPicPr/>
          <p:nvPr/>
        </p:nvPicPr>
        <p:blipFill>
          <a:blip r:embed="rId36"/>
          <a:srcRect l="22580" t="9878" r="48522" b="47626"/>
          <a:stretch/>
        </p:blipFill>
        <p:spPr>
          <a:xfrm>
            <a:off x="2786040" y="145260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1401" descr="4.PNG"/>
          <p:cNvPicPr/>
          <p:nvPr/>
        </p:nvPicPr>
        <p:blipFill>
          <a:blip r:embed="rId37"/>
          <a:srcRect l="24015" t="0" r="27974" b="0"/>
          <a:stretch/>
        </p:blipFill>
        <p:spPr>
          <a:xfrm>
            <a:off x="4232160" y="74916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1402" descr="3.png"/>
          <p:cNvPicPr/>
          <p:nvPr/>
        </p:nvPicPr>
        <p:blipFill>
          <a:blip r:embed="rId38"/>
          <a:srcRect l="22580" t="9878" r="48522" b="47626"/>
          <a:stretch/>
        </p:blipFill>
        <p:spPr>
          <a:xfrm>
            <a:off x="3857760" y="38088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1403" descr="4.PNG"/>
          <p:cNvPicPr/>
          <p:nvPr/>
        </p:nvPicPr>
        <p:blipFill>
          <a:blip r:embed="rId39"/>
          <a:srcRect l="24057" t="0" r="28033" b="0"/>
          <a:stretch/>
        </p:blipFill>
        <p:spPr>
          <a:xfrm>
            <a:off x="4765680" y="19591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1404" descr="3.png"/>
          <p:cNvPicPr/>
          <p:nvPr/>
        </p:nvPicPr>
        <p:blipFill>
          <a:blip r:embed="rId40"/>
          <a:srcRect l="22580" t="9872" r="48522" b="47637"/>
          <a:stretch/>
        </p:blipFill>
        <p:spPr>
          <a:xfrm>
            <a:off x="4500720" y="15843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1405" descr="4.PNG"/>
          <p:cNvPicPr/>
          <p:nvPr/>
        </p:nvPicPr>
        <p:blipFill>
          <a:blip r:embed="rId41"/>
          <a:srcRect l="24057" t="0" r="28033" b="0"/>
          <a:stretch/>
        </p:blipFill>
        <p:spPr>
          <a:xfrm>
            <a:off x="3193920" y="1114560"/>
            <a:ext cx="169920" cy="68868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1406" descr="3.png"/>
          <p:cNvPicPr/>
          <p:nvPr/>
        </p:nvPicPr>
        <p:blipFill>
          <a:blip r:embed="rId42"/>
          <a:srcRect l="22580" t="9872" r="48522" b="47637"/>
          <a:stretch/>
        </p:blipFill>
        <p:spPr>
          <a:xfrm>
            <a:off x="2928960" y="738360"/>
            <a:ext cx="714240" cy="65700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1407" descr="4.PNG"/>
          <p:cNvPicPr/>
          <p:nvPr/>
        </p:nvPicPr>
        <p:blipFill>
          <a:blip r:embed="rId43"/>
          <a:srcRect l="24057" t="0" r="28033" b="0"/>
          <a:stretch/>
        </p:blipFill>
        <p:spPr>
          <a:xfrm>
            <a:off x="5265720" y="132876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1408" descr="3.png"/>
          <p:cNvPicPr/>
          <p:nvPr/>
        </p:nvPicPr>
        <p:blipFill>
          <a:blip r:embed="rId44"/>
          <a:srcRect l="22580" t="9872" r="48522" b="47637"/>
          <a:stretch/>
        </p:blipFill>
        <p:spPr>
          <a:xfrm>
            <a:off x="5000760" y="952560"/>
            <a:ext cx="714240" cy="65700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1409" descr="4.PNG"/>
          <p:cNvPicPr/>
          <p:nvPr/>
        </p:nvPicPr>
        <p:blipFill>
          <a:blip r:embed="rId45"/>
          <a:srcRect l="24015" t="0" r="27974" b="0"/>
          <a:stretch/>
        </p:blipFill>
        <p:spPr>
          <a:xfrm>
            <a:off x="6996240" y="1531800"/>
            <a:ext cx="280800" cy="114012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1410" descr="3.png"/>
          <p:cNvPicPr/>
          <p:nvPr/>
        </p:nvPicPr>
        <p:blipFill>
          <a:blip r:embed="rId46"/>
          <a:srcRect l="22583" t="9874" r="48515" b="47637"/>
          <a:stretch/>
        </p:blipFill>
        <p:spPr>
          <a:xfrm>
            <a:off x="6553080" y="1166760"/>
            <a:ext cx="1181160" cy="108576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1411" descr="4.PNG"/>
          <p:cNvPicPr/>
          <p:nvPr/>
        </p:nvPicPr>
        <p:blipFill>
          <a:blip r:embed="rId47"/>
          <a:srcRect l="24015" t="0" r="27974" b="0"/>
          <a:stretch/>
        </p:blipFill>
        <p:spPr>
          <a:xfrm>
            <a:off x="5970600" y="85104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1412" descr="3.png"/>
          <p:cNvPicPr/>
          <p:nvPr/>
        </p:nvPicPr>
        <p:blipFill>
          <a:blip r:embed="rId48"/>
          <a:srcRect l="22578" t="9872" r="48519" b="47631"/>
          <a:stretch/>
        </p:blipFill>
        <p:spPr>
          <a:xfrm>
            <a:off x="5610240" y="48096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1413" descr="4.PNG"/>
          <p:cNvPicPr/>
          <p:nvPr/>
        </p:nvPicPr>
        <p:blipFill>
          <a:blip r:embed="rId49"/>
          <a:srcRect l="24015" t="0" r="27974" b="0"/>
          <a:stretch/>
        </p:blipFill>
        <p:spPr>
          <a:xfrm>
            <a:off x="8339040" y="1106640"/>
            <a:ext cx="252360" cy="102204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1414" descr="3.png"/>
          <p:cNvPicPr/>
          <p:nvPr/>
        </p:nvPicPr>
        <p:blipFill>
          <a:blip r:embed="rId50"/>
          <a:srcRect l="22582" t="9873" r="48516" b="47634"/>
          <a:stretch/>
        </p:blipFill>
        <p:spPr>
          <a:xfrm>
            <a:off x="7942320" y="73836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1415" descr="4.PNG"/>
          <p:cNvPicPr/>
          <p:nvPr/>
        </p:nvPicPr>
        <p:blipFill>
          <a:blip r:embed="rId51"/>
          <a:srcRect l="23996" t="0" r="28011" b="0"/>
          <a:stretch/>
        </p:blipFill>
        <p:spPr>
          <a:xfrm>
            <a:off x="7728120" y="754200"/>
            <a:ext cx="188640" cy="771480"/>
          </a:xfrm>
          <a:prstGeom prst="rect">
            <a:avLst/>
          </a:prstGeom>
          <a:ln w="0">
            <a:noFill/>
          </a:ln>
        </p:spPr>
      </p:pic>
      <p:pic>
        <p:nvPicPr>
          <p:cNvPr id="609" name="图片 1416" descr="3.png"/>
          <p:cNvPicPr/>
          <p:nvPr/>
        </p:nvPicPr>
        <p:blipFill>
          <a:blip r:embed="rId52"/>
          <a:srcRect l="22584" t="9873" r="48515" b="47631"/>
          <a:stretch/>
        </p:blipFill>
        <p:spPr>
          <a:xfrm>
            <a:off x="7429680" y="38088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1417" descr="4.PNG"/>
          <p:cNvPicPr/>
          <p:nvPr/>
        </p:nvPicPr>
        <p:blipFill>
          <a:blip r:embed="rId53"/>
          <a:srcRect l="23996" t="0" r="28011" b="0"/>
          <a:stretch/>
        </p:blipFill>
        <p:spPr>
          <a:xfrm>
            <a:off x="1000080" y="82404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611" name="图片 1418" descr="3.png"/>
          <p:cNvPicPr/>
          <p:nvPr/>
        </p:nvPicPr>
        <p:blipFill>
          <a:blip r:embed="rId54"/>
          <a:srcRect l="22584" t="9873" r="48515" b="47631"/>
          <a:stretch/>
        </p:blipFill>
        <p:spPr>
          <a:xfrm>
            <a:off x="701640" y="45072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612" name="图片 1419" descr="4.PNG"/>
          <p:cNvPicPr/>
          <p:nvPr/>
        </p:nvPicPr>
        <p:blipFill>
          <a:blip r:embed="rId55"/>
          <a:srcRect l="24057" t="0" r="28033" b="0"/>
          <a:stretch/>
        </p:blipFill>
        <p:spPr>
          <a:xfrm>
            <a:off x="2336760" y="7621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613" name="图片 1420" descr="3.png"/>
          <p:cNvPicPr/>
          <p:nvPr/>
        </p:nvPicPr>
        <p:blipFill>
          <a:blip r:embed="rId56"/>
          <a:srcRect l="22580" t="9872" r="48522" b="47637"/>
          <a:stretch/>
        </p:blipFill>
        <p:spPr>
          <a:xfrm>
            <a:off x="2071800" y="387360"/>
            <a:ext cx="714240" cy="65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0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08" dur="75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6" dur="75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21" dur="5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729" dur="1000" fill="hold"/>
                                        <p:tgtEl>
                                          <p:spTgt spid="5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37" dur="5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745" dur="1000" fill="hold"/>
                                        <p:tgtEl>
                                          <p:spTgt spid="5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46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53" dur="5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4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1761" dur="1000" fill="hold"/>
                                        <p:tgtEl>
                                          <p:spTgt spid="5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62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8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69" dur="5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0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777" dur="1000" fill="hold"/>
                                        <p:tgtEl>
                                          <p:spTgt spid="5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85" dur="5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6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793" dur="1000" fill="hold"/>
                                        <p:tgtEl>
                                          <p:spTgt spid="5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94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01" dur="5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809" dur="1000" fill="hold"/>
                                        <p:tgtEl>
                                          <p:spTgt spid="5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1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17" dur="5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8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825" dur="1000" fill="hold"/>
                                        <p:tgtEl>
                                          <p:spTgt spid="5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26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33" dur="5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4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841" dur="1000" fill="hold"/>
                                        <p:tgtEl>
                                          <p:spTgt spid="5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42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49" dur="5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0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857" dur="1000" fill="hold"/>
                                        <p:tgtEl>
                                          <p:spTgt spid="5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58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65" dur="5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6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873" dur="1000" fill="hold"/>
                                        <p:tgtEl>
                                          <p:spTgt spid="5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74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81" dur="5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2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889" dur="1000" fill="hold"/>
                                        <p:tgtEl>
                                          <p:spTgt spid="5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90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97" dur="5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8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905" dur="1000" fill="hold"/>
                                        <p:tgtEl>
                                          <p:spTgt spid="5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06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13" dur="5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4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0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921" dur="1000" fill="hold"/>
                                        <p:tgtEl>
                                          <p:spTgt spid="5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22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3300"/>
                            </p:stCondLst>
                            <p:childTnLst>
                              <p:par>
                                <p:cTn id="1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30" dur="5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938" dur="1000" fill="hold"/>
                                        <p:tgtEl>
                                          <p:spTgt spid="5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3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46" dur="5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7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954" dur="1000" fill="hold"/>
                                        <p:tgtEl>
                                          <p:spTgt spid="5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55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62" dur="5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3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1970" dur="1000" fill="hold"/>
                                        <p:tgtEl>
                                          <p:spTgt spid="5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71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78" dur="5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986" dur="1000" fill="hold"/>
                                        <p:tgtEl>
                                          <p:spTgt spid="5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87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94" dur="5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5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2002" dur="1000" fill="hold"/>
                                        <p:tgtEl>
                                          <p:spTgt spid="5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03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10" dur="5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1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018" dur="10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1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26" dur="5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0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3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034" dur="1000" fill="hold"/>
                                        <p:tgtEl>
                                          <p:spTgt spid="6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3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1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42" dur="5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3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6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9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050" dur="1000" fill="hold"/>
                                        <p:tgtEl>
                                          <p:spTgt spid="6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51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58" dur="5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9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066" dur="1000" fill="hold"/>
                                        <p:tgtEl>
                                          <p:spTgt spid="6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67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74" dur="5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5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1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082" dur="1000" fill="hold"/>
                                        <p:tgtEl>
                                          <p:spTgt spid="6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83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9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90" dur="5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1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098" dur="1000" fill="hold"/>
                                        <p:tgtEl>
                                          <p:spTgt spid="6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99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5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106" dur="5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7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3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114" dur="1000" fill="hold"/>
                                        <p:tgtEl>
                                          <p:spTgt spid="6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15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1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122" dur="5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3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9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130" dur="1000" fill="hold"/>
                                        <p:tgtEl>
                                          <p:spTgt spid="6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31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矩形 3"/>
          <p:cNvSpPr/>
          <p:nvPr/>
        </p:nvSpPr>
        <p:spPr>
          <a:xfrm>
            <a:off x="0" y="-46080"/>
            <a:ext cx="9144000" cy="5194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组合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38640"/>
          </a:xfrm>
          <a:prstGeom prst="rect">
            <a:avLst/>
          </a:prstGeom>
          <a:ln w="0">
            <a:noFill/>
          </a:ln>
        </p:spPr>
      </p:pic>
      <p:pic>
        <p:nvPicPr>
          <p:cNvPr id="616" name="图片 1366" descr=""/>
          <p:cNvPicPr/>
          <p:nvPr/>
        </p:nvPicPr>
        <p:blipFill>
          <a:blip r:embed="rId2"/>
          <a:srcRect l="20634" t="11165" r="21423" b="50005"/>
          <a:stretch/>
        </p:blipFill>
        <p:spPr>
          <a:xfrm>
            <a:off x="1263600" y="1674720"/>
            <a:ext cx="4316400" cy="1976400"/>
          </a:xfrm>
          <a:prstGeom prst="rect">
            <a:avLst/>
          </a:prstGeom>
          <a:ln w="0">
            <a:noFill/>
          </a:ln>
        </p:spPr>
      </p:pic>
      <p:pic>
        <p:nvPicPr>
          <p:cNvPr id="617" name="图片 142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68960" y="0"/>
            <a:ext cx="3190680" cy="514368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422" descr=""/>
          <p:cNvPicPr/>
          <p:nvPr/>
        </p:nvPicPr>
        <p:blipFill>
          <a:blip r:embed="rId5"/>
          <a:srcRect l="0" t="0" r="0" b="73105"/>
          <a:stretch/>
        </p:blipFill>
        <p:spPr>
          <a:xfrm>
            <a:off x="0" y="-87480"/>
            <a:ext cx="9144000" cy="1378080"/>
          </a:xfrm>
          <a:prstGeom prst="rect">
            <a:avLst/>
          </a:prstGeom>
          <a:ln w="0">
            <a:noFill/>
          </a:ln>
        </p:spPr>
      </p:pic>
      <p:grpSp>
        <p:nvGrpSpPr>
          <p:cNvPr id="619" name=""/>
          <p:cNvGrpSpPr/>
          <p:nvPr/>
        </p:nvGrpSpPr>
        <p:grpSpPr>
          <a:xfrm>
            <a:off x="1042920" y="1131840"/>
            <a:ext cx="4394160" cy="2087640"/>
            <a:chOff x="1042920" y="1131840"/>
            <a:chExt cx="4394160" cy="2087640"/>
          </a:xfrm>
        </p:grpSpPr>
        <p:sp>
          <p:nvSpPr>
            <p:cNvPr id="620" name="矩形 1425"/>
            <p:cNvSpPr/>
            <p:nvPr/>
          </p:nvSpPr>
          <p:spPr>
            <a:xfrm>
              <a:off x="1042920" y="1131840"/>
              <a:ext cx="4394160" cy="208764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1" name="图片 2" descr=""/>
            <p:cNvPicPr/>
            <p:nvPr/>
          </p:nvPicPr>
          <p:blipFill>
            <a:blip r:embed="rId6"/>
            <a:srcRect l="6223" t="7786" r="10330" b="87894"/>
            <a:stretch/>
          </p:blipFill>
          <p:spPr>
            <a:xfrm>
              <a:off x="1042920" y="1203480"/>
              <a:ext cx="4246920" cy="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图片 1424" descr=""/>
            <p:cNvPicPr/>
            <p:nvPr/>
          </p:nvPicPr>
          <p:blipFill>
            <a:blip r:embed="rId7"/>
            <a:srcRect l="6223" t="7786" r="10330" b="87894"/>
            <a:stretch/>
          </p:blipFill>
          <p:spPr>
            <a:xfrm>
              <a:off x="1084320" y="3003480"/>
              <a:ext cx="4246920" cy="14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3" name="图片 1423" descr=""/>
          <p:cNvPicPr/>
          <p:nvPr/>
        </p:nvPicPr>
        <p:blipFill>
          <a:blip r:embed="rId8"/>
          <a:stretch/>
        </p:blipFill>
        <p:spPr>
          <a:xfrm>
            <a:off x="5146560" y="843120"/>
            <a:ext cx="290520" cy="263844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1427" descr=""/>
          <p:cNvPicPr/>
          <p:nvPr/>
        </p:nvPicPr>
        <p:blipFill>
          <a:blip r:embed="rId9"/>
          <a:stretch/>
        </p:blipFill>
        <p:spPr>
          <a:xfrm>
            <a:off x="974880" y="843120"/>
            <a:ext cx="288720" cy="2638440"/>
          </a:xfrm>
          <a:prstGeom prst="rect">
            <a:avLst/>
          </a:prstGeom>
          <a:ln w="0">
            <a:noFill/>
          </a:ln>
        </p:spPr>
      </p:pic>
      <p:sp>
        <p:nvSpPr>
          <p:cNvPr id="625" name="TextBox 1428"/>
          <p:cNvSpPr/>
          <p:nvPr/>
        </p:nvSpPr>
        <p:spPr>
          <a:xfrm>
            <a:off x="1403280" y="1454040"/>
            <a:ext cx="36734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迷你简粗行楷"/>
              </a:rPr>
              <a:t>祝：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迷你简粗行楷"/>
              </a:rPr>
              <a:t>祝您在新的一年里，生意兴隆财源广进，万事如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迷你简粗行楷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迷你简粗行楷"/>
              </a:rPr>
              <a:t>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迷你简粗行楷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迷你简粗行楷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迷你简粗行楷"/>
              </a:rPr>
              <a:t>xxxxxxx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迷你简粗行楷"/>
              </a:rPr>
              <a:t>公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9" dur="1000" fill="hold"/>
                                        <p:tgtEl>
                                          <p:spTgt spid="616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1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8353E-006 L -0.20486 0.30404 E">
                                      <p:cBhvr>
                                        <p:cTn id="2141" dur="1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49861E-006 L 0.09461 -0.20012 E">
                                      <p:cBhvr>
                                        <p:cTn id="2149" dur="5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1.49861E-006 L 0.45625 -1.49861E-006 E">
                                      <p:cBhvr>
                                        <p:cTn id="2157" dur="15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0" dur="16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3100"/>
                            </p:stCondLst>
                            <p:childTnLst>
                              <p:par>
                                <p:cTn id="216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矩形 3"/>
          <p:cNvSpPr/>
          <p:nvPr/>
        </p:nvSpPr>
        <p:spPr>
          <a:xfrm>
            <a:off x="0" y="-46080"/>
            <a:ext cx="9144000" cy="5194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组合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3864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1422" descr=""/>
          <p:cNvPicPr/>
          <p:nvPr/>
        </p:nvPicPr>
        <p:blipFill>
          <a:blip r:embed="rId2"/>
          <a:srcRect l="0" t="0" r="0" b="73105"/>
          <a:stretch/>
        </p:blipFill>
        <p:spPr>
          <a:xfrm>
            <a:off x="0" y="-87480"/>
            <a:ext cx="9144000" cy="1378080"/>
          </a:xfrm>
          <a:prstGeom prst="rect">
            <a:avLst/>
          </a:prstGeom>
          <a:ln w="0">
            <a:noFill/>
          </a:ln>
        </p:spPr>
      </p:pic>
      <p:grpSp>
        <p:nvGrpSpPr>
          <p:cNvPr id="629" name=""/>
          <p:cNvGrpSpPr/>
          <p:nvPr/>
        </p:nvGrpSpPr>
        <p:grpSpPr>
          <a:xfrm>
            <a:off x="1330200" y="1131840"/>
            <a:ext cx="6824880" cy="2087640"/>
            <a:chOff x="1330200" y="1131840"/>
            <a:chExt cx="6824880" cy="2087640"/>
          </a:xfrm>
        </p:grpSpPr>
        <p:sp>
          <p:nvSpPr>
            <p:cNvPr id="630" name="矩形 1425">
              <a:hlinkClick r:id="rId3"/>
            </p:cNvPr>
            <p:cNvSpPr/>
            <p:nvPr/>
          </p:nvSpPr>
          <p:spPr>
            <a:xfrm>
              <a:off x="1330200" y="1131840"/>
              <a:ext cx="6824880" cy="208764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1" name="图片 2" descr=""/>
            <p:cNvPicPr/>
            <p:nvPr/>
          </p:nvPicPr>
          <p:blipFill>
            <a:blip r:embed="rId4"/>
            <a:srcRect l="6223" t="7786" r="10330" b="87894"/>
            <a:stretch/>
          </p:blipFill>
          <p:spPr>
            <a:xfrm>
              <a:off x="1330200" y="1203480"/>
              <a:ext cx="6596280" cy="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图片 1424" descr=""/>
            <p:cNvPicPr/>
            <p:nvPr/>
          </p:nvPicPr>
          <p:blipFill>
            <a:blip r:embed="rId5"/>
            <a:srcRect l="6223" t="7786" r="10330" b="87894"/>
            <a:stretch/>
          </p:blipFill>
          <p:spPr>
            <a:xfrm>
              <a:off x="1394640" y="3003480"/>
              <a:ext cx="6596280" cy="14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3" name="图片 1423" descr=""/>
          <p:cNvPicPr/>
          <p:nvPr/>
        </p:nvPicPr>
        <p:blipFill>
          <a:blip r:embed="rId6"/>
          <a:stretch/>
        </p:blipFill>
        <p:spPr>
          <a:xfrm>
            <a:off x="7881840" y="843120"/>
            <a:ext cx="290520" cy="2638440"/>
          </a:xfrm>
          <a:prstGeom prst="rect">
            <a:avLst/>
          </a:prstGeom>
          <a:ln w="0">
            <a:noFill/>
          </a:ln>
        </p:spPr>
      </p:pic>
      <p:pic>
        <p:nvPicPr>
          <p:cNvPr id="634" name="图片 1427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60360" y="843120"/>
            <a:ext cx="290520" cy="2638440"/>
          </a:xfrm>
          <a:prstGeom prst="rect">
            <a:avLst/>
          </a:prstGeom>
          <a:ln w="0">
            <a:noFill/>
          </a:ln>
        </p:spPr>
      </p:pic>
      <p:sp>
        <p:nvSpPr>
          <p:cNvPr id="635" name="TextBox 1374"/>
          <p:cNvSpPr/>
          <p:nvPr/>
        </p:nvSpPr>
        <p:spPr>
          <a:xfrm>
            <a:off x="1185840" y="1424160"/>
            <a:ext cx="468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京锐得幻演广告有限公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矩形 1376"/>
          <p:cNvSpPr/>
          <p:nvPr/>
        </p:nvSpPr>
        <p:spPr>
          <a:xfrm>
            <a:off x="1762200" y="1595520"/>
            <a:ext cx="6264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迷你简雪君"/>
                <a:ea typeface="迷你简雪君"/>
              </a:rPr>
              <a:t>祝大家新年快乐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"/>
          <p:cNvSpPr/>
          <p:nvPr/>
        </p:nvSpPr>
        <p:spPr>
          <a:xfrm>
            <a:off x="2503080" y="458784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9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165" dur="indefinite" restart="never" nodeType="tmRoot">
          <p:childTnLst>
            <p:seq>
              <p:cTn id="2166" dur="indefinite" nodeType="mainSeq">
                <p:childTnLst>
                  <p:par>
                    <p:cTn id="2167" fill="hold">
                      <p:stCondLst>
                        <p:cond delay="0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1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49861E-006 L -0.72431 -1.49861E-006 E">
                                      <p:cBhvr>
                                        <p:cTn id="2181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4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6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1:06:52Z</dcterms:created>
  <dc:creator>锐得PPT原创</dc:creator>
  <dc:description>更多精品请到锐得PPT论坛免费下载 
http://bbs.ruideppt.com/</dc:description>
  <dc:language>en-US</dc:language>
  <cp:lastModifiedBy>番茄花园</cp:lastModifiedBy>
  <dcterms:modified xsi:type="dcterms:W3CDTF">2014-10-23T16:16:11Z</dcterms:modified>
  <cp:revision>18</cp:revision>
  <dc:subject/>
  <dc:title>龙年新年贺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