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6D7-9B97-4DF3-84FA-3A2E01F5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D06-921D-4CE8-B03D-3E708957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79C-5087-408A-9FB2-822B4DCF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AD9-5A72-431F-81F9-67AE5176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1A37-F081-4244-AC32-1774447D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0C30-E31E-4E28-8FA4-369CC141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C498-69EA-4CE2-9546-8C2098C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22F6-2FA1-4F79-9953-969ECD55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38F4-F1D7-4032-ADCE-8774D758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3069-A8FB-4102-8372-11C5B191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AD4D-F7AF-4569-A87C-E7D93B67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15C-D4AB-4EF6-85DB-E16FBADA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828B-4342-4458-A2B9-C3C036C0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510-9BA3-43AC-8BA4-21664601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19D9-C0F7-4E16-A6E5-DFAC0996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01DA-9339-4BA1-A8E3-1A8DF009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1099-80AD-4AD6-BCF9-87D435BE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F73E-CA95-489C-AA6E-CECA0A0B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0CCC-71E2-47B7-BC51-6B2C5CCE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28D3-4476-41AD-9989-BB6E52AC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945D-7825-4FD4-BCC1-2A65CE3E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FB7C-3A67-4493-8653-64DC4ED6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25F-86EA-4FA7-B770-9E97F4D8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D317-A3E6-42F8-AE6B-E8F79D4A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8ECF-E1E8-4D1C-9A2A-41FDDF5E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8509-996E-48D4-BD1F-A86178D7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D1F8-25D5-4E29-8471-8DC02454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E40E-95E5-40BB-AC83-3516B1C5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BE02-ACE8-491E-B24A-1CDC457E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F1CF-93FC-4C04-9E92-B1906A24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394-9711-4008-B3CA-C57BE13B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647-2658-41AF-8913-FAC32A35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2E4-9AF3-4CE9-AD80-7179BA9A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764-FA2F-41C0-93C3-66994590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AE9-FFE4-4246-8DFF-4BE6D94F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8CE-E874-4A50-B7E5-22A5A839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772400" cy="309600"/>
          </a:xfrm>
          <a:prstGeom prst="rect">
            <a:avLst/>
          </a:prstGeom>
          <a:gradFill rotWithShape="0">
            <a:gsLst>
              <a:gs pos="0">
                <a:srgbClr val="ee8614"/>
              </a:gs>
              <a:gs pos="100000">
                <a:srgbClr val="7e5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14400"/>
            <a:ext cx="9144000" cy="5943240"/>
            <a:chOff x="0" y="914400"/>
            <a:chExt cx="9144000" cy="5943240"/>
          </a:xfrm>
        </p:grpSpPr>
        <p:sp>
          <p:nvSpPr>
            <p:cNvPr id="2" name=""/>
            <p:cNvSpPr/>
            <p:nvPr/>
          </p:nvSpPr>
          <p:spPr>
            <a:xfrm>
              <a:off x="0" y="1244520"/>
              <a:ext cx="9144000" cy="5613120"/>
            </a:xfrm>
            <a:prstGeom prst="rect">
              <a:avLst/>
            </a:prstGeom>
            <a:solidFill>
              <a:srgbClr val="216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14400"/>
              <a:ext cx="9144000" cy="330120"/>
            </a:xfrm>
            <a:prstGeom prst="rect">
              <a:avLst/>
            </a:prstGeom>
            <a:gradFill rotWithShape="0">
              <a:gsLst>
                <a:gs pos="0">
                  <a:srgbClr val="0f2f4c"/>
                </a:gs>
                <a:gs pos="100000">
                  <a:srgbClr val="2167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65040" y="1142640"/>
            <a:ext cx="832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400800" y="647676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36E5-8C7F-4065-9245-15EA0BE2E86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04920"/>
            <a:ext cx="8321760" cy="68580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96080" y="0"/>
            <a:ext cx="1447920" cy="1400040"/>
          </a:xfrm>
          <a:prstGeom prst="rect">
            <a:avLst/>
          </a:prstGeom>
          <a:solidFill>
            <a:srgbClr val="ee86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878600" y="0"/>
            <a:ext cx="1265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934320" y="304920"/>
            <a:ext cx="761760" cy="68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202440" y="304920"/>
            <a:ext cx="738000" cy="68580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743200"/>
            <a:ext cx="9144000" cy="4114800"/>
            <a:chOff x="0" y="2743200"/>
            <a:chExt cx="9144000" cy="4114800"/>
          </a:xfrm>
        </p:grpSpPr>
        <p:sp>
          <p:nvSpPr>
            <p:cNvPr id="51" name=""/>
            <p:cNvSpPr/>
            <p:nvPr/>
          </p:nvSpPr>
          <p:spPr>
            <a:xfrm>
              <a:off x="0" y="2971800"/>
              <a:ext cx="9144000" cy="3886200"/>
            </a:xfrm>
            <a:prstGeom prst="rect">
              <a:avLst/>
            </a:prstGeom>
            <a:solidFill>
              <a:srgbClr val="7e5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743200"/>
              <a:ext cx="9144000" cy="228600"/>
            </a:xfrm>
            <a:prstGeom prst="rect">
              <a:avLst/>
            </a:prstGeom>
            <a:solidFill>
              <a:srgbClr val="7e5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2743200"/>
            <a:ext cx="9144000" cy="228600"/>
          </a:xfrm>
          <a:prstGeom prst="rect">
            <a:avLst/>
          </a:prstGeom>
          <a:gradFill rotWithShape="0">
            <a:gsLst>
              <a:gs pos="0">
                <a:srgbClr val="3a284d"/>
              </a:gs>
              <a:gs pos="100000">
                <a:srgbClr val="7e57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68580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600" y="2057400"/>
            <a:ext cx="6159600" cy="533520"/>
          </a:xfrm>
          <a:prstGeom prst="rect">
            <a:avLst/>
          </a:prstGeom>
          <a:solidFill>
            <a:srgbClr val="78b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580920" y="6324120"/>
            <a:ext cx="266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924320" y="632412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E2A2-4F4D-45E2-BE42-B29D42BFEA7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49960" y="21337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28600" cy="2590920"/>
          </a:xfrm>
          <a:prstGeom prst="rect">
            <a:avLst/>
          </a:prstGeom>
          <a:solidFill>
            <a:srgbClr val="78b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0040" y="569880"/>
            <a:ext cx="1663560" cy="148608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10000" y="569880"/>
            <a:ext cx="1670040" cy="148608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9960" y="569880"/>
            <a:ext cx="1670040" cy="148608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0"/>
            <a:ext cx="2971800" cy="20574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E8D1-72A1-4DFA-B35A-B23F1542DE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br>
              <a:rPr sz="25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5500" spc="-1" strike="noStrike">
                <a:solidFill>
                  <a:srgbClr val="ffffff"/>
                </a:solidFill>
                <a:latin typeface="Arial"/>
                <a:ea typeface="宋体"/>
              </a:rPr>
              <a:t>PowerTemplate</a:t>
            </a:r>
            <a:endParaRPr b="1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370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b2b2b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b2b2b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b2b2b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905120" y="2438280"/>
            <a:ext cx="5333400" cy="2819520"/>
            <a:chOff x="1905120" y="2438280"/>
            <a:chExt cx="5333400" cy="2819520"/>
          </a:xfrm>
        </p:grpSpPr>
        <p:sp>
          <p:nvSpPr>
            <p:cNvPr id="374" name="未知"/>
            <p:cNvSpPr/>
            <p:nvPr/>
          </p:nvSpPr>
          <p:spPr>
            <a:xfrm>
              <a:off x="2709000" y="3889080"/>
              <a:ext cx="452952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ee8614"/>
                </a:gs>
                <a:gs pos="100000">
                  <a:srgbClr val="6d3d0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3556440" y="243828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7e57a9"/>
                </a:gs>
                <a:gs pos="100000">
                  <a:srgbClr val="3a28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1905120" y="282420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78b064"/>
                </a:gs>
                <a:gs pos="100000">
                  <a:srgbClr val="9cc4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未知"/>
          <p:cNvSpPr/>
          <p:nvPr/>
        </p:nvSpPr>
        <p:spPr>
          <a:xfrm rot="20241600">
            <a:off x="1236240" y="26902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e57a9"/>
              </a:gs>
              <a:gs pos="100000">
                <a:srgbClr val="f1eef5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68640" y="1828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167a7"/>
              </a:gs>
              <a:gs pos="100000">
                <a:srgbClr val="0b23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54040" y="33526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e8614"/>
              </a:gs>
              <a:gs pos="100000">
                <a:srgbClr val="4a290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36760" y="50497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7e57a9"/>
              </a:gs>
              <a:gs pos="100000">
                <a:srgbClr val="2c1e3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11640" y="4419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8b064"/>
              </a:gs>
              <a:gs pos="100000">
                <a:srgbClr val="324a2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044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9c111"/>
              </a:gs>
              <a:gs pos="100000">
                <a:srgbClr val="4a420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16840" y="3886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07760" y="22860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41400" y="25639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50760" y="48769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29800" y="5500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8776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31960" y="21160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"/>
          <p:cNvCxnSpPr/>
          <p:nvPr/>
        </p:nvCxnSpPr>
        <p:spPr>
          <a:xfrm flipH="1">
            <a:off x="615600" y="21157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741600" y="167652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403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1725480"/>
              <a:ext cx="40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409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92400" y="3144960"/>
              <a:ext cx="40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415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92400" y="4605480"/>
              <a:ext cx="40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422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423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96540c"/>
                  </a:gs>
                  <a:gs pos="100000">
                    <a:srgbClr val="ee8614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c3b1d7"/>
                  </a:gs>
                  <a:gs pos="100000">
                    <a:srgbClr val="7e57a9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b8d5ae"/>
                  </a:gs>
                  <a:gs pos="100000">
                    <a:srgbClr val="78b064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645807"/>
                  </a:gs>
                  <a:gs pos="100000">
                    <a:srgbClr val="d9c111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17524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3a284d"/>
              </a:gs>
              <a:gs pos="50000">
                <a:srgbClr val="7e57a9"/>
              </a:gs>
              <a:gs pos="100000">
                <a:srgbClr val="3a28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ee8614"/>
              </a:gs>
              <a:gs pos="100000">
                <a:srgbClr val="f4b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4"/>
              </a:gs>
              <a:gs pos="100000">
                <a:srgbClr val="78b064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faf0"/>
              </a:gs>
              <a:gs pos="100000">
                <a:srgbClr val="d9c111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4"/>
              </a:gs>
              <a:gs pos="100000">
                <a:srgbClr val="78b064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faf0"/>
              </a:gs>
              <a:gs pos="100000">
                <a:srgbClr val="d9c111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4"/>
              </a:gs>
              <a:gs pos="100000">
                <a:srgbClr val="78b064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720" y="28195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442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443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447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453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458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d9c111"/>
              </a:gs>
              <a:gs pos="100000">
                <a:srgbClr val="96860b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e59f"/>
              </a:gs>
              <a:gs pos="100000">
                <a:srgbClr val="d9c1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466" name="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467" name="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645807"/>
                </a:gs>
                <a:gs pos="100000">
                  <a:srgbClr val="d9c1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474" name="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 rot="5400000">
              <a:off x="1146960" y="20703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 flipV="1" rot="16200000">
              <a:off x="1154520" y="15667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51200" y="1817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56120" y="330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7e57a9"/>
              </a:gs>
              <a:gs pos="100000">
                <a:srgbClr val="573c75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68280" y="320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abbdb"/>
              </a:gs>
              <a:gs pos="100000">
                <a:srgbClr val="7e57a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49360" y="3187800"/>
            <a:ext cx="1323720" cy="1320840"/>
            <a:chOff x="549360" y="3187800"/>
            <a:chExt cx="1323720" cy="1320840"/>
          </a:xfrm>
        </p:grpSpPr>
        <p:grpSp>
          <p:nvGrpSpPr>
            <p:cNvPr id="487" name=""/>
            <p:cNvGrpSpPr/>
            <p:nvPr/>
          </p:nvGrpSpPr>
          <p:grpSpPr>
            <a:xfrm>
              <a:off x="549360" y="3187800"/>
              <a:ext cx="1323720" cy="1320840"/>
              <a:chOff x="549360" y="3187800"/>
              <a:chExt cx="1323720" cy="1320840"/>
            </a:xfrm>
          </p:grpSpPr>
          <p:sp>
            <p:nvSpPr>
              <p:cNvPr id="488" name=""/>
              <p:cNvSpPr/>
              <p:nvPr/>
            </p:nvSpPr>
            <p:spPr>
              <a:xfrm>
                <a:off x="549360" y="31878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4280" y="32140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6120" y="326628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1040" y="32932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6160" y="33102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05960" y="333288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3a284d"/>
                </a:gs>
                <a:gs pos="100000">
                  <a:srgbClr val="7e57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63560" y="3395520"/>
            <a:ext cx="879480" cy="885600"/>
            <a:chOff x="763560" y="3395520"/>
            <a:chExt cx="879480" cy="885600"/>
          </a:xfrm>
        </p:grpSpPr>
        <p:sp>
          <p:nvSpPr>
            <p:cNvPr id="495" name=""/>
            <p:cNvSpPr/>
            <p:nvPr/>
          </p:nvSpPr>
          <p:spPr>
            <a:xfrm>
              <a:off x="763560" y="339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06360" y="339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560" y="383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265400" y="340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967320" y="340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 rot="5400000">
              <a:off x="1131120" y="375804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 flipV="1" rot="16200000">
              <a:off x="1138680" y="32544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93720" y="365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51200" y="35053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83360" y="339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956120" y="4984920"/>
            <a:ext cx="3360960" cy="90144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ee8614"/>
              </a:gs>
              <a:gs pos="100000">
                <a:srgbClr val="a55d0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68280" y="48783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7cda0"/>
              </a:gs>
              <a:gs pos="100000">
                <a:srgbClr val="ee8614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49360" y="4865760"/>
            <a:ext cx="1323720" cy="1320840"/>
            <a:chOff x="549360" y="4865760"/>
            <a:chExt cx="1323720" cy="1320840"/>
          </a:xfrm>
        </p:grpSpPr>
        <p:grpSp>
          <p:nvGrpSpPr>
            <p:cNvPr id="508" name=""/>
            <p:cNvGrpSpPr/>
            <p:nvPr/>
          </p:nvGrpSpPr>
          <p:grpSpPr>
            <a:xfrm>
              <a:off x="549360" y="4865760"/>
              <a:ext cx="1323720" cy="1320840"/>
              <a:chOff x="549360" y="4865760"/>
              <a:chExt cx="1323720" cy="1320840"/>
            </a:xfrm>
          </p:grpSpPr>
          <p:sp>
            <p:nvSpPr>
              <p:cNvPr id="509" name=""/>
              <p:cNvSpPr/>
              <p:nvPr/>
            </p:nvSpPr>
            <p:spPr>
              <a:xfrm>
                <a:off x="549360" y="48657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4280" y="48920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36120" y="49442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1040" y="49712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6160" y="49881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05960" y="50108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6d3d09"/>
                </a:gs>
                <a:gs pos="100000">
                  <a:srgbClr val="ee86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63560" y="5073480"/>
            <a:ext cx="879480" cy="885600"/>
            <a:chOff x="763560" y="5073480"/>
            <a:chExt cx="879480" cy="885600"/>
          </a:xfrm>
        </p:grpSpPr>
        <p:sp>
          <p:nvSpPr>
            <p:cNvPr id="516" name=""/>
            <p:cNvSpPr/>
            <p:nvPr/>
          </p:nvSpPr>
          <p:spPr>
            <a:xfrm>
              <a:off x="763560" y="50734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06360" y="50734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5101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1265400" y="50792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967320" y="50853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 rot="5400000">
              <a:off x="1131120" y="54360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 flipV="1" rot="16200000">
              <a:off x="1138680" y="4932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693720" y="5329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51200" y="5183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83360" y="50734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e57a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15238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c111"/>
              </a:gs>
              <a:gs pos="100000">
                <a:srgbClr val="6458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8b064"/>
              </a:gs>
              <a:gs pos="100000">
                <a:srgbClr val="37512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0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e57a9"/>
              </a:gs>
              <a:gs pos="100000">
                <a:srgbClr val="3a28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79132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未知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6e0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553" name="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8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2167a7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5f4180"/>
              </a:gs>
              <a:gs pos="100000">
                <a:srgbClr val="7e57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baa50e"/>
              </a:gs>
              <a:gs pos="100000">
                <a:srgbClr val="d9c1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cc7311"/>
              </a:gs>
              <a:gs pos="100000">
                <a:srgbClr val="ee8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59160" y="367344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20239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57a9"/>
              </a:gs>
              <a:gs pos="100000">
                <a:srgbClr val="e2daeb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685800" cy="685800"/>
          </a:xfrm>
          <a:prstGeom prst="diamond">
            <a:avLst/>
          </a:prstGeom>
          <a:solidFill>
            <a:srgbClr val="7e57a9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207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9600" y="200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28623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8b064"/>
              </a:gs>
              <a:gs pos="100000">
                <a:srgbClr val="d9e8d3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743200"/>
            <a:ext cx="685800" cy="685800"/>
          </a:xfrm>
          <a:prstGeom prst="diamond">
            <a:avLst/>
          </a:prstGeom>
          <a:solidFill>
            <a:srgbClr val="78b06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91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600" y="284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7004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57a9"/>
              </a:gs>
              <a:gs pos="100000">
                <a:srgbClr val="e2daeb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581280"/>
            <a:ext cx="685800" cy="685800"/>
          </a:xfrm>
          <a:prstGeom prst="diamond">
            <a:avLst/>
          </a:prstGeom>
          <a:solidFill>
            <a:srgbClr val="7e57a9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755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9600" y="367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46148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8b064"/>
              </a:gs>
              <a:gs pos="100000">
                <a:srgbClr val="e1eddd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4495680"/>
            <a:ext cx="685800" cy="685800"/>
          </a:xfrm>
          <a:prstGeom prst="diamond">
            <a:avLst/>
          </a:prstGeom>
          <a:solidFill>
            <a:srgbClr val="78b06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670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9600" y="459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2590920" y="5334120"/>
            <a:ext cx="39448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676520" y="34290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8b064"/>
                    </a:gs>
                    <a:gs pos="100000">
                      <a:srgbClr val="2167a7"/>
                    </a:gs>
                  </a:gsLst>
                  <a:lin ang="10800000"/>
                </a:gradFill>
                <a:effectLst>
                  <a:outerShdw dist="91658" dir="3382340" blurRad="0" rotWithShape="0">
                    <a:srgbClr val="080808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8b064"/>
                  </a:gs>
                  <a:gs pos="100000">
                    <a:srgbClr val="2167a7"/>
                  </a:gs>
                </a:gsLst>
                <a:lin ang="10800000"/>
              </a:gradFill>
              <a:effectLst>
                <a:outerShdw dist="91658" dir="338234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1200" y="1517400"/>
            <a:ext cx="800748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100" spc="-1" strike="noStrike">
                <a:solidFill>
                  <a:srgbClr val="d9c111"/>
                </a:solidFill>
                <a:latin typeface="Arial"/>
                <a:ea typeface="宋体"/>
              </a:rPr>
              <a:t>[View]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100" spc="-1" strike="noStrike">
                <a:solidFill>
                  <a:srgbClr val="d9c111"/>
                </a:solidFill>
                <a:latin typeface="Arial"/>
                <a:ea typeface="宋体"/>
              </a:rPr>
              <a:t>[Master],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100" spc="-1" strike="noStrike">
                <a:solidFill>
                  <a:srgbClr val="d9c111"/>
                </a:solidFill>
                <a:latin typeface="Arial"/>
                <a:ea typeface="宋体"/>
              </a:rPr>
              <a:t>[Slide Master]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100" spc="-1" strike="noStrike">
                <a:solidFill>
                  <a:srgbClr val="d9c111"/>
                </a:solidFill>
                <a:latin typeface="Arial"/>
                <a:ea typeface="宋体"/>
              </a:rPr>
              <a:t>[Notes Master].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[Image information in product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Image –www.photosclub.co.k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 may not  extract the image for any other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9c11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9c11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9c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9c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228600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cf4a"/>
              </a:gs>
              <a:gs pos="50000">
                <a:srgbClr val="d9c111"/>
              </a:gs>
              <a:gs pos="100000">
                <a:srgbClr val="e1cf4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7fbd"/>
              </a:gs>
              <a:gs pos="50000">
                <a:srgbClr val="7e57a9"/>
              </a:gs>
              <a:gs pos="100000">
                <a:srgbClr val="9c7fb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5080" y="2643120"/>
            <a:ext cx="4878360" cy="44388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gradFill rotWithShape="0">
            <a:gsLst>
              <a:gs pos="0">
                <a:srgbClr val="f2ebb6"/>
              </a:gs>
              <a:gs pos="50000">
                <a:srgbClr val="d9c111"/>
              </a:gs>
              <a:gs pos="100000">
                <a:srgbClr val="f2ebb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23760" y="3281400"/>
            <a:ext cx="3603960" cy="32796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gradFill rotWithShape="0">
            <a:gsLst>
              <a:gs pos="0">
                <a:srgbClr val="a4c997"/>
              </a:gs>
              <a:gs pos="50000">
                <a:srgbClr val="78b064"/>
              </a:gs>
              <a:gs pos="100000">
                <a:srgbClr val="a4c99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63680" y="3762360"/>
            <a:ext cx="2662200" cy="242244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gradFill rotWithShape="0">
            <a:gsLst>
              <a:gs pos="0">
                <a:srgbClr val="b7a2cf"/>
              </a:gs>
              <a:gs pos="50000">
                <a:srgbClr val="7e57a9"/>
              </a:gs>
              <a:gs pos="100000">
                <a:srgbClr val="b7a2c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30520" y="4148280"/>
            <a:ext cx="1920600" cy="17460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gradFill rotWithShape="0">
            <a:gsLst>
              <a:gs pos="0">
                <a:srgbClr val="f3b46f"/>
              </a:gs>
              <a:gs pos="50000">
                <a:srgbClr val="ee8614"/>
              </a:gs>
              <a:gs pos="100000">
                <a:srgbClr val="f3b4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5760" y="4241880"/>
            <a:ext cx="314964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81640" y="3324240"/>
            <a:ext cx="340056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6040" y="2490840"/>
            <a:ext cx="338796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52960" y="1673280"/>
            <a:ext cx="337032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54760" y="570708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d9c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3040" y="570060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78b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0960" y="569448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7e57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4040" y="5694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ee86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05640" y="58086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2520" y="58039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39760" y="58086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4440" y="58086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d9c111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78b064"/>
          </a:solidFill>
          <a:ln w="9360">
            <a:solidFill>
              <a:srgbClr val="080808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7e57a9"/>
          </a:solidFill>
          <a:ln w="9360">
            <a:solidFill>
              <a:srgbClr val="7e57a9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2167a7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7e57a9">
              <a:alpha val="50000"/>
            </a:srgbClr>
          </a:solidFill>
          <a:ln w="9360">
            <a:solidFill>
              <a:srgbClr val="7e57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d9c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14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216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c111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b064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e57a9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9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30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35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ee8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ee8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255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 rot="5400000">
              <a:off x="3033360" y="23187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 flipV="1" rot="16200000">
              <a:off x="303696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263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273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281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282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ee86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8b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8b06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8b06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05e35"/>
              </a:gs>
              <a:gs pos="50000">
                <a:srgbClr val="78b064"/>
              </a:gs>
              <a:gs pos="100000">
                <a:srgbClr val="405e3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78b064">
                  <a:alpha val="0"/>
                </a:srgbClr>
              </a:gs>
              <a:gs pos="100000">
                <a:srgbClr val="4b6f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9c11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9c11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746809"/>
              </a:gs>
              <a:gs pos="50000">
                <a:srgbClr val="d9c111"/>
              </a:gs>
              <a:gs pos="100000">
                <a:srgbClr val="7468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d9c111">
                  <a:alpha val="0"/>
                </a:srgbClr>
              </a:gs>
              <a:gs pos="100000">
                <a:srgbClr val="897a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304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ee861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6d3d09"/>
              </a:gs>
              <a:gs pos="100000">
                <a:srgbClr val="ee861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0480a"/>
              </a:gs>
              <a:gs pos="50000">
                <a:srgbClr val="ee8614"/>
              </a:gs>
              <a:gs pos="100000">
                <a:srgbClr val="8048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ee8614">
                  <a:alpha val="0"/>
                </a:srgbClr>
              </a:gs>
              <a:gs pos="100000">
                <a:srgbClr val="96540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314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319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2167a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2167a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2167a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330" name="未知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9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095200" y="2615400"/>
            <a:ext cx="2745720" cy="2502720"/>
            <a:chOff x="2095200" y="2615400"/>
            <a:chExt cx="2745720" cy="2502720"/>
          </a:xfrm>
        </p:grpSpPr>
        <p:grpSp>
          <p:nvGrpSpPr>
            <p:cNvPr id="333" name=""/>
            <p:cNvGrpSpPr/>
            <p:nvPr/>
          </p:nvGrpSpPr>
          <p:grpSpPr>
            <a:xfrm>
              <a:off x="2728440" y="2615400"/>
              <a:ext cx="2112480" cy="2478240"/>
              <a:chOff x="2728440" y="2615400"/>
              <a:chExt cx="2112480" cy="2478240"/>
            </a:xfrm>
          </p:grpSpPr>
          <p:sp>
            <p:nvSpPr>
              <p:cNvPr id="334" name=""/>
              <p:cNvSpPr/>
              <p:nvPr/>
            </p:nvSpPr>
            <p:spPr>
              <a:xfrm flipH="1" flipV="1" rot="1528800">
                <a:off x="3905280" y="2622960"/>
                <a:ext cx="502560" cy="2058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 rot="2344200">
                <a:off x="3745440" y="292608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 rot="2640000">
                <a:off x="3612960" y="307368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 rot="3172200">
                <a:off x="3448440" y="324324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095200" y="3297240"/>
              <a:ext cx="2653920" cy="1820880"/>
              <a:chOff x="2095200" y="3297240"/>
              <a:chExt cx="2653920" cy="1820880"/>
            </a:xfrm>
          </p:grpSpPr>
          <p:sp>
            <p:nvSpPr>
              <p:cNvPr id="339" name=""/>
              <p:cNvSpPr/>
              <p:nvPr/>
            </p:nvSpPr>
            <p:spPr>
              <a:xfrm flipH="1" flipV="1" rot="2881800">
                <a:off x="3561840" y="3143880"/>
                <a:ext cx="505080" cy="205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 rot="3697200">
                <a:off x="3297960" y="336204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 rot="3993000">
                <a:off x="3119040" y="344736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 rot="4525200">
                <a:off x="2901600" y="354132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 flipH="1" flipV="1" rot="5400000">
            <a:off x="1519920" y="1841400"/>
            <a:ext cx="3168360" cy="31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1"/>
                </a:moveTo>
                <a:arcTo wR="10800" hR="10800" stAng="-5363540" swAng="5395462"/>
                <a:lnTo>
                  <a:pt x="10800" y="10800"/>
                </a:lnTo>
                <a:close/>
              </a:path>
              <a:path fill="none" w="21600" h="21600">
                <a:moveTo>
                  <a:pt x="10915" y="1"/>
                </a:moveTo>
                <a:arcTo wR="10800" hR="10800" stAng="-5363540" swAng="5395462"/>
              </a:path>
            </a:pathLst>
          </a:custGeom>
          <a:solidFill>
            <a:srgbClr val="ee8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57360" y="1844640"/>
            <a:ext cx="3117600" cy="31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rot="16200000">
            <a:off x="1558800" y="1855080"/>
            <a:ext cx="3095640" cy="316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70" y="2"/>
                </a:moveTo>
                <a:arcTo wR="10800" hR="10800" stAng="-5473296" swAng="5505218"/>
                <a:lnTo>
                  <a:pt x="10800" y="10800"/>
                </a:lnTo>
                <a:close/>
              </a:path>
              <a:path fill="none" w="21600" h="21600">
                <a:moveTo>
                  <a:pt x="10570" y="2"/>
                </a:moveTo>
                <a:arcTo wR="10800" hR="10800" stAng="-5473296" swAng="5505218"/>
              </a:path>
            </a:pathLst>
          </a:custGeom>
          <a:solidFill>
            <a:srgbClr val="d9c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557360" y="1872360"/>
            <a:ext cx="3117600" cy="310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51480" y="3633840"/>
            <a:ext cx="0" cy="1630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33920" y="44593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930040" y="3368880"/>
            <a:ext cx="1807920" cy="1705320"/>
            <a:chOff x="2930040" y="3368880"/>
            <a:chExt cx="1807920" cy="1705320"/>
          </a:xfrm>
        </p:grpSpPr>
        <p:sp>
          <p:nvSpPr>
            <p:cNvPr id="352" name="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2905200">
              <a:off x="3799800" y="35388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 rot="3200400">
              <a:off x="3683880" y="3637080"/>
              <a:ext cx="353880" cy="159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 rot="3732600">
              <a:off x="3540600" y="37494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A title about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200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 Cont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95720" y="2198520"/>
            <a:ext cx="28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8:26:53Z</dcterms:created>
  <dc:creator>Sung Ha, Park</dc:creator>
  <dc:description/>
  <cp:keywords/>
  <dc:language>en-US</dc:language>
  <cp:lastModifiedBy>a</cp:lastModifiedBy>
  <dcterms:modified xsi:type="dcterms:W3CDTF">2014-05-10T03:31:32Z</dcterms:modified>
  <cp:revision>1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19</vt:lpwstr>
  </property>
</Properties>
</file>