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B9E-46A4-425C-8DFF-24B6C120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C65-2CA1-43B0-8620-08746A06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02A-1954-455B-A1EF-1D7E6C54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DA8-CF7E-445D-9538-9BDC3166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253A-D06E-4990-9DBA-1A2C2987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83E1-1D47-4CAA-B087-D9964518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8B00-2904-4644-B5CA-566B837B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FB6F-75BF-4D21-8E70-A566970B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1EE5-1AA4-4D20-A4C6-EB34ED6C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FA8C-4B5A-47AF-A69D-DAB420ED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840-730B-45BE-8E4A-F47220C3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59B-1F21-4A0B-A0AC-24D6D895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08AC-B831-4369-9CAB-81090F28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D6A7-53B3-4EE8-A9C9-A52EA903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5A0A-694A-4500-BF2A-B9DACF98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790A-7A3B-4F32-9909-30F0EBD9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8489-D973-4F60-A416-0BCFF798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5EB-A8F4-47AC-A498-3CBF5E9E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833-6E81-418D-8B8C-E6331910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0F8-F78D-40D6-909B-9F995CE1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32A-5E1D-4665-962D-D49CA04D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902-065C-4EB6-A06B-C8FE5492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4D8-5491-4F8E-B8B6-44744FF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2C8-C3F5-48D3-BD4E-BBA1955F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21D8-67BB-4E69-AC8C-F18209386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B659-0CEF-4A77-9308-CC6E5841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6120" y="50277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58400" y="482292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5398920"/>
            <a:chOff x="0" y="0"/>
            <a:chExt cx="8466120" cy="539892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349640"/>
              <a:ext cx="84661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42920" y="280980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/>
  <dcterms:modified xsi:type="dcterms:W3CDTF">2014-05-25T05:54:0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