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2162160" y="6408720"/>
            <a:ext cx="47847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14280" y="213840"/>
            <a:ext cx="5540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219240" y="6408720"/>
            <a:ext cx="13428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0" lang="de-DE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14A76885-343B-45A9-A428-B18A3172113A}" type="slidenum"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314280" y="1614240"/>
            <a:ext cx="852480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90440" indent="-190440">
              <a:spcBef>
                <a:spcPts val="1500"/>
              </a:spcBef>
              <a:buClr>
                <a:srgbClr val="fea5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1500"/>
              </a:spcBef>
              <a:buClr>
                <a:srgbClr val="fea501"/>
              </a:buClr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spcBef>
                <a:spcPts val="1500"/>
              </a:spcBef>
              <a:buClr>
                <a:srgbClr val="fea501"/>
              </a:buClr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68240" indent="-204840">
              <a:spcBef>
                <a:spcPts val="1500"/>
              </a:spcBef>
              <a:buClr>
                <a:srgbClr val="fea501"/>
              </a:buClr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050840" indent="-168120">
              <a:spcBef>
                <a:spcPts val="1500"/>
              </a:spcBef>
              <a:buClr>
                <a:srgbClr val="fea501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050840" indent="-168120">
              <a:spcBef>
                <a:spcPts val="15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050840" indent="-168120">
              <a:spcBef>
                <a:spcPts val="15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7188120" y="6184800"/>
            <a:ext cx="1646280" cy="378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YOUR 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7188120" y="6184800"/>
            <a:ext cx="1646280" cy="378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YOUR 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4280" y="213840"/>
            <a:ext cx="5540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14280" y="1614240"/>
            <a:ext cx="852480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90440" indent="-190440">
              <a:spcBef>
                <a:spcPts val="1500"/>
              </a:spcBef>
              <a:buClr>
                <a:srgbClr val="fea5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1500"/>
              </a:spcBef>
              <a:buClr>
                <a:srgbClr val="fea501"/>
              </a:buClr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spcBef>
                <a:spcPts val="1500"/>
              </a:spcBef>
              <a:buClr>
                <a:srgbClr val="fea501"/>
              </a:buClr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68240" indent="-204840">
              <a:spcBef>
                <a:spcPts val="1500"/>
              </a:spcBef>
              <a:buClr>
                <a:srgbClr val="fea501"/>
              </a:buClr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050840" indent="-168120">
              <a:spcBef>
                <a:spcPts val="1500"/>
              </a:spcBef>
              <a:buClr>
                <a:srgbClr val="fea501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050840" indent="-168120">
              <a:spcBef>
                <a:spcPts val="15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050840" indent="-168120">
              <a:spcBef>
                <a:spcPts val="15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6" descr="未标题-2.png"/>
          <p:cNvPicPr/>
          <p:nvPr/>
        </p:nvPicPr>
        <p:blipFill>
          <a:blip r:embed="rId2"/>
          <a:stretch/>
        </p:blipFill>
        <p:spPr>
          <a:xfrm>
            <a:off x="0" y="1025640"/>
            <a:ext cx="9140760" cy="5678280"/>
          </a:xfrm>
          <a:prstGeom prst="rect">
            <a:avLst/>
          </a:prstGeom>
          <a:ln w="0">
            <a:noFill/>
          </a:ln>
        </p:spPr>
      </p:pic>
      <p:sp>
        <p:nvSpPr>
          <p:cNvPr id="81" name="矩形 7"/>
          <p:cNvSpPr/>
          <p:nvPr/>
        </p:nvSpPr>
        <p:spPr>
          <a:xfrm>
            <a:off x="27000" y="17640"/>
            <a:ext cx="9090000" cy="1083960"/>
          </a:xfrm>
          <a:prstGeom prst="rect">
            <a:avLst/>
          </a:prstGeom>
          <a:gradFill rotWithShape="0">
            <a:gsLst>
              <a:gs pos="0">
                <a:srgbClr val="fbaa09"/>
              </a:gs>
              <a:gs pos="100000">
                <a:srgbClr val="ffc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8"/>
          <p:cNvSpPr/>
          <p:nvPr/>
        </p:nvSpPr>
        <p:spPr>
          <a:xfrm>
            <a:off x="496800" y="1403280"/>
            <a:ext cx="8501040" cy="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图片 9" descr="图片1111.png"/>
          <p:cNvPicPr/>
          <p:nvPr/>
        </p:nvPicPr>
        <p:blipFill>
          <a:blip r:embed="rId3"/>
          <a:stretch/>
        </p:blipFill>
        <p:spPr>
          <a:xfrm>
            <a:off x="324000" y="0"/>
            <a:ext cx="1414440" cy="14144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5.png"/><Relationship Id="rId7" Type="http://schemas.openxmlformats.org/officeDocument/2006/relationships/image" Target="../media/image9.png"/><Relationship Id="rId8" Type="http://schemas.openxmlformats.org/officeDocument/2006/relationships/hyperlink" Target="http://www.eeppt.com" TargetMode="External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63640" y="3930480"/>
            <a:ext cx="7485120" cy="960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863640" y="4925520"/>
            <a:ext cx="75103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7040" y="6410160"/>
            <a:ext cx="211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2714760" y="4214520"/>
            <a:ext cx="5078160" cy="747720"/>
            <a:chOff x="2714760" y="4214520"/>
            <a:chExt cx="5078160" cy="747720"/>
          </a:xfrm>
        </p:grpSpPr>
        <p:pic>
          <p:nvPicPr>
            <p:cNvPr id="126" name="Picture 95" descr="그림1"/>
            <p:cNvPicPr/>
            <p:nvPr/>
          </p:nvPicPr>
          <p:blipFill>
            <a:blip r:embed="rId1"/>
            <a:stretch/>
          </p:blipFill>
          <p:spPr>
            <a:xfrm rot="10800000">
              <a:off x="2714760" y="4214520"/>
              <a:ext cx="5078160" cy="74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Text Box 77" descr=""/>
            <p:cNvPicPr/>
            <p:nvPr/>
          </p:nvPicPr>
          <p:blipFill>
            <a:blip r:embed="rId2"/>
            <a:stretch/>
          </p:blipFill>
          <p:spPr>
            <a:xfrm>
              <a:off x="3053880" y="4273200"/>
              <a:ext cx="2237040" cy="603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8" name=""/>
          <p:cNvGrpSpPr/>
          <p:nvPr/>
        </p:nvGrpSpPr>
        <p:grpSpPr>
          <a:xfrm>
            <a:off x="2285640" y="3357360"/>
            <a:ext cx="5078520" cy="747720"/>
            <a:chOff x="2285640" y="3357360"/>
            <a:chExt cx="5078520" cy="747720"/>
          </a:xfrm>
        </p:grpSpPr>
        <p:pic>
          <p:nvPicPr>
            <p:cNvPr id="129" name="Picture 95" descr="그림1"/>
            <p:cNvPicPr/>
            <p:nvPr/>
          </p:nvPicPr>
          <p:blipFill>
            <a:blip r:embed="rId3"/>
            <a:stretch/>
          </p:blipFill>
          <p:spPr>
            <a:xfrm rot="10800000">
              <a:off x="2285640" y="3357360"/>
              <a:ext cx="5078520" cy="74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Text Box 77" descr=""/>
            <p:cNvPicPr/>
            <p:nvPr/>
          </p:nvPicPr>
          <p:blipFill>
            <a:blip r:embed="rId4"/>
            <a:stretch/>
          </p:blipFill>
          <p:spPr>
            <a:xfrm>
              <a:off x="2627280" y="3420000"/>
              <a:ext cx="2237400" cy="603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1" name="Picture 95" descr="그림1"/>
          <p:cNvPicPr/>
          <p:nvPr/>
        </p:nvPicPr>
        <p:blipFill>
          <a:blip r:embed="rId5"/>
          <a:stretch/>
        </p:blipFill>
        <p:spPr>
          <a:xfrm>
            <a:off x="1928880" y="2500200"/>
            <a:ext cx="5078520" cy="747720"/>
          </a:xfrm>
          <a:prstGeom prst="rect">
            <a:avLst/>
          </a:prstGeom>
          <a:ln w="0">
            <a:noFill/>
          </a:ln>
        </p:spPr>
      </p:pic>
      <p:grpSp>
        <p:nvGrpSpPr>
          <p:cNvPr id="132" name=""/>
          <p:cNvGrpSpPr/>
          <p:nvPr/>
        </p:nvGrpSpPr>
        <p:grpSpPr>
          <a:xfrm>
            <a:off x="1928520" y="2499840"/>
            <a:ext cx="5078520" cy="747720"/>
            <a:chOff x="1928520" y="2499840"/>
            <a:chExt cx="5078520" cy="747720"/>
          </a:xfrm>
        </p:grpSpPr>
        <p:pic>
          <p:nvPicPr>
            <p:cNvPr id="133" name="Picture 95" descr="그림1"/>
            <p:cNvPicPr/>
            <p:nvPr/>
          </p:nvPicPr>
          <p:blipFill>
            <a:blip r:embed="rId6"/>
            <a:stretch/>
          </p:blipFill>
          <p:spPr>
            <a:xfrm rot="10800000">
              <a:off x="1928520" y="2499480"/>
              <a:ext cx="5078520" cy="74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AutoShape 108"/>
            <p:cNvSpPr/>
            <p:nvPr/>
          </p:nvSpPr>
          <p:spPr>
            <a:xfrm>
              <a:off x="2073600" y="2625120"/>
              <a:ext cx="4427280" cy="514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13e5a">
                    <a:alpha val="0"/>
                  </a:srgbClr>
                </a:gs>
                <a:gs pos="100000">
                  <a:srgbClr val="ff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5" name="Text Box 77" descr=""/>
          <p:cNvPicPr/>
          <p:nvPr/>
        </p:nvPicPr>
        <p:blipFill>
          <a:blip r:embed="rId7"/>
          <a:stretch/>
        </p:blipFill>
        <p:spPr>
          <a:xfrm>
            <a:off x="2266920" y="2560680"/>
            <a:ext cx="2238480" cy="6033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979640" y="333360"/>
            <a:ext cx="68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报告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310760" y="6167520"/>
            <a:ext cx="62492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fde66"/>
                </a:solidFill>
                <a:uFillTx/>
                <a:latin typeface="楷体"/>
                <a:ea typeface="楷体"/>
                <a:hlinkClick r:id="rId8"/>
              </a:rPr>
              <a:t>PPT之家</a:t>
            </a:r>
            <a:r>
              <a:rPr b="1" lang="zh-CN" sz="2000" spc="-1" strike="noStrike">
                <a:solidFill>
                  <a:srgbClr val="1c1c1c"/>
                </a:solidFill>
                <a:latin typeface="楷体"/>
                <a:ea typeface="楷体"/>
              </a:rPr>
              <a:t>整理发布，更多免费</a:t>
            </a:r>
            <a:r>
              <a:rPr b="1" lang="zh-CN" sz="2000" spc="-1" strike="noStrike">
                <a:solidFill>
                  <a:srgbClr val="1c1c1c"/>
                </a:solidFill>
                <a:latin typeface="楷体"/>
                <a:ea typeface="楷体"/>
              </a:rPr>
              <a:t>PPT</a:t>
            </a:r>
            <a:r>
              <a:rPr b="1" lang="zh-CN" sz="2000" spc="-1" strike="noStrike">
                <a:solidFill>
                  <a:srgbClr val="1c1c1c"/>
                </a:solidFill>
                <a:latin typeface="楷体"/>
                <a:ea typeface="楷体"/>
              </a:rPr>
              <a:t>模板下载请访问：</a:t>
            </a:r>
            <a:r>
              <a:rPr b="1" lang="zh-CN" sz="2000" spc="-1" strike="noStrike">
                <a:solidFill>
                  <a:srgbClr val="1c1c1c"/>
                </a:solidFill>
                <a:latin typeface="楷体"/>
                <a:ea typeface="楷体"/>
              </a:rPr>
              <a:t>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3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ffde66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ffde66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ffde66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23:54:21Z</dcterms:created>
  <dc:creator>我爱PPT官方网 - 中文演示设计平台 www.iloveppt.org</dc:creator>
  <dc:description>我爱PPT官方网 - 中文演示设计平台 www.iloveppt.org</dc:description>
  <cp:keywords>我爱PPT官方网 - 中文演示设计平台 www.iloveppt.org</cp:keywords>
  <dc:language>en-US</dc:language>
  <cp:lastModifiedBy>ilovePPT.ORG</cp:lastModifiedBy>
  <dcterms:modified xsi:type="dcterms:W3CDTF">2014-10-23T16:49:00Z</dcterms:modified>
  <cp:revision>49</cp:revision>
  <dc:subject>通用纹理</dc:subject>
  <dc:title>我爱PPT官方网 - 中文演示设计平台 www.iloveppt.or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5</vt:lpwstr>
  </property>
</Properties>
</file>