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CFC89-7796-4B05-8D1E-B1BD57F8CE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072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4822560"/>
            <a:ext cx="820728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5035680"/>
            <a:ext cx="820728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C2F11-170D-494C-AB8E-DA52808F76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072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48225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48225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503568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503568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22D63-BF8B-4815-A561-F32C458F67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072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482256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482256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482256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503568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503568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503568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82C9B-0A41-45F4-9AC0-8F37ACFF04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072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482256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072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482256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072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4822560"/>
            <a:ext cx="4005000" cy="4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4822560"/>
            <a:ext cx="4005000" cy="4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072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360" y="3644640"/>
            <a:ext cx="8207280" cy="54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072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48225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4822560"/>
            <a:ext cx="4005000" cy="4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503568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072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482256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56BE3-9489-421C-B75E-2476188BD4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072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4822560"/>
            <a:ext cx="4005000" cy="4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48225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503568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072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48225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48225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5035680"/>
            <a:ext cx="820728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072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4822560"/>
            <a:ext cx="820728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5035680"/>
            <a:ext cx="820728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072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48225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48225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503568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503568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072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482256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3240" y="482256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8120" y="482256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503568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3240" y="503568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8120" y="503568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072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482256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D86F4-E95D-4FD6-BFA2-E07FD15877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072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4822560"/>
            <a:ext cx="4005000" cy="4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4822560"/>
            <a:ext cx="4005000" cy="4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78574-9D5D-4C41-A1A0-FF442ECC65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072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123CC-590C-4C8E-88CA-24EC2D50F7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3644640"/>
            <a:ext cx="8207280" cy="54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A0488-CF46-4F7D-99E0-C5F263D54B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072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48225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4822560"/>
            <a:ext cx="4005000" cy="4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503568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68EB4-B82A-4804-BCB8-230E632C05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072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4822560"/>
            <a:ext cx="4005000" cy="4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48225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503568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B5507-D814-4DC3-A462-6CE9CF2E3E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072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48225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48225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5035680"/>
            <a:ext cx="820728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E00A2-3ADC-4111-A466-2E6103C3C7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A335780B-C9E2-4A62-9257-6769391E9DAC}" type="slidenum"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-31680" y="0"/>
            <a:ext cx="9175680" cy="6885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072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ff902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072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68360" y="482256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64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036880" y="1100160"/>
            <a:ext cx="5343480" cy="657360"/>
            <a:chOff x="2036880" y="1100160"/>
            <a:chExt cx="5343480" cy="657360"/>
          </a:xfrm>
        </p:grpSpPr>
        <p:sp>
          <p:nvSpPr>
            <p:cNvPr id="84" name=""/>
            <p:cNvSpPr/>
            <p:nvPr/>
          </p:nvSpPr>
          <p:spPr>
            <a:xfrm>
              <a:off x="2036880" y="1484280"/>
              <a:ext cx="5314680" cy="27324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93120" y="1100160"/>
              <a:ext cx="51872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462760" y="1123920"/>
              <a:ext cx="4895280" cy="324000"/>
            </a:xfrm>
            <a:prstGeom prst="roundRect">
              <a:avLst>
                <a:gd name="adj" fmla="val 11273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036880" y="2038320"/>
            <a:ext cx="5343480" cy="655560"/>
            <a:chOff x="2036880" y="2038320"/>
            <a:chExt cx="5343480" cy="655560"/>
          </a:xfrm>
        </p:grpSpPr>
        <p:sp>
          <p:nvSpPr>
            <p:cNvPr id="88" name=""/>
            <p:cNvSpPr/>
            <p:nvPr/>
          </p:nvSpPr>
          <p:spPr>
            <a:xfrm>
              <a:off x="2036880" y="2421000"/>
              <a:ext cx="531468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93120" y="2038320"/>
              <a:ext cx="51872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62760" y="2060640"/>
              <a:ext cx="4895280" cy="323640"/>
            </a:xfrm>
            <a:prstGeom prst="roundRect">
              <a:avLst>
                <a:gd name="adj" fmla="val 11273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36880" y="2976480"/>
            <a:ext cx="5343480" cy="654120"/>
            <a:chOff x="2036880" y="2976480"/>
            <a:chExt cx="5343480" cy="654120"/>
          </a:xfrm>
        </p:grpSpPr>
        <p:sp>
          <p:nvSpPr>
            <p:cNvPr id="92" name=""/>
            <p:cNvSpPr/>
            <p:nvPr/>
          </p:nvSpPr>
          <p:spPr>
            <a:xfrm>
              <a:off x="2036880" y="3357360"/>
              <a:ext cx="5314680" cy="27324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193120" y="2976480"/>
              <a:ext cx="51872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62760" y="2997000"/>
              <a:ext cx="4895280" cy="324000"/>
            </a:xfrm>
            <a:prstGeom prst="roundRect">
              <a:avLst>
                <a:gd name="adj" fmla="val 11273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036880" y="3914640"/>
            <a:ext cx="5343480" cy="650880"/>
            <a:chOff x="2036880" y="3914640"/>
            <a:chExt cx="5343480" cy="650880"/>
          </a:xfrm>
        </p:grpSpPr>
        <p:sp>
          <p:nvSpPr>
            <p:cNvPr id="96" name=""/>
            <p:cNvSpPr/>
            <p:nvPr/>
          </p:nvSpPr>
          <p:spPr>
            <a:xfrm>
              <a:off x="2036880" y="4292640"/>
              <a:ext cx="531468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93120" y="3914640"/>
              <a:ext cx="51872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62760" y="3949560"/>
              <a:ext cx="4895280" cy="324000"/>
            </a:xfrm>
            <a:prstGeom prst="roundRect">
              <a:avLst>
                <a:gd name="adj" fmla="val 11273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036880" y="4854600"/>
            <a:ext cx="5343480" cy="647640"/>
            <a:chOff x="2036880" y="4854600"/>
            <a:chExt cx="5343480" cy="647640"/>
          </a:xfrm>
        </p:grpSpPr>
        <p:sp>
          <p:nvSpPr>
            <p:cNvPr id="100" name=""/>
            <p:cNvSpPr/>
            <p:nvPr/>
          </p:nvSpPr>
          <p:spPr>
            <a:xfrm>
              <a:off x="2036880" y="5229360"/>
              <a:ext cx="531468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93120" y="4854600"/>
              <a:ext cx="51872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62760" y="4883040"/>
              <a:ext cx="4895280" cy="324000"/>
            </a:xfrm>
            <a:prstGeom prst="roundRect">
              <a:avLst>
                <a:gd name="adj" fmla="val 11273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835280" y="836640"/>
            <a:ext cx="895320" cy="925560"/>
            <a:chOff x="1835280" y="836640"/>
            <a:chExt cx="895320" cy="925560"/>
          </a:xfrm>
        </p:grpSpPr>
        <p:sp>
          <p:nvSpPr>
            <p:cNvPr id="104" name="未知"/>
            <p:cNvSpPr/>
            <p:nvPr/>
          </p:nvSpPr>
          <p:spPr>
            <a:xfrm>
              <a:off x="1835280" y="836640"/>
              <a:ext cx="895320" cy="925560"/>
            </a:xfrm>
            <a:custGeom>
              <a:avLst/>
              <a:gdLst/>
              <a:ahLst/>
              <a:rect l="l" t="t" r="r" b="b"/>
              <a:pathLst>
                <a:path w="1752" h="1812">
                  <a:moveTo>
                    <a:pt x="1262" y="1812"/>
                  </a:moveTo>
                  <a:lnTo>
                    <a:pt x="0" y="1356"/>
                  </a:lnTo>
                  <a:lnTo>
                    <a:pt x="491" y="0"/>
                  </a:lnTo>
                  <a:lnTo>
                    <a:pt x="1752" y="458"/>
                  </a:lnTo>
                  <a:lnTo>
                    <a:pt x="1262" y="1812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8f8f8"/>
                </a:gs>
              </a:gsLst>
              <a:lin ang="135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1899000" y="870120"/>
              <a:ext cx="798120" cy="775440"/>
            </a:xfrm>
            <a:custGeom>
              <a:avLst/>
              <a:gdLst/>
              <a:ahLst/>
              <a:rect l="l" t="t" r="r" b="b"/>
              <a:pathLst>
                <a:path w="1562" h="1518">
                  <a:moveTo>
                    <a:pt x="1166" y="1518"/>
                  </a:moveTo>
                  <a:lnTo>
                    <a:pt x="0" y="1095"/>
                  </a:lnTo>
                  <a:lnTo>
                    <a:pt x="397" y="0"/>
                  </a:lnTo>
                  <a:lnTo>
                    <a:pt x="1562" y="422"/>
                  </a:lnTo>
                  <a:lnTo>
                    <a:pt x="1166" y="1518"/>
                  </a:lnTo>
                  <a:close/>
                </a:path>
              </a:pathLst>
            </a:custGeom>
            <a:solidFill>
              <a:srgbClr val="96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835280" y="1774800"/>
            <a:ext cx="895320" cy="925560"/>
            <a:chOff x="1835280" y="1774800"/>
            <a:chExt cx="895320" cy="925560"/>
          </a:xfrm>
        </p:grpSpPr>
        <p:sp>
          <p:nvSpPr>
            <p:cNvPr id="107" name="未知"/>
            <p:cNvSpPr/>
            <p:nvPr/>
          </p:nvSpPr>
          <p:spPr>
            <a:xfrm>
              <a:off x="1835280" y="1774800"/>
              <a:ext cx="895320" cy="925560"/>
            </a:xfrm>
            <a:custGeom>
              <a:avLst/>
              <a:gdLst/>
              <a:ahLst/>
              <a:rect l="l" t="t" r="r" b="b"/>
              <a:pathLst>
                <a:path w="1752" h="1812">
                  <a:moveTo>
                    <a:pt x="1262" y="1812"/>
                  </a:moveTo>
                  <a:lnTo>
                    <a:pt x="0" y="1356"/>
                  </a:lnTo>
                  <a:lnTo>
                    <a:pt x="491" y="0"/>
                  </a:lnTo>
                  <a:lnTo>
                    <a:pt x="1752" y="458"/>
                  </a:lnTo>
                  <a:lnTo>
                    <a:pt x="1262" y="1812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8f8f8"/>
                </a:gs>
              </a:gsLst>
              <a:lin ang="135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未知"/>
            <p:cNvSpPr/>
            <p:nvPr/>
          </p:nvSpPr>
          <p:spPr>
            <a:xfrm>
              <a:off x="1899000" y="1808280"/>
              <a:ext cx="798120" cy="775440"/>
            </a:xfrm>
            <a:custGeom>
              <a:avLst/>
              <a:gdLst/>
              <a:ahLst/>
              <a:rect l="l" t="t" r="r" b="b"/>
              <a:pathLst>
                <a:path w="1562" h="1518">
                  <a:moveTo>
                    <a:pt x="1166" y="1518"/>
                  </a:moveTo>
                  <a:lnTo>
                    <a:pt x="0" y="1095"/>
                  </a:lnTo>
                  <a:lnTo>
                    <a:pt x="397" y="0"/>
                  </a:lnTo>
                  <a:lnTo>
                    <a:pt x="1562" y="422"/>
                  </a:lnTo>
                  <a:lnTo>
                    <a:pt x="1166" y="1518"/>
                  </a:lnTo>
                  <a:close/>
                </a:path>
              </a:pathLst>
            </a:custGeom>
            <a:solidFill>
              <a:srgbClr val="96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835280" y="2712960"/>
            <a:ext cx="895320" cy="925560"/>
            <a:chOff x="1835280" y="2712960"/>
            <a:chExt cx="895320" cy="925560"/>
          </a:xfrm>
        </p:grpSpPr>
        <p:sp>
          <p:nvSpPr>
            <p:cNvPr id="110" name="未知"/>
            <p:cNvSpPr/>
            <p:nvPr/>
          </p:nvSpPr>
          <p:spPr>
            <a:xfrm>
              <a:off x="1835280" y="2712960"/>
              <a:ext cx="895320" cy="925560"/>
            </a:xfrm>
            <a:custGeom>
              <a:avLst/>
              <a:gdLst/>
              <a:ahLst/>
              <a:rect l="l" t="t" r="r" b="b"/>
              <a:pathLst>
                <a:path w="1752" h="1812">
                  <a:moveTo>
                    <a:pt x="1262" y="1812"/>
                  </a:moveTo>
                  <a:lnTo>
                    <a:pt x="0" y="1356"/>
                  </a:lnTo>
                  <a:lnTo>
                    <a:pt x="491" y="0"/>
                  </a:lnTo>
                  <a:lnTo>
                    <a:pt x="1752" y="458"/>
                  </a:lnTo>
                  <a:lnTo>
                    <a:pt x="1262" y="1812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8f8f8"/>
                </a:gs>
              </a:gsLst>
              <a:lin ang="135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1899000" y="2746440"/>
              <a:ext cx="798120" cy="775440"/>
            </a:xfrm>
            <a:custGeom>
              <a:avLst/>
              <a:gdLst/>
              <a:ahLst/>
              <a:rect l="l" t="t" r="r" b="b"/>
              <a:pathLst>
                <a:path w="1562" h="1518">
                  <a:moveTo>
                    <a:pt x="1166" y="1518"/>
                  </a:moveTo>
                  <a:lnTo>
                    <a:pt x="0" y="1095"/>
                  </a:lnTo>
                  <a:lnTo>
                    <a:pt x="397" y="0"/>
                  </a:lnTo>
                  <a:lnTo>
                    <a:pt x="1562" y="422"/>
                  </a:lnTo>
                  <a:lnTo>
                    <a:pt x="1166" y="1518"/>
                  </a:lnTo>
                  <a:close/>
                </a:path>
              </a:pathLst>
            </a:custGeom>
            <a:solidFill>
              <a:srgbClr val="96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835280" y="3651120"/>
            <a:ext cx="895320" cy="925560"/>
            <a:chOff x="1835280" y="3651120"/>
            <a:chExt cx="895320" cy="925560"/>
          </a:xfrm>
        </p:grpSpPr>
        <p:sp>
          <p:nvSpPr>
            <p:cNvPr id="113" name="未知"/>
            <p:cNvSpPr/>
            <p:nvPr/>
          </p:nvSpPr>
          <p:spPr>
            <a:xfrm>
              <a:off x="1835280" y="3651120"/>
              <a:ext cx="895320" cy="925560"/>
            </a:xfrm>
            <a:custGeom>
              <a:avLst/>
              <a:gdLst/>
              <a:ahLst/>
              <a:rect l="l" t="t" r="r" b="b"/>
              <a:pathLst>
                <a:path w="1752" h="1812">
                  <a:moveTo>
                    <a:pt x="1262" y="1812"/>
                  </a:moveTo>
                  <a:lnTo>
                    <a:pt x="0" y="1356"/>
                  </a:lnTo>
                  <a:lnTo>
                    <a:pt x="491" y="0"/>
                  </a:lnTo>
                  <a:lnTo>
                    <a:pt x="1752" y="458"/>
                  </a:lnTo>
                  <a:lnTo>
                    <a:pt x="1262" y="1812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8f8f8"/>
                </a:gs>
              </a:gsLst>
              <a:lin ang="135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1899000" y="3684600"/>
              <a:ext cx="798120" cy="775440"/>
            </a:xfrm>
            <a:custGeom>
              <a:avLst/>
              <a:gdLst/>
              <a:ahLst/>
              <a:rect l="l" t="t" r="r" b="b"/>
              <a:pathLst>
                <a:path w="1562" h="1518">
                  <a:moveTo>
                    <a:pt x="1166" y="1518"/>
                  </a:moveTo>
                  <a:lnTo>
                    <a:pt x="0" y="1095"/>
                  </a:lnTo>
                  <a:lnTo>
                    <a:pt x="397" y="0"/>
                  </a:lnTo>
                  <a:lnTo>
                    <a:pt x="1562" y="422"/>
                  </a:lnTo>
                  <a:lnTo>
                    <a:pt x="1166" y="1518"/>
                  </a:lnTo>
                  <a:close/>
                </a:path>
              </a:pathLst>
            </a:custGeom>
            <a:solidFill>
              <a:srgbClr val="96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未知"/>
          <p:cNvSpPr/>
          <p:nvPr/>
        </p:nvSpPr>
        <p:spPr>
          <a:xfrm>
            <a:off x="1835280" y="4591080"/>
            <a:ext cx="895320" cy="925560"/>
          </a:xfrm>
          <a:custGeom>
            <a:avLst/>
            <a:gdLst/>
            <a:ahLst/>
            <a:rect l="l" t="t" r="r" b="b"/>
            <a:pathLst>
              <a:path w="1752" h="1812">
                <a:moveTo>
                  <a:pt x="1262" y="1812"/>
                </a:moveTo>
                <a:lnTo>
                  <a:pt x="0" y="1356"/>
                </a:lnTo>
                <a:lnTo>
                  <a:pt x="491" y="0"/>
                </a:lnTo>
                <a:lnTo>
                  <a:pt x="1752" y="458"/>
                </a:lnTo>
                <a:lnTo>
                  <a:pt x="1262" y="1812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未知"/>
          <p:cNvSpPr/>
          <p:nvPr/>
        </p:nvSpPr>
        <p:spPr>
          <a:xfrm>
            <a:off x="1898640" y="4624560"/>
            <a:ext cx="798480" cy="776160"/>
          </a:xfrm>
          <a:custGeom>
            <a:avLst/>
            <a:gdLst/>
            <a:ahLst/>
            <a:rect l="l" t="t" r="r" b="b"/>
            <a:pathLst>
              <a:path w="1562" h="1518">
                <a:moveTo>
                  <a:pt x="1166" y="1518"/>
                </a:moveTo>
                <a:lnTo>
                  <a:pt x="0" y="1095"/>
                </a:lnTo>
                <a:lnTo>
                  <a:pt x="397" y="0"/>
                </a:lnTo>
                <a:lnTo>
                  <a:pt x="1562" y="422"/>
                </a:lnTo>
                <a:lnTo>
                  <a:pt x="1166" y="1518"/>
                </a:lnTo>
                <a:close/>
              </a:path>
            </a:pathLst>
          </a:custGeom>
          <a:solidFill>
            <a:srgbClr val="963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160720" y="1069920"/>
            <a:ext cx="214200" cy="362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160720" y="2008080"/>
            <a:ext cx="285480" cy="362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60720" y="2946240"/>
            <a:ext cx="285480" cy="362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60720" y="3884760"/>
            <a:ext cx="285480" cy="361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160720" y="4824360"/>
            <a:ext cx="285480" cy="362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800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072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68360" y="482256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86520" y="5373720"/>
            <a:ext cx="547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963d00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17:12:55Z</dcterms:created>
  <dc:creator/>
  <dc:description/>
  <dc:language>en-US</dc:language>
  <cp:lastModifiedBy/>
  <cp:lastPrinted>1899-12-30T00:00:00Z</cp:lastPrinted>
  <dcterms:modified xsi:type="dcterms:W3CDTF">2014-05-22T10:27:2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