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9FB-9543-415A-9B19-1C0AD41E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D76-F28E-4C92-B9DA-13CD7A7C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AB7-FCB7-4854-84B8-FFDBCB5E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CB9-1FC6-4558-B075-A6206DE4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4101-7F8B-4F50-90FD-249DC4E1A4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10B6C-0ECE-4D80-832F-65A9E69472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DA824-6847-4A5F-A8AA-1242CDB94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A1313-AC56-44C1-9620-454606E08D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1539-A384-4FCD-8713-5929D0252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AE317-5ED9-435E-8805-8AB51F0F38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24CB-6676-4A48-B3A3-E850E40B1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DC3-7A82-4FD5-85E2-E3FAB3F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5901F-915B-4E0D-AEEB-1410BDE0F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B4D81-8132-4217-900E-EDFAD591A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017AD-F6BE-4248-B144-A03921649C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2BB52-F063-4CDC-9C13-8267FEC65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2374-7176-4508-8717-78FA65F470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6CC03-A8EB-4336-BFF4-6974647F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6C715-1FA0-48A0-92EE-E30DF2A5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1619D-0B5A-4FB1-B7EC-FF8757C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C155F-57C2-4E28-98CA-FD633E18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51310-98B3-468E-8D53-9ED7D4D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8C8F-3769-46E9-AF26-9E4FDAEE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41385-90D0-48BC-AEB7-751EE0D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8E0A7-8FC7-4410-A45A-760C7DB3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8A54A-3377-4182-B64C-962797E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0BCCF-E8A2-49A8-8FA4-7247F79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3BDCF-A745-4F45-AA6E-CDA6B052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D5E4E-2454-40AC-A3D4-9E1A845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D4268-08D8-4884-A73B-B35E3CCD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6D81E-4883-4B39-8C03-69CF4215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6BD22-2CAE-4013-80EC-10B944DA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67D9D-3283-4B71-80A4-F41AB6A6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923-1CD5-42B7-8923-EE2CAC0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D7B7F-30DE-43DC-8E0D-0503C48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C2FF9-94D3-4D25-A7CD-5529703F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54F5F-7A16-4E11-A2A4-36B9CDEC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0B5AC-8D3F-4428-8D8E-0928BC6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70B2E-62DB-4166-9D59-55C30E6D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3A0A0-C3F7-4E10-823F-CE5CDCC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5F4F2-697D-4364-A5FB-027B43A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029E1-765C-449B-BB14-2EB23521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59D60-FBB7-4792-A54A-E6814230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9D2-9813-4635-A0A8-E715966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A49-C4FB-45C4-9622-4542199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863-EBCF-43E8-98EF-228B011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72E-4150-435E-82BC-F14B2EC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6075-A1D3-4D90-A2F0-D0C6222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B22-8B84-4901-96D1-D6F60A6ECE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C4A8-0E3B-4EFE-A6AC-B73DA2EA70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6480" y="5629320"/>
            <a:ext cx="916956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071-FA11-4FD7-8D01-D95F6805CF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6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6F27-E5F2-4E2F-9413-23E15B5148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C8C-E258-44F6-9DC3-ACB7BEC18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68AE-A0F0-4816-B9B6-D03FED1973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C144-9CEB-4238-9878-88B645A16B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31640" y="4068720"/>
            <a:ext cx="53247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最美不外乎六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131640" y="4933440"/>
            <a:ext cx="53247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将童年定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240000">
            <a:off x="4128480" y="823320"/>
            <a:ext cx="47797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Curlz MT"/>
              </a:rPr>
              <a:t>Happy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      </a:t>
            </a: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Children`s</a:t>
            </a:r>
            <a:r>
              <a:rPr b="1" lang="zh-CN" sz="3200" spc="-1" strike="noStrike">
                <a:solidFill>
                  <a:srgbClr val="ff9933"/>
                </a:solidFill>
                <a:latin typeface="Appendix3"/>
              </a:rPr>
              <a:t>  </a:t>
            </a:r>
            <a:r>
              <a:rPr b="1" lang="zh-CN" sz="6600" spc="-1" strike="noStrike">
                <a:solidFill>
                  <a:srgbClr val="99cc00"/>
                </a:solidFill>
                <a:latin typeface="Curlz MT"/>
              </a:rPr>
              <a:t>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009880" y="2581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1520" y="1589040"/>
            <a:ext cx="936720" cy="865080"/>
          </a:xfrm>
          <a:prstGeom prst="hexagon">
            <a:avLst>
              <a:gd name="adj" fmla="val 2707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儿童版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55840" y="46980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Eras Medium ITC"/>
              </a:rPr>
              <a:t>Children`s </a:t>
            </a:r>
            <a:r>
              <a:rPr b="1" lang="zh-CN" sz="1800" spc="-1" strike="noStrike">
                <a:solidFill>
                  <a:srgbClr val="99cc00"/>
                </a:solidFill>
                <a:latin typeface="Eras Medium ITC"/>
              </a:rPr>
              <a:t>Day</a:t>
            </a:r>
            <a:r>
              <a:rPr b="1" lang="zh-CN" sz="1800" spc="-1" strike="noStrike">
                <a:solidFill>
                  <a:srgbClr val="0099cc"/>
                </a:solidFill>
                <a:latin typeface="Eras Medium ITC"/>
              </a:rPr>
              <a:t>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6480" y="5629320"/>
            <a:ext cx="916956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679400" y="1666800"/>
            <a:ext cx="676440" cy="712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133720" y="2725560"/>
            <a:ext cx="717480" cy="546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84360" y="3571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749680" y="3659040"/>
            <a:ext cx="444240" cy="74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484360" y="20318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93920" y="1893960"/>
            <a:ext cx="3467160" cy="2887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的由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2720" y="3016080"/>
            <a:ext cx="708120" cy="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28782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各国的习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00560" y="40100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24160" y="38736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国际儿童节（又称儿童节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Children's D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定于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为了悼念利迪策惨案和全世界所有在战争中死难的儿童，反对虐杀和毒害儿童，以及保障儿童权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，国际民主妇女联合会在莫斯科举行理事会议，中国和各国代表愤怒地揭露了帝国主义分子和各国反动派残杀、毒害儿童的罪行。会议决定以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为国际儿童节。它是为了保障世界各国儿童的生存权、保健权和受教育权，抚养权，为了改善儿童的生活，为了反对虐杀儿童和毒害儿童而设立的节日。目前世界上许多国家都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的节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各国的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巴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西的儿童节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，这一天正好也是巴西的“全国防疫日”。所以，每到这个日子，各地的医生们都要为孩子们看病，还要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岁以下的儿童注射预防小儿麻痹症的疫苗，表明政府十分关心儿童的健康。另外，巴西的“圣母显灵日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也往往作为儿童节，有一些庆祝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3" descr="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3" descr="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5640" y="5435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1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4-10-23T15:41:2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