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마스터 텍스트 스타일을 편집합니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둘째 수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셋째 수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넷째 수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다섯째 수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A79A-B66E-4505-8F2D-CF8C6283AD8B}" type="slidenum">
              <a:rPr b="0" lang="en-US" sz="8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772080" y="0"/>
            <a:ext cx="360000" cy="4381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240" y="0"/>
            <a:ext cx="41544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更多精彩，请移步：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飞起来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ptshare.qzone.qq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DF4-5DB3-45C7-9009-D55875D6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5DD-2BE9-439F-87DE-59F9E7E5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DB6-6C79-4C82-B243-4AFE68A3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A60-46F5-4087-B8B6-6CD3B122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DF8-CE27-419E-BB01-0D5FFC73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C0F-1B6C-410F-822D-6F8F52CF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4E4-BCE2-4F09-9908-4785292B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D40-280C-4CD6-8BB7-DB9CD7F1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378-0B06-4CFD-A741-1A897A6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A60-F158-4041-9D51-EC6EC875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C6C-FFA1-4802-B48E-94DE08E1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156-557C-4BB3-AE4D-87850141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5560" y="115920"/>
            <a:ext cx="8812440" cy="436680"/>
            <a:chOff x="115560" y="115920"/>
            <a:chExt cx="88124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79280" y="549360"/>
              <a:ext cx="8748720" cy="1440"/>
              <a:chOff x="179280" y="549360"/>
              <a:chExt cx="8748720" cy="1440"/>
            </a:xfrm>
          </p:grpSpPr>
          <p:sp>
            <p:nvSpPr>
              <p:cNvPr id="4" name="Line 113"/>
              <p:cNvSpPr/>
              <p:nvPr/>
            </p:nvSpPr>
            <p:spPr>
              <a:xfrm>
                <a:off x="179280" y="54936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79280" y="54936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79280" y="115920"/>
              <a:ext cx="8748720" cy="1440"/>
              <a:chOff x="179280" y="115920"/>
              <a:chExt cx="8748720" cy="1440"/>
            </a:xfrm>
          </p:grpSpPr>
          <p:sp>
            <p:nvSpPr>
              <p:cNvPr id="7" name="Line 114"/>
              <p:cNvSpPr/>
              <p:nvPr/>
            </p:nvSpPr>
            <p:spPr>
              <a:xfrm>
                <a:off x="179280" y="11592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179280" y="11592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763640" y="189000"/>
              <a:ext cx="1440" cy="287280"/>
              <a:chOff x="1763640" y="189000"/>
              <a:chExt cx="1440" cy="287280"/>
            </a:xfrm>
          </p:grpSpPr>
          <p:sp>
            <p:nvSpPr>
              <p:cNvPr id="10" name="Line 115"/>
              <p:cNvSpPr/>
              <p:nvPr/>
            </p:nvSpPr>
            <p:spPr>
              <a:xfrm>
                <a:off x="1763640" y="189000"/>
                <a:ext cx="1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1763640" y="189000"/>
                <a:ext cx="1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" name="矩形 2"/>
          <p:cNvSpPr/>
          <p:nvPr/>
        </p:nvSpPr>
        <p:spPr>
          <a:xfrm>
            <a:off x="1685520" y="8388360"/>
            <a:ext cx="58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宋体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宋体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" name="Picture 3" descr=""/>
          <p:cNvPicPr/>
          <p:nvPr/>
        </p:nvPicPr>
        <p:blipFill>
          <a:blip r:embed="rId2"/>
          <a:stretch/>
        </p:blipFill>
        <p:spPr>
          <a:xfrm>
            <a:off x="7634160" y="303120"/>
            <a:ext cx="1341720" cy="24948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CD99-D247-4B30-9B4E-70E8584F0C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4491"/>
          <p:cNvSpPr/>
          <p:nvPr/>
        </p:nvSpPr>
        <p:spPr>
          <a:xfrm>
            <a:off x="2884320" y="5653080"/>
            <a:ext cx="642960" cy="642960"/>
          </a:xfrm>
          <a:prstGeom prst="ellipse">
            <a:avLst/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Text Box 4492"/>
          <p:cNvSpPr/>
          <p:nvPr/>
        </p:nvSpPr>
        <p:spPr>
          <a:xfrm>
            <a:off x="2610720" y="594216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Gulim"/>
              </a:rPr>
              <a:t>4_TITL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Rectangle 4493"/>
          <p:cNvSpPr/>
          <p:nvPr/>
        </p:nvSpPr>
        <p:spPr>
          <a:xfrm>
            <a:off x="1778040" y="6161760"/>
            <a:ext cx="1544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If you prefer to buy from a dealer, we will match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with a member of our authorized deale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Oval 4488"/>
          <p:cNvSpPr/>
          <p:nvPr/>
        </p:nvSpPr>
        <p:spPr>
          <a:xfrm>
            <a:off x="5477040" y="5653080"/>
            <a:ext cx="642600" cy="642960"/>
          </a:xfrm>
          <a:prstGeom prst="ellipse">
            <a:avLst/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Text Box 4489"/>
          <p:cNvSpPr/>
          <p:nvPr/>
        </p:nvSpPr>
        <p:spPr>
          <a:xfrm>
            <a:off x="5706360" y="594216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Gulim"/>
              </a:rPr>
              <a:t>3_TITL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Oval 4485"/>
          <p:cNvSpPr/>
          <p:nvPr/>
        </p:nvSpPr>
        <p:spPr>
          <a:xfrm>
            <a:off x="6794640" y="3254400"/>
            <a:ext cx="642960" cy="642960"/>
          </a:xfrm>
          <a:prstGeom prst="ellipse">
            <a:avLst/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Rectangle 4486"/>
          <p:cNvSpPr/>
          <p:nvPr/>
        </p:nvSpPr>
        <p:spPr>
          <a:xfrm>
            <a:off x="7032600" y="3469320"/>
            <a:ext cx="118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Company.com strives to bring you the best and most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current information about a variety of topics to enhanc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your dining experience.Over time, we will be adding new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sections dealing with food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Text Box 4487"/>
          <p:cNvSpPr/>
          <p:nvPr/>
        </p:nvSpPr>
        <p:spPr>
          <a:xfrm>
            <a:off x="7058880" y="336384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Gulim"/>
              </a:rPr>
              <a:t>2_TITL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15120" y="1004760"/>
            <a:ext cx="3138840" cy="859320"/>
            <a:chOff x="5415120" y="1004760"/>
            <a:chExt cx="3138840" cy="859320"/>
          </a:xfrm>
        </p:grpSpPr>
        <p:sp>
          <p:nvSpPr>
            <p:cNvPr id="110" name="Oval 4473"/>
            <p:cNvSpPr/>
            <p:nvPr/>
          </p:nvSpPr>
          <p:spPr>
            <a:xfrm>
              <a:off x="5415120" y="1004760"/>
              <a:ext cx="642240" cy="64296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" name="Rectangle 4472"/>
            <p:cNvSpPr/>
            <p:nvPr/>
          </p:nvSpPr>
          <p:spPr>
            <a:xfrm>
              <a:off x="5631840" y="1284840"/>
              <a:ext cx="2922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</a:rPr>
                <a:t>Company.com strives to bring you the best and most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</a:rPr>
                <a:t>current information about a variety of topics to enhance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</a:rPr>
                <a:t>your dining experience.Over time, we will be adding new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</a:rPr>
                <a:t>sections dealing with food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Text Box 4480"/>
            <p:cNvSpPr/>
            <p:nvPr/>
          </p:nvSpPr>
          <p:spPr>
            <a:xfrm>
              <a:off x="5679000" y="1116360"/>
              <a:ext cx="817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0000"/>
                  </a:solidFill>
                  <a:latin typeface="Gulim"/>
                </a:rPr>
                <a:t>1_TITLE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3" name="AutoShape 4438"/>
          <p:cNvSpPr/>
          <p:nvPr/>
        </p:nvSpPr>
        <p:spPr>
          <a:xfrm>
            <a:off x="3344760" y="2690640"/>
            <a:ext cx="2257560" cy="1952640"/>
          </a:xfrm>
          <a:prstGeom prst="hexagon">
            <a:avLst>
              <a:gd name="adj" fmla="val 28898"/>
              <a:gd name="vf" fmla="val 115470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Freeform 4433"/>
          <p:cNvSpPr/>
          <p:nvPr/>
        </p:nvSpPr>
        <p:spPr>
          <a:xfrm>
            <a:off x="5132520" y="3838680"/>
            <a:ext cx="1401480" cy="2149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Freeform 4439"/>
          <p:cNvSpPr/>
          <p:nvPr/>
        </p:nvSpPr>
        <p:spPr>
          <a:xfrm rot="18012000">
            <a:off x="5503680" y="1993680"/>
            <a:ext cx="1400400" cy="214956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Freeform 4440"/>
          <p:cNvSpPr/>
          <p:nvPr/>
        </p:nvSpPr>
        <p:spPr>
          <a:xfrm rot="14400000">
            <a:off x="4111560" y="790200"/>
            <a:ext cx="1401840" cy="215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Freeform 4444"/>
          <p:cNvSpPr/>
          <p:nvPr/>
        </p:nvSpPr>
        <p:spPr>
          <a:xfrm rot="10800000">
            <a:off x="2414520" y="1348920"/>
            <a:ext cx="1401840" cy="214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Freeform 4445"/>
          <p:cNvSpPr/>
          <p:nvPr/>
        </p:nvSpPr>
        <p:spPr>
          <a:xfrm rot="7212000">
            <a:off x="2043360" y="3196080"/>
            <a:ext cx="1401840" cy="214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Freeform 4446"/>
          <p:cNvSpPr/>
          <p:nvPr/>
        </p:nvSpPr>
        <p:spPr>
          <a:xfrm flipH="1" flipV="1" rot="14400000">
            <a:off x="3428640" y="4385520"/>
            <a:ext cx="1401840" cy="2147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AutoShape 4448"/>
          <p:cNvSpPr/>
          <p:nvPr/>
        </p:nvSpPr>
        <p:spPr>
          <a:xfrm>
            <a:off x="3443400" y="2776680"/>
            <a:ext cx="2044440" cy="176976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Text Box 4450"/>
          <p:cNvSpPr/>
          <p:nvPr/>
        </p:nvSpPr>
        <p:spPr>
          <a:xfrm rot="18000000">
            <a:off x="2971440" y="289548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Gulim"/>
              </a:rPr>
              <a:t>PART_06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Text Box 4451"/>
          <p:cNvSpPr/>
          <p:nvPr/>
        </p:nvSpPr>
        <p:spPr>
          <a:xfrm rot="3600000">
            <a:off x="2898360" y="411012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Gulim"/>
              </a:rPr>
              <a:t>PART_05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Text Box 4452"/>
          <p:cNvSpPr/>
          <p:nvPr/>
        </p:nvSpPr>
        <p:spPr>
          <a:xfrm>
            <a:off x="3985920" y="468468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Gulim"/>
              </a:rPr>
              <a:t>PART_04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Text Box 4453"/>
          <p:cNvSpPr/>
          <p:nvPr/>
        </p:nvSpPr>
        <p:spPr>
          <a:xfrm rot="18000000">
            <a:off x="4989240" y="414036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Gulim"/>
              </a:rPr>
              <a:t>PART_03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Text Box 4454"/>
          <p:cNvSpPr/>
          <p:nvPr/>
        </p:nvSpPr>
        <p:spPr>
          <a:xfrm>
            <a:off x="3943080" y="230652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0000"/>
                </a:solidFill>
                <a:latin typeface="Gulim"/>
              </a:rPr>
              <a:t>PART_01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Text Box 4455"/>
          <p:cNvSpPr/>
          <p:nvPr/>
        </p:nvSpPr>
        <p:spPr>
          <a:xfrm rot="3700200">
            <a:off x="4970160" y="289512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Gulim"/>
              </a:rPr>
              <a:t>PART_0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Text Box 4456"/>
          <p:cNvSpPr/>
          <p:nvPr/>
        </p:nvSpPr>
        <p:spPr>
          <a:xfrm>
            <a:off x="3850560" y="2859120"/>
            <a:ext cx="125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28" name="Object 4457" descr=""/>
          <p:cNvPicPr/>
          <p:nvPr/>
        </p:nvPicPr>
        <p:blipFill>
          <a:blip r:embed="rId1"/>
          <a:stretch/>
        </p:blipFill>
        <p:spPr>
          <a:xfrm>
            <a:off x="3780000" y="3032280"/>
            <a:ext cx="1415880" cy="13651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3454560" y="3664080"/>
            <a:ext cx="2025360" cy="360"/>
            <a:chOff x="3454560" y="3664080"/>
            <a:chExt cx="2025360" cy="360"/>
          </a:xfrm>
        </p:grpSpPr>
        <p:sp>
          <p:nvSpPr>
            <p:cNvPr id="130" name="Line 4458"/>
            <p:cNvSpPr/>
            <p:nvPr/>
          </p:nvSpPr>
          <p:spPr>
            <a:xfrm>
              <a:off x="3454560" y="3664080"/>
              <a:ext cx="2025360" cy="0"/>
            </a:xfrm>
            <a:prstGeom prst="line">
              <a:avLst/>
            </a:prstGeom>
            <a:ln cap="rnd" w="1260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454560" y="3664080"/>
              <a:ext cx="2025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54560" y="3797280"/>
            <a:ext cx="2025360" cy="360"/>
            <a:chOff x="3454560" y="3797280"/>
            <a:chExt cx="2025360" cy="360"/>
          </a:xfrm>
        </p:grpSpPr>
        <p:sp>
          <p:nvSpPr>
            <p:cNvPr id="133" name="Line 4461"/>
            <p:cNvSpPr/>
            <p:nvPr/>
          </p:nvSpPr>
          <p:spPr>
            <a:xfrm>
              <a:off x="3454560" y="3797280"/>
              <a:ext cx="2025360" cy="0"/>
            </a:xfrm>
            <a:prstGeom prst="line">
              <a:avLst/>
            </a:prstGeom>
            <a:ln cap="rnd" w="1260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3454560" y="3797280"/>
              <a:ext cx="2025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693960" y="4203720"/>
            <a:ext cx="1554480" cy="360"/>
            <a:chOff x="3693960" y="4203720"/>
            <a:chExt cx="1554480" cy="360"/>
          </a:xfrm>
        </p:grpSpPr>
        <p:sp>
          <p:nvSpPr>
            <p:cNvPr id="136" name="Line 4466"/>
            <p:cNvSpPr/>
            <p:nvPr/>
          </p:nvSpPr>
          <p:spPr>
            <a:xfrm>
              <a:off x="3693960" y="4203720"/>
              <a:ext cx="1554480" cy="0"/>
            </a:xfrm>
            <a:prstGeom prst="line">
              <a:avLst/>
            </a:prstGeom>
            <a:ln cap="rnd" w="1260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3693960" y="4203720"/>
              <a:ext cx="1554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767040" y="4336920"/>
            <a:ext cx="1413000" cy="360"/>
            <a:chOff x="3767040" y="4336920"/>
            <a:chExt cx="1413000" cy="360"/>
          </a:xfrm>
        </p:grpSpPr>
        <p:sp>
          <p:nvSpPr>
            <p:cNvPr id="139" name="Line 4467"/>
            <p:cNvSpPr/>
            <p:nvPr/>
          </p:nvSpPr>
          <p:spPr>
            <a:xfrm>
              <a:off x="3767040" y="4336920"/>
              <a:ext cx="1413000" cy="0"/>
            </a:xfrm>
            <a:prstGeom prst="line">
              <a:avLst/>
            </a:prstGeom>
            <a:ln cap="rnd" w="1260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767040" y="4336920"/>
              <a:ext cx="141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27360" y="4068720"/>
            <a:ext cx="1687680" cy="1800"/>
            <a:chOff x="3627360" y="4068720"/>
            <a:chExt cx="1687680" cy="1800"/>
          </a:xfrm>
        </p:grpSpPr>
        <p:sp>
          <p:nvSpPr>
            <p:cNvPr id="142" name="Line 4469"/>
            <p:cNvSpPr/>
            <p:nvPr/>
          </p:nvSpPr>
          <p:spPr>
            <a:xfrm>
              <a:off x="3627360" y="4068720"/>
              <a:ext cx="1687680" cy="1800"/>
            </a:xfrm>
            <a:prstGeom prst="line">
              <a:avLst/>
            </a:prstGeom>
            <a:ln cap="rnd" w="1260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627360" y="4068720"/>
              <a:ext cx="16876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4280" bIns="-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60760" y="3932280"/>
            <a:ext cx="1820880" cy="1440"/>
            <a:chOff x="3560760" y="3932280"/>
            <a:chExt cx="1820880" cy="1440"/>
          </a:xfrm>
        </p:grpSpPr>
        <p:sp>
          <p:nvSpPr>
            <p:cNvPr id="145" name="Line 4471"/>
            <p:cNvSpPr/>
            <p:nvPr/>
          </p:nvSpPr>
          <p:spPr>
            <a:xfrm>
              <a:off x="3560760" y="3932280"/>
              <a:ext cx="1820880" cy="1440"/>
            </a:xfrm>
            <a:prstGeom prst="line">
              <a:avLst/>
            </a:prstGeom>
            <a:ln cap="rnd" w="1260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560760" y="3932280"/>
              <a:ext cx="1820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4640" bIns="-44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7" name="Rectangle 4490"/>
          <p:cNvSpPr/>
          <p:nvPr/>
        </p:nvSpPr>
        <p:spPr>
          <a:xfrm>
            <a:off x="5681160" y="6156360"/>
            <a:ext cx="257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If you prefer to buy from a dealer, we will match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with a member of our authorized deale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</a:rPr>
              <a:t>network near you. Your VIP dealer representativ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7280" y="1301760"/>
            <a:ext cx="1922400" cy="360"/>
            <a:chOff x="287280" y="1301760"/>
            <a:chExt cx="1922400" cy="360"/>
          </a:xfrm>
        </p:grpSpPr>
        <p:sp>
          <p:nvSpPr>
            <p:cNvPr id="149" name="Line 4494"/>
            <p:cNvSpPr/>
            <p:nvPr/>
          </p:nvSpPr>
          <p:spPr>
            <a:xfrm>
              <a:off x="287280" y="1301760"/>
              <a:ext cx="192240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87280" y="1301760"/>
              <a:ext cx="1922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1" name="Text Box 4495"/>
          <p:cNvSpPr/>
          <p:nvPr/>
        </p:nvSpPr>
        <p:spPr>
          <a:xfrm>
            <a:off x="651600" y="957240"/>
            <a:ext cx="130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Dotum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65040" y="1571760"/>
            <a:ext cx="1822680" cy="360"/>
            <a:chOff x="365040" y="1571760"/>
            <a:chExt cx="1822680" cy="360"/>
          </a:xfrm>
        </p:grpSpPr>
        <p:sp>
          <p:nvSpPr>
            <p:cNvPr id="153" name="Line 4496"/>
            <p:cNvSpPr/>
            <p:nvPr/>
          </p:nvSpPr>
          <p:spPr>
            <a:xfrm>
              <a:off x="365040" y="1571760"/>
              <a:ext cx="1822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65040" y="1571760"/>
              <a:ext cx="182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72960" y="1774800"/>
            <a:ext cx="1814760" cy="360"/>
            <a:chOff x="372960" y="1774800"/>
            <a:chExt cx="1814760" cy="360"/>
          </a:xfrm>
        </p:grpSpPr>
        <p:sp>
          <p:nvSpPr>
            <p:cNvPr id="156" name="Line 4497"/>
            <p:cNvSpPr/>
            <p:nvPr/>
          </p:nvSpPr>
          <p:spPr>
            <a:xfrm>
              <a:off x="372960" y="1774800"/>
              <a:ext cx="1814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72960" y="1774800"/>
              <a:ext cx="1814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5720" bIns="-45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72960" y="1976400"/>
            <a:ext cx="1814760" cy="1800"/>
            <a:chOff x="372960" y="1976400"/>
            <a:chExt cx="1814760" cy="1800"/>
          </a:xfrm>
        </p:grpSpPr>
        <p:sp>
          <p:nvSpPr>
            <p:cNvPr id="159" name="Line 4498"/>
            <p:cNvSpPr/>
            <p:nvPr/>
          </p:nvSpPr>
          <p:spPr>
            <a:xfrm>
              <a:off x="372960" y="1976400"/>
              <a:ext cx="18147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72960" y="1976400"/>
              <a:ext cx="1814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-44280" bIns="-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1" name="Rectangle 4502"/>
          <p:cNvSpPr/>
          <p:nvPr/>
        </p:nvSpPr>
        <p:spPr>
          <a:xfrm>
            <a:off x="343800" y="1363320"/>
            <a:ext cx="1996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You can also search for used cars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Rectangle 4503"/>
          <p:cNvSpPr/>
          <p:nvPr/>
        </p:nvSpPr>
        <p:spPr>
          <a:xfrm>
            <a:off x="333360" y="1433160"/>
            <a:ext cx="19573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CarsDirect. Need to sell your car?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Rectangle 4504"/>
          <p:cNvSpPr/>
          <p:nvPr/>
        </p:nvSpPr>
        <p:spPr>
          <a:xfrm>
            <a:off x="333000" y="1767960"/>
            <a:ext cx="2015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List it on CarsDirect.com, where it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cp:keywords/>
  <dc:language>en-US</dc:language>
  <cp:lastModifiedBy>a</cp:lastModifiedBy>
  <dcterms:modified xsi:type="dcterms:W3CDTF">2014-05-17T02:54:24Z</dcterms:modified>
  <cp:revision>112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