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7102475" cy="8993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24D006-C717-4439-BAC5-5AAD7820AF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440" y="30477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904760" y="5410080"/>
            <a:ext cx="51814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904760" y="5688720"/>
            <a:ext cx="51814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8C01DA-0C5D-4407-B534-DD3E506C43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440" y="30477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904760" y="5410080"/>
            <a:ext cx="25282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9760" y="5410080"/>
            <a:ext cx="25282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904760" y="5688720"/>
            <a:ext cx="25282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59760" y="5688720"/>
            <a:ext cx="25282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6CEF77-705A-4171-AF15-550A36EB34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440" y="30477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904760" y="5410080"/>
            <a:ext cx="16682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56880" y="5410080"/>
            <a:ext cx="16682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409000" y="5410080"/>
            <a:ext cx="16682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904760" y="5688720"/>
            <a:ext cx="16682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56880" y="5688720"/>
            <a:ext cx="16682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409000" y="5688720"/>
            <a:ext cx="16682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454DE2-5F61-491C-8070-FEC3BD6A61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2196A2-2009-405D-A19E-32C8A4243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440" y="30477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904760" y="5410080"/>
            <a:ext cx="5181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394A4F-9B4F-4963-A57E-A1A5F75D2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440" y="30477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904760" y="5410080"/>
            <a:ext cx="5181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2C72EF-D4E1-4773-AB2F-D2970F42C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440" y="30477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904760" y="5410080"/>
            <a:ext cx="25282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559760" y="5410080"/>
            <a:ext cx="25282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35151D-0BD5-48D3-B8E0-C65D6284C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30477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DE978B-4761-4C35-A799-F69229138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440" y="3047760"/>
            <a:ext cx="7924680" cy="318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7D9447-3890-4E28-9A6E-CC39FFBBF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30477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904760" y="5410080"/>
            <a:ext cx="25282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59760" y="5410080"/>
            <a:ext cx="25282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904760" y="5688720"/>
            <a:ext cx="25282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A9034B-AD7C-45E8-9439-0C902F7AD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440" y="30477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904760" y="5410080"/>
            <a:ext cx="5181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4D4D96-73EF-4960-B3A3-022989DFA2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30477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904760" y="5410080"/>
            <a:ext cx="25282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59760" y="5410080"/>
            <a:ext cx="25282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9760" y="5688720"/>
            <a:ext cx="25282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5061AE-9B1C-4736-B0F6-0D98C331E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440" y="30477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904760" y="5410080"/>
            <a:ext cx="25282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9760" y="5410080"/>
            <a:ext cx="25282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904760" y="5688720"/>
            <a:ext cx="51814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3AA95A-29DC-42D8-9B1D-C2DE1545C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440" y="30477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904760" y="5410080"/>
            <a:ext cx="51814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904760" y="5688720"/>
            <a:ext cx="51814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4FBDB4-52C4-4D7C-B20A-C7EE96DDF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30477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904760" y="5410080"/>
            <a:ext cx="25282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59760" y="5410080"/>
            <a:ext cx="25282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904760" y="5688720"/>
            <a:ext cx="25282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59760" y="5688720"/>
            <a:ext cx="25282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C362F3-3EE8-4DEB-BAB1-454C26BC6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30477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904760" y="5410080"/>
            <a:ext cx="16682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656880" y="5410080"/>
            <a:ext cx="16682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409000" y="5410080"/>
            <a:ext cx="16682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904760" y="5688720"/>
            <a:ext cx="16682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656880" y="5688720"/>
            <a:ext cx="16682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409000" y="5688720"/>
            <a:ext cx="16682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3C3756-7999-4E7D-97BD-C94720BC0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440" y="30477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904760" y="5410080"/>
            <a:ext cx="5181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A2A77A-08B0-4AF0-9687-4747FB588F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30477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904760" y="5410080"/>
            <a:ext cx="25282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59760" y="5410080"/>
            <a:ext cx="25282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040C67-00ED-46AC-A5F6-19058BF5B9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440" y="30477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DBF0E2-75E6-4D1B-8C56-247B89D0B2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440" y="3047760"/>
            <a:ext cx="7924680" cy="318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EEBC07-D15F-4319-99D1-4CFC9262FB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30477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904760" y="5410080"/>
            <a:ext cx="25282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59760" y="5410080"/>
            <a:ext cx="25282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904760" y="5688720"/>
            <a:ext cx="25282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014B17-FBC0-48BA-AB86-EC63BDDF70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30477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904760" y="5410080"/>
            <a:ext cx="25282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59760" y="5410080"/>
            <a:ext cx="25282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59760" y="5688720"/>
            <a:ext cx="25282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7165F9-B63D-4127-88D9-8120439831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440" y="30477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904760" y="5410080"/>
            <a:ext cx="25282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59760" y="5410080"/>
            <a:ext cx="25282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904760" y="5688720"/>
            <a:ext cx="51814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DB06BE-9DD3-43F0-9B72-A9AF423889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533520"/>
            <a:ext cx="9144000" cy="685800"/>
          </a:xfrm>
          <a:prstGeom prst="rect">
            <a:avLst/>
          </a:prstGeom>
          <a:gradFill rotWithShape="0">
            <a:gsLst>
              <a:gs pos="0">
                <a:srgbClr val="1f63ad"/>
              </a:gs>
              <a:gs pos="100000">
                <a:srgbClr val="e2eaf3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457200"/>
            <a:ext cx="8229600" cy="685800"/>
          </a:xfrm>
          <a:prstGeom prst="rect">
            <a:avLst/>
          </a:prstGeom>
          <a:gradFill rotWithShape="0">
            <a:gsLst>
              <a:gs pos="0">
                <a:srgbClr val="460b05">
                  <a:alpha val="0"/>
                </a:srgbClr>
              </a:gs>
              <a:gs pos="100000">
                <a:srgbClr val="99190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3ca05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>
          <a:xfrm>
            <a:off x="5790960" y="6530760"/>
            <a:ext cx="28954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66"/>
                </a:solidFill>
                <a:latin typeface="Verdana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>
          <a:xfrm>
            <a:off x="3505320" y="6553080"/>
            <a:ext cx="213336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3366"/>
                </a:solidFill>
                <a:latin typeface="Verdana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8AB40-1BA6-4BA3-8F48-0FB03C115273}" type="slidenum">
              <a:rPr b="1" lang="en-US" sz="1000" spc="-1" strike="noStrike">
                <a:solidFill>
                  <a:srgbClr val="003366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2971800"/>
            <a:ext cx="9144000" cy="914400"/>
          </a:xfrm>
          <a:prstGeom prst="rect">
            <a:avLst/>
          </a:prstGeom>
          <a:gradFill rotWithShape="0">
            <a:gsLst>
              <a:gs pos="0">
                <a:srgbClr val="1f63ad"/>
              </a:gs>
              <a:gs pos="100000">
                <a:srgbClr val="e2eaf3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dt" idx="3"/>
          </p:nvPr>
        </p:nvSpPr>
        <p:spPr>
          <a:xfrm>
            <a:off x="38095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ftr" idx="4"/>
          </p:nvPr>
        </p:nvSpPr>
        <p:spPr>
          <a:xfrm>
            <a:off x="228240" y="6476760"/>
            <a:ext cx="28954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5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3DB96-9C5C-4370-8F8A-D605E579B24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31896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LOG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2895480"/>
            <a:ext cx="8229600" cy="914400"/>
          </a:xfrm>
          <a:prstGeom prst="rect">
            <a:avLst/>
          </a:prstGeom>
          <a:gradFill rotWithShape="0">
            <a:gsLst>
              <a:gs pos="0">
                <a:srgbClr val="460b05">
                  <a:alpha val="0"/>
                </a:srgbClr>
              </a:gs>
              <a:gs pos="100000">
                <a:srgbClr val="99190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title"/>
          </p:nvPr>
        </p:nvSpPr>
        <p:spPr>
          <a:xfrm>
            <a:off x="685440" y="30477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Wingdings" charset="2"/>
              <a:buChar char="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3366"/>
              </a:buClr>
              <a:buFont typeface="Wingdings" charset="2"/>
              <a:buChar char="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3366"/>
              </a:buClr>
              <a:buFont typeface="Wingdings" charset="2"/>
              <a:buChar char="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336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336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440" y="30477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PowerPoint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Templat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04760" y="5410080"/>
            <a:ext cx="5181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8" name=""/>
          <p:cNvSpPr/>
          <p:nvPr/>
        </p:nvSpPr>
        <p:spPr>
          <a:xfrm>
            <a:off x="7163280" y="640080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722760" y="3657600"/>
            <a:ext cx="1839960" cy="2286000"/>
          </a:xfrm>
          <a:custGeom>
            <a:avLst/>
            <a:gdLst>
              <a:gd name="textAreaLeft" fmla="*/ 73800 w 1839960"/>
              <a:gd name="textAreaRight" fmla="*/ 1766160 w 1839960"/>
              <a:gd name="textAreaTop" fmla="*/ 73800 h 2286000"/>
              <a:gd name="textAreaBottom" fmla="*/ 2212200 h 2286000"/>
            </a:gdLst>
            <a:ahLst/>
            <a:rect l="textAreaLeft" t="textAreaTop" r="textAreaRight" b="textAreaBottom"/>
            <a:pathLst>
              <a:path w="21600" h="26835">
                <a:moveTo>
                  <a:pt x="2969" y="0"/>
                </a:moveTo>
                <a:arcTo wR="2969" hR="2969" stAng="16200000" swAng="-5400000"/>
                <a:lnTo>
                  <a:pt x="0" y="23866"/>
                </a:lnTo>
                <a:arcTo wR="2969" hR="2969" stAng="10800000" swAng="-5400000"/>
                <a:lnTo>
                  <a:pt x="18631" y="26835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219320" y="3657600"/>
            <a:ext cx="1828800" cy="2286000"/>
          </a:xfrm>
          <a:custGeom>
            <a:avLst/>
            <a:gdLst>
              <a:gd name="textAreaLeft" fmla="*/ 73440 w 1828800"/>
              <a:gd name="textAreaRight" fmla="*/ 1755360 w 1828800"/>
              <a:gd name="textAreaTop" fmla="*/ 73440 h 2286000"/>
              <a:gd name="textAreaBottom" fmla="*/ 2212560 h 2286000"/>
            </a:gdLst>
            <a:ahLst/>
            <a:rect l="textAreaLeft" t="textAreaTop" r="textAreaRight" b="textAreaBottom"/>
            <a:pathLst>
              <a:path w="21600" h="26999">
                <a:moveTo>
                  <a:pt x="2969" y="0"/>
                </a:moveTo>
                <a:arcTo wR="2969" hR="2969" stAng="16200000" swAng="-5400000"/>
                <a:lnTo>
                  <a:pt x="0" y="24030"/>
                </a:lnTo>
                <a:arcTo wR="2969" hR="2969" stAng="10800000" swAng="-5400000"/>
                <a:lnTo>
                  <a:pt x="18631" y="26999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248520" y="3657600"/>
            <a:ext cx="1752480" cy="2286000"/>
          </a:xfrm>
          <a:custGeom>
            <a:avLst/>
            <a:gdLst>
              <a:gd name="textAreaLeft" fmla="*/ 70560 w 1752480"/>
              <a:gd name="textAreaRight" fmla="*/ 1681920 w 1752480"/>
              <a:gd name="textAreaTop" fmla="*/ 70560 h 2286000"/>
              <a:gd name="textAreaBottom" fmla="*/ 2215440 h 2286000"/>
            </a:gdLst>
            <a:ahLst/>
            <a:rect l="textAreaLeft" t="textAreaTop" r="textAreaRight" b="textAreaBottom"/>
            <a:pathLst>
              <a:path w="21600" h="28174">
                <a:moveTo>
                  <a:pt x="2969" y="0"/>
                </a:moveTo>
                <a:arcTo wR="2969" hR="2969" stAng="16200000" swAng="-5400000"/>
                <a:lnTo>
                  <a:pt x="0" y="25205"/>
                </a:lnTo>
                <a:arcTo wR="2969" hR="2969" stAng="10800000" swAng="-5400000"/>
                <a:lnTo>
                  <a:pt x="18631" y="2817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"/>
          <p:cNvSpPr/>
          <p:nvPr/>
        </p:nvSpPr>
        <p:spPr>
          <a:xfrm>
            <a:off x="3151080" y="2452680"/>
            <a:ext cx="400320" cy="449280"/>
          </a:xfrm>
          <a:custGeom>
            <a:avLst/>
            <a:gdLst>
              <a:gd name="textAreaLeft" fmla="*/ 0 w 400320"/>
              <a:gd name="textAreaRight" fmla="*/ 400680 w 40032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1f63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613480" y="2452680"/>
            <a:ext cx="398520" cy="449280"/>
          </a:xfrm>
          <a:custGeom>
            <a:avLst/>
            <a:gdLst>
              <a:gd name="textAreaLeft" fmla="*/ 0 w 398520"/>
              <a:gd name="textAreaRight" fmla="*/ 398880 w 39852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3ca0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221520" y="1833480"/>
            <a:ext cx="1703160" cy="168768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3ca051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221520" y="1833480"/>
            <a:ext cx="1703160" cy="1687680"/>
          </a:xfrm>
          <a:prstGeom prst="ellipse">
            <a:avLst/>
          </a:prstGeom>
          <a:gradFill rotWithShape="0">
            <a:gsLst>
              <a:gs pos="0">
                <a:srgbClr val="000000">
                  <a:alpha val="90196"/>
                </a:srgbClr>
              </a:gs>
              <a:gs pos="100000">
                <a:srgbClr val="3ca051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332400" y="1944720"/>
            <a:ext cx="1481400" cy="1466640"/>
          </a:xfrm>
          <a:prstGeom prst="ellipse">
            <a:avLst/>
          </a:prstGeom>
          <a:gradFill rotWithShape="0">
            <a:gsLst>
              <a:gs pos="0">
                <a:srgbClr val="20562b"/>
              </a:gs>
              <a:gs pos="50000">
                <a:srgbClr val="3ca051"/>
              </a:gs>
              <a:gs pos="100000">
                <a:srgbClr val="20562b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357960" y="1952640"/>
            <a:ext cx="1481040" cy="1467000"/>
          </a:xfrm>
          <a:prstGeom prst="ellipse">
            <a:avLst/>
          </a:prstGeom>
          <a:gradFill rotWithShape="0">
            <a:gsLst>
              <a:gs pos="0">
                <a:srgbClr val="3ca051">
                  <a:alpha val="0"/>
                </a:srgbClr>
              </a:gs>
              <a:gs pos="100000">
                <a:srgbClr val="256533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411960" y="2016000"/>
            <a:ext cx="1334880" cy="13208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295280" y="182880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97adb5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295280" y="182880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000000">
                  <a:alpha val="90196"/>
                </a:srgbClr>
              </a:gs>
              <a:gs pos="100000">
                <a:srgbClr val="97adb5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406520" y="1938240"/>
            <a:ext cx="1481040" cy="1467000"/>
          </a:xfrm>
          <a:prstGeom prst="ellipse">
            <a:avLst/>
          </a:prstGeom>
          <a:gradFill rotWithShape="0">
            <a:gsLst>
              <a:gs pos="0">
                <a:srgbClr val="515d61"/>
              </a:gs>
              <a:gs pos="50000">
                <a:srgbClr val="97adb5"/>
              </a:gs>
              <a:gs pos="100000">
                <a:srgbClr val="515d61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407960" y="1941480"/>
            <a:ext cx="1481400" cy="1467000"/>
          </a:xfrm>
          <a:prstGeom prst="ellipse">
            <a:avLst/>
          </a:prstGeom>
          <a:gradFill rotWithShape="0">
            <a:gsLst>
              <a:gs pos="0">
                <a:srgbClr val="97adb5">
                  <a:alpha val="0"/>
                </a:srgbClr>
              </a:gs>
              <a:gs pos="100000">
                <a:srgbClr val="5f6d7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481040" y="2013120"/>
            <a:ext cx="1333440" cy="132048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501920" y="2031840"/>
            <a:ext cx="1290600" cy="1278000"/>
            <a:chOff x="1501920" y="2031840"/>
            <a:chExt cx="1290600" cy="1278000"/>
          </a:xfrm>
        </p:grpSpPr>
        <p:sp>
          <p:nvSpPr>
            <p:cNvPr id="252" name=""/>
            <p:cNvSpPr/>
            <p:nvPr/>
          </p:nvSpPr>
          <p:spPr>
            <a:xfrm>
              <a:off x="1501920" y="2031840"/>
              <a:ext cx="1290600" cy="127800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18480" y="2038680"/>
              <a:ext cx="125928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531800" y="2051280"/>
              <a:ext cx="1197720" cy="116460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601640" y="2083680"/>
              <a:ext cx="1064880" cy="9450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56" name=""/>
          <p:cNvSpPr/>
          <p:nvPr/>
        </p:nvSpPr>
        <p:spPr>
          <a:xfrm>
            <a:off x="3759120" y="183348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1f63ad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759120" y="183348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0e2d4f"/>
              </a:gs>
              <a:gs pos="100000">
                <a:srgbClr val="1f63ad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870360" y="1944720"/>
            <a:ext cx="1481040" cy="1466640"/>
          </a:xfrm>
          <a:prstGeom prst="ellipse">
            <a:avLst/>
          </a:prstGeom>
          <a:gradFill rotWithShape="0">
            <a:gsLst>
              <a:gs pos="0">
                <a:srgbClr val="10355d"/>
              </a:gs>
              <a:gs pos="50000">
                <a:srgbClr val="1f63ad"/>
              </a:gs>
              <a:gs pos="100000">
                <a:srgbClr val="10355d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71800" y="1946160"/>
            <a:ext cx="1481400" cy="1467000"/>
          </a:xfrm>
          <a:prstGeom prst="ellipse">
            <a:avLst/>
          </a:prstGeom>
          <a:gradFill rotWithShape="0">
            <a:gsLst>
              <a:gs pos="0">
                <a:srgbClr val="1f63ad">
                  <a:alpha val="0"/>
                </a:srgbClr>
              </a:gs>
              <a:gs pos="100000">
                <a:srgbClr val="133e6d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943440" y="2016000"/>
            <a:ext cx="1333440" cy="13208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61" name=""/>
          <p:cNvGrpSpPr/>
          <p:nvPr/>
        </p:nvGrpSpPr>
        <p:grpSpPr>
          <a:xfrm>
            <a:off x="3965400" y="2031840"/>
            <a:ext cx="1290960" cy="1278000"/>
            <a:chOff x="3965400" y="2031840"/>
            <a:chExt cx="1290960" cy="1278000"/>
          </a:xfrm>
        </p:grpSpPr>
        <p:sp>
          <p:nvSpPr>
            <p:cNvPr id="262" name=""/>
            <p:cNvSpPr/>
            <p:nvPr/>
          </p:nvSpPr>
          <p:spPr>
            <a:xfrm>
              <a:off x="3965400" y="2031840"/>
              <a:ext cx="1290960" cy="127800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981960" y="2038680"/>
              <a:ext cx="125964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995280" y="2051280"/>
              <a:ext cx="1198080" cy="116460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065480" y="2083680"/>
              <a:ext cx="1064880" cy="9450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6435720" y="2031840"/>
            <a:ext cx="1292400" cy="1278000"/>
            <a:chOff x="6435720" y="2031840"/>
            <a:chExt cx="1292400" cy="1278000"/>
          </a:xfrm>
        </p:grpSpPr>
        <p:sp>
          <p:nvSpPr>
            <p:cNvPr id="267" name=""/>
            <p:cNvSpPr/>
            <p:nvPr/>
          </p:nvSpPr>
          <p:spPr>
            <a:xfrm>
              <a:off x="6435720" y="2031840"/>
              <a:ext cx="1292400" cy="127800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452280" y="2038680"/>
              <a:ext cx="126108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6465600" y="2051280"/>
              <a:ext cx="1199520" cy="116460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535800" y="2083680"/>
              <a:ext cx="1066320" cy="9450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71" name=""/>
          <p:cNvSpPr/>
          <p:nvPr/>
        </p:nvSpPr>
        <p:spPr>
          <a:xfrm>
            <a:off x="1765080" y="25052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233600" y="25052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700320" y="25052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5" name="未知"/>
          <p:cNvSpPr/>
          <p:nvPr/>
        </p:nvSpPr>
        <p:spPr>
          <a:xfrm>
            <a:off x="1066680" y="1981080"/>
            <a:ext cx="5943600" cy="403884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lnTo>
                  <a:pt x="1244" y="0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3ca051"/>
              </a:gs>
              <a:gs pos="100000">
                <a:srgbClr val="1f63ad"/>
              </a:gs>
            </a:gsLst>
            <a:lin ang="5400000"/>
          </a:gradFill>
          <a:ln w="0">
            <a:noFill/>
          </a:ln>
          <a:effectLst>
            <a:outerShdw dist="206639" dir="8248269" blurRad="0" rotWithShape="0">
              <a:srgbClr val="c1d1d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5334120" y="3352680"/>
            <a:ext cx="281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190b"/>
                </a:solidFill>
                <a:latin typeface="Arial"/>
              </a:rPr>
              <a:t>Add Your Titl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rot="20876400">
            <a:off x="3316320" y="4971960"/>
            <a:ext cx="1438200" cy="66672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3247920" y="3753000"/>
            <a:ext cx="1704960" cy="1706400"/>
          </a:xfrm>
          <a:prstGeom prst="ellipse">
            <a:avLst/>
          </a:prstGeom>
          <a:gradFill rotWithShape="0">
            <a:gsLst>
              <a:gs pos="0">
                <a:srgbClr val="626768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268800" y="3762360"/>
            <a:ext cx="1665000" cy="166356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eff3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286080" y="3778200"/>
            <a:ext cx="1584360" cy="1555920"/>
          </a:xfrm>
          <a:prstGeom prst="ellipse">
            <a:avLst/>
          </a:prstGeom>
          <a:gradFill rotWithShape="0">
            <a:gsLst>
              <a:gs pos="0">
                <a:srgbClr val="a8b1b2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3378240" y="3822840"/>
            <a:ext cx="1409760" cy="12618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665880" y="4379760"/>
            <a:ext cx="87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20826600">
            <a:off x="1473120" y="4362120"/>
            <a:ext cx="1133640" cy="60948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1397160" y="3371760"/>
            <a:ext cx="1371240" cy="1441080"/>
            <a:chOff x="1397160" y="3371760"/>
            <a:chExt cx="1371240" cy="1441080"/>
          </a:xfrm>
        </p:grpSpPr>
        <p:sp>
          <p:nvSpPr>
            <p:cNvPr id="285" name=""/>
            <p:cNvSpPr/>
            <p:nvPr/>
          </p:nvSpPr>
          <p:spPr>
            <a:xfrm>
              <a:off x="1397160" y="3371760"/>
              <a:ext cx="1371240" cy="144108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415160" y="3380040"/>
              <a:ext cx="1337040" cy="14043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428120" y="3393360"/>
              <a:ext cx="1271880" cy="131436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499760" y="3430080"/>
              <a:ext cx="1132200" cy="106596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677600" y="387792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90" name=""/>
          <p:cNvSpPr/>
          <p:nvPr/>
        </p:nvSpPr>
        <p:spPr>
          <a:xfrm>
            <a:off x="1295280" y="2606760"/>
            <a:ext cx="914400" cy="53316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371600" y="2000160"/>
            <a:ext cx="1023840" cy="1024200"/>
          </a:xfrm>
          <a:prstGeom prst="ellipse">
            <a:avLst/>
          </a:prstGeom>
          <a:gradFill rotWithShape="0">
            <a:gsLst>
              <a:gs pos="0">
                <a:srgbClr val="626768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384200" y="2004840"/>
            <a:ext cx="1000080" cy="100044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eff3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395360" y="2016000"/>
            <a:ext cx="951120" cy="933480"/>
          </a:xfrm>
          <a:prstGeom prst="ellipse">
            <a:avLst/>
          </a:prstGeom>
          <a:gradFill rotWithShape="0">
            <a:gsLst>
              <a:gs pos="0">
                <a:srgbClr val="a8b1b2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1449360" y="2041560"/>
            <a:ext cx="847800" cy="75708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1568520" y="234936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2562120" y="2076480"/>
            <a:ext cx="685800" cy="22860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2684520" y="1542960"/>
            <a:ext cx="682560" cy="682560"/>
          </a:xfrm>
          <a:prstGeom prst="ellipse">
            <a:avLst/>
          </a:prstGeom>
          <a:gradFill rotWithShape="0">
            <a:gsLst>
              <a:gs pos="0">
                <a:srgbClr val="626768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693880" y="1546200"/>
            <a:ext cx="665280" cy="66672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eff3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2700360" y="1552680"/>
            <a:ext cx="633240" cy="622080"/>
          </a:xfrm>
          <a:prstGeom prst="ellipse">
            <a:avLst/>
          </a:prstGeom>
          <a:gradFill rotWithShape="0">
            <a:gsLst>
              <a:gs pos="0">
                <a:srgbClr val="a8b1b2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736720" y="1571760"/>
            <a:ext cx="563760" cy="50328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2754720" y="1766880"/>
            <a:ext cx="54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7163280" y="624852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1143000" y="1981080"/>
            <a:ext cx="3833640" cy="3834000"/>
          </a:xfrm>
          <a:prstGeom prst="donut">
            <a:avLst>
              <a:gd name="adj" fmla="val 8861"/>
            </a:avLst>
          </a:prstGeom>
          <a:gradFill rotWithShape="0">
            <a:gsLst>
              <a:gs pos="0">
                <a:srgbClr val="769fcc">
                  <a:alpha val="12156"/>
                </a:srgbClr>
              </a:gs>
              <a:gs pos="50000">
                <a:srgbClr val="1f63ad"/>
              </a:gs>
              <a:gs pos="100000">
                <a:srgbClr val="769fcc">
                  <a:alpha val="1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1447920" y="2286000"/>
            <a:ext cx="3200400" cy="3200400"/>
          </a:xfrm>
          <a:prstGeom prst="ellipse">
            <a:avLst/>
          </a:prstGeom>
          <a:gradFill rotWithShape="0">
            <a:gsLst>
              <a:gs pos="0">
                <a:srgbClr val="3ca051"/>
              </a:gs>
              <a:gs pos="100000">
                <a:srgbClr val="90c89c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852720" y="2311560"/>
            <a:ext cx="3781440" cy="5000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dddddd"/>
              </a:gs>
              <a:gs pos="100000">
                <a:srgbClr val="fcfcfc"/>
              </a:gs>
            </a:gsLst>
            <a:lin ang="10800000"/>
          </a:gradFill>
          <a:ln w="38160">
            <a:solidFill>
              <a:srgbClr val="1f6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183200" y="2973240"/>
            <a:ext cx="3781440" cy="4986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dddddd"/>
              </a:gs>
              <a:gs pos="100000">
                <a:srgbClr val="fcfcfc"/>
              </a:gs>
            </a:gsLst>
            <a:lin ang="10800000"/>
          </a:gradFill>
          <a:ln w="38160">
            <a:solidFill>
              <a:srgbClr val="1f6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4449600" y="3633840"/>
            <a:ext cx="3780000" cy="5000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dddddd"/>
              </a:gs>
              <a:gs pos="100000">
                <a:srgbClr val="fcfcfc"/>
              </a:gs>
            </a:gsLst>
            <a:lin ang="10800000"/>
          </a:gradFill>
          <a:ln w="38160">
            <a:solidFill>
              <a:srgbClr val="1f6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183200" y="4294080"/>
            <a:ext cx="3781440" cy="5000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dddddd"/>
              </a:gs>
              <a:gs pos="100000">
                <a:srgbClr val="fcfcfc"/>
              </a:gs>
            </a:gsLst>
            <a:lin ang="10800000"/>
          </a:gradFill>
          <a:ln w="38160">
            <a:solidFill>
              <a:srgbClr val="1f6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852720" y="4956120"/>
            <a:ext cx="3781440" cy="5000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dddddd"/>
              </a:gs>
              <a:gs pos="100000">
                <a:srgbClr val="fcfcfc"/>
              </a:gs>
            </a:gsLst>
            <a:lin ang="10800000"/>
          </a:gradFill>
          <a:ln w="38160">
            <a:solidFill>
              <a:srgbClr val="1f6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286720" y="3048120"/>
            <a:ext cx="1535400" cy="155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Your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ogan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ere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13" name=""/>
          <p:cNvGrpSpPr/>
          <p:nvPr/>
        </p:nvGrpSpPr>
        <p:grpSpPr>
          <a:xfrm>
            <a:off x="1219320" y="1832040"/>
            <a:ext cx="2170080" cy="4034880"/>
            <a:chOff x="1219320" y="1832040"/>
            <a:chExt cx="2170080" cy="4034880"/>
          </a:xfrm>
        </p:grpSpPr>
        <p:sp>
          <p:nvSpPr>
            <p:cNvPr id="314" name=""/>
            <p:cNvSpPr/>
            <p:nvPr/>
          </p:nvSpPr>
          <p:spPr>
            <a:xfrm>
              <a:off x="121932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77a4"/>
                </a:gs>
                <a:gs pos="100000">
                  <a:srgbClr val="4e91d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252800" y="2147760"/>
              <a:ext cx="2098440" cy="280296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51">
                  <a:moveTo>
                    <a:pt x="3600" y="0"/>
                  </a:moveTo>
                  <a:arcTo wR="3600" hR="3600" stAng="16200000" swAng="-5400000"/>
                  <a:lnTo>
                    <a:pt x="0" y="25251"/>
                  </a:lnTo>
                  <a:arcTo wR="3600" hR="3600" stAng="10800000" swAng="-5400000"/>
                  <a:lnTo>
                    <a:pt x="18000" y="288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27008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acdf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27008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ddef5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22580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27008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320" name=""/>
            <p:cNvGrpSpPr/>
            <p:nvPr/>
          </p:nvGrpSpPr>
          <p:grpSpPr>
            <a:xfrm>
              <a:off x="1963800" y="1832040"/>
              <a:ext cx="642960" cy="642600"/>
              <a:chOff x="1963800" y="1832040"/>
              <a:chExt cx="642960" cy="642600"/>
            </a:xfrm>
          </p:grpSpPr>
          <p:sp>
            <p:nvSpPr>
              <p:cNvPr id="321" name=""/>
              <p:cNvSpPr/>
              <p:nvPr/>
            </p:nvSpPr>
            <p:spPr>
              <a:xfrm>
                <a:off x="196380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197028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197820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1984680" y="184608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201852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326" name=""/>
            <p:cNvSpPr/>
            <p:nvPr/>
          </p:nvSpPr>
          <p:spPr>
            <a:xfrm>
              <a:off x="210384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29564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28" name=""/>
          <p:cNvGrpSpPr/>
          <p:nvPr/>
        </p:nvGrpSpPr>
        <p:grpSpPr>
          <a:xfrm>
            <a:off x="3581280" y="1832040"/>
            <a:ext cx="2166840" cy="4034880"/>
            <a:chOff x="3581280" y="1832040"/>
            <a:chExt cx="2166840" cy="4034880"/>
          </a:xfrm>
        </p:grpSpPr>
        <p:sp>
          <p:nvSpPr>
            <p:cNvPr id="329" name=""/>
            <p:cNvSpPr/>
            <p:nvPr/>
          </p:nvSpPr>
          <p:spPr>
            <a:xfrm>
              <a:off x="358128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f8b4a"/>
                </a:gs>
                <a:gs pos="100000">
                  <a:srgbClr val="34b03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3614760" y="2147760"/>
              <a:ext cx="2098440" cy="280296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51">
                  <a:moveTo>
                    <a:pt x="3600" y="0"/>
                  </a:moveTo>
                  <a:arcTo wR="3600" hR="3600" stAng="16200000" swAng="-5400000"/>
                  <a:lnTo>
                    <a:pt x="0" y="25251"/>
                  </a:lnTo>
                  <a:arcTo wR="3600" hR="3600" stAng="10800000" swAng="-5400000"/>
                  <a:lnTo>
                    <a:pt x="18000" y="288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363204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1f0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63204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ff6d3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4325760" y="1832040"/>
              <a:ext cx="642960" cy="6426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4332240" y="1836360"/>
              <a:ext cx="622080" cy="62208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4340160" y="1839600"/>
              <a:ext cx="608040" cy="6076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346280" y="1846080"/>
              <a:ext cx="578160" cy="56628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4381560" y="1861920"/>
              <a:ext cx="512640" cy="4600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46580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5760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58452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3628800" y="5020920"/>
              <a:ext cx="207036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42" name=""/>
          <p:cNvGrpSpPr/>
          <p:nvPr/>
        </p:nvGrpSpPr>
        <p:grpSpPr>
          <a:xfrm>
            <a:off x="5937120" y="1832040"/>
            <a:ext cx="2170080" cy="4034880"/>
            <a:chOff x="5937120" y="1832040"/>
            <a:chExt cx="2170080" cy="4034880"/>
          </a:xfrm>
        </p:grpSpPr>
        <p:sp>
          <p:nvSpPr>
            <p:cNvPr id="343" name=""/>
            <p:cNvSpPr/>
            <p:nvPr/>
          </p:nvSpPr>
          <p:spPr>
            <a:xfrm>
              <a:off x="594360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8f8849"/>
                </a:gs>
                <a:gs pos="100000">
                  <a:srgbClr val="b59f4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976720" y="21477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99436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1eca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599436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6f3ca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347" name=""/>
            <p:cNvGrpSpPr/>
            <p:nvPr/>
          </p:nvGrpSpPr>
          <p:grpSpPr>
            <a:xfrm>
              <a:off x="6688080" y="1832040"/>
              <a:ext cx="642960" cy="642600"/>
              <a:chOff x="6688080" y="1832040"/>
              <a:chExt cx="642960" cy="642600"/>
            </a:xfrm>
          </p:grpSpPr>
          <p:sp>
            <p:nvSpPr>
              <p:cNvPr id="348" name=""/>
              <p:cNvSpPr/>
              <p:nvPr/>
            </p:nvSpPr>
            <p:spPr>
              <a:xfrm>
                <a:off x="668808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669456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70248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708960" y="184608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74280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353" name=""/>
            <p:cNvSpPr/>
            <p:nvPr/>
          </p:nvSpPr>
          <p:spPr>
            <a:xfrm>
              <a:off x="682812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01956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593712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99bac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981400" y="5020920"/>
              <a:ext cx="207036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8da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58" name=""/>
          <p:cNvGrpSpPr/>
          <p:nvPr/>
        </p:nvGrpSpPr>
        <p:grpSpPr>
          <a:xfrm>
            <a:off x="0" y="3238560"/>
            <a:ext cx="9144000" cy="122040"/>
            <a:chOff x="0" y="3238560"/>
            <a:chExt cx="9144000" cy="122040"/>
          </a:xfrm>
        </p:grpSpPr>
        <p:sp>
          <p:nvSpPr>
            <p:cNvPr id="359" name=""/>
            <p:cNvSpPr/>
            <p:nvPr/>
          </p:nvSpPr>
          <p:spPr>
            <a:xfrm>
              <a:off x="0" y="3238560"/>
              <a:ext cx="9144000" cy="475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0" y="3285360"/>
              <a:ext cx="9144000" cy="75240"/>
            </a:xfrm>
            <a:prstGeom prst="rect">
              <a:avLst/>
            </a:prstGeom>
            <a:gradFill rotWithShape="0">
              <a:gsLst>
                <a:gs pos="0">
                  <a:srgbClr val="cdcdcd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61" name=""/>
          <p:cNvGrpSpPr/>
          <p:nvPr/>
        </p:nvGrpSpPr>
        <p:grpSpPr>
          <a:xfrm>
            <a:off x="4721760" y="3529440"/>
            <a:ext cx="1523160" cy="2421720"/>
            <a:chOff x="4721760" y="3529440"/>
            <a:chExt cx="1523160" cy="2421720"/>
          </a:xfrm>
        </p:grpSpPr>
        <p:grpSp>
          <p:nvGrpSpPr>
            <p:cNvPr id="362" name=""/>
            <p:cNvGrpSpPr/>
            <p:nvPr/>
          </p:nvGrpSpPr>
          <p:grpSpPr>
            <a:xfrm>
              <a:off x="4721760" y="3686760"/>
              <a:ext cx="1418400" cy="2264400"/>
              <a:chOff x="4721760" y="3686760"/>
              <a:chExt cx="1418400" cy="2264400"/>
            </a:xfrm>
          </p:grpSpPr>
          <p:sp>
            <p:nvSpPr>
              <p:cNvPr id="363" name="未知"/>
              <p:cNvSpPr/>
              <p:nvPr/>
            </p:nvSpPr>
            <p:spPr>
              <a:xfrm rot="3876600">
                <a:off x="4294080" y="4573080"/>
                <a:ext cx="2273400" cy="4910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64" name="未知"/>
              <p:cNvSpPr/>
              <p:nvPr/>
            </p:nvSpPr>
            <p:spPr>
              <a:xfrm rot="3876600">
                <a:off x="565992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365" name=""/>
            <p:cNvGrpSpPr/>
            <p:nvPr/>
          </p:nvGrpSpPr>
          <p:grpSpPr>
            <a:xfrm>
              <a:off x="5156640" y="3529440"/>
              <a:ext cx="1088280" cy="1737360"/>
              <a:chOff x="5156640" y="3529440"/>
              <a:chExt cx="1088280" cy="1737360"/>
            </a:xfrm>
          </p:grpSpPr>
          <p:sp>
            <p:nvSpPr>
              <p:cNvPr id="366" name="未知"/>
              <p:cNvSpPr/>
              <p:nvPr/>
            </p:nvSpPr>
            <p:spPr>
              <a:xfrm flipV="1" rot="3876600">
                <a:off x="4828320" y="4209840"/>
                <a:ext cx="1744560" cy="37656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67" name="未知"/>
              <p:cNvSpPr/>
              <p:nvPr/>
            </p:nvSpPr>
            <p:spPr>
              <a:xfrm flipV="1" rot="3876600">
                <a:off x="5861160" y="4889880"/>
                <a:ext cx="273960" cy="30816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grpSp>
        <p:nvGrpSpPr>
          <p:cNvPr id="368" name=""/>
          <p:cNvGrpSpPr/>
          <p:nvPr/>
        </p:nvGrpSpPr>
        <p:grpSpPr>
          <a:xfrm>
            <a:off x="4313160" y="2685960"/>
            <a:ext cx="1270080" cy="1308240"/>
            <a:chOff x="4313160" y="2685960"/>
            <a:chExt cx="1270080" cy="1308240"/>
          </a:xfrm>
        </p:grpSpPr>
        <p:sp>
          <p:nvSpPr>
            <p:cNvPr id="369" name=""/>
            <p:cNvSpPr/>
            <p:nvPr/>
          </p:nvSpPr>
          <p:spPr>
            <a:xfrm>
              <a:off x="4313160" y="2685960"/>
              <a:ext cx="1270080" cy="13082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83a6a7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313160" y="2685960"/>
              <a:ext cx="1270080" cy="1308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83a6a7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4397040" y="2770920"/>
              <a:ext cx="1101600" cy="1136520"/>
            </a:xfrm>
            <a:prstGeom prst="ellipse">
              <a:avLst/>
            </a:prstGeom>
            <a:gradFill rotWithShape="0">
              <a:gsLst>
                <a:gs pos="0">
                  <a:srgbClr val="46595a"/>
                </a:gs>
                <a:gs pos="50000">
                  <a:srgbClr val="83a6a7"/>
                </a:gs>
                <a:gs pos="100000">
                  <a:srgbClr val="46595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397040" y="2773800"/>
              <a:ext cx="1101600" cy="113652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0"/>
                  </a:srgbClr>
                </a:gs>
                <a:gs pos="100000">
                  <a:srgbClr val="52696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451760" y="2828880"/>
              <a:ext cx="992520" cy="10224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374" name=""/>
            <p:cNvGrpSpPr/>
            <p:nvPr/>
          </p:nvGrpSpPr>
          <p:grpSpPr>
            <a:xfrm>
              <a:off x="4466880" y="2844360"/>
              <a:ext cx="961920" cy="992160"/>
              <a:chOff x="4466880" y="2844360"/>
              <a:chExt cx="961920" cy="992160"/>
            </a:xfrm>
          </p:grpSpPr>
          <p:sp>
            <p:nvSpPr>
              <p:cNvPr id="375" name=""/>
              <p:cNvSpPr/>
              <p:nvPr/>
            </p:nvSpPr>
            <p:spPr>
              <a:xfrm>
                <a:off x="4466880" y="2844360"/>
                <a:ext cx="961920" cy="99216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4479120" y="2849760"/>
                <a:ext cx="938880" cy="9676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4488840" y="2859120"/>
                <a:ext cx="892800" cy="90396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4541400" y="2884680"/>
                <a:ext cx="793440" cy="7336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grpSp>
        <p:nvGrpSpPr>
          <p:cNvPr id="379" name=""/>
          <p:cNvGrpSpPr/>
          <p:nvPr/>
        </p:nvGrpSpPr>
        <p:grpSpPr>
          <a:xfrm>
            <a:off x="6688800" y="3595680"/>
            <a:ext cx="1523880" cy="2422080"/>
            <a:chOff x="6688800" y="3595680"/>
            <a:chExt cx="1523880" cy="2422080"/>
          </a:xfrm>
        </p:grpSpPr>
        <p:grpSp>
          <p:nvGrpSpPr>
            <p:cNvPr id="380" name=""/>
            <p:cNvGrpSpPr/>
            <p:nvPr/>
          </p:nvGrpSpPr>
          <p:grpSpPr>
            <a:xfrm>
              <a:off x="6688800" y="3753360"/>
              <a:ext cx="1418760" cy="2264400"/>
              <a:chOff x="6688800" y="3753360"/>
              <a:chExt cx="1418760" cy="2264400"/>
            </a:xfrm>
          </p:grpSpPr>
          <p:sp>
            <p:nvSpPr>
              <p:cNvPr id="381" name="未知"/>
              <p:cNvSpPr/>
              <p:nvPr/>
            </p:nvSpPr>
            <p:spPr>
              <a:xfrm rot="3876600">
                <a:off x="6261120" y="46396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82" name="未知"/>
              <p:cNvSpPr/>
              <p:nvPr/>
            </p:nvSpPr>
            <p:spPr>
              <a:xfrm rot="3876600">
                <a:off x="7627320" y="55180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383" name=""/>
            <p:cNvGrpSpPr/>
            <p:nvPr/>
          </p:nvGrpSpPr>
          <p:grpSpPr>
            <a:xfrm>
              <a:off x="7124040" y="3595680"/>
              <a:ext cx="1088640" cy="1737720"/>
              <a:chOff x="7124040" y="3595680"/>
              <a:chExt cx="1088640" cy="1737720"/>
            </a:xfrm>
          </p:grpSpPr>
          <p:sp>
            <p:nvSpPr>
              <p:cNvPr id="384" name="未知"/>
              <p:cNvSpPr/>
              <p:nvPr/>
            </p:nvSpPr>
            <p:spPr>
              <a:xfrm flipV="1" rot="3876600">
                <a:off x="6795720" y="42757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85" name="未知"/>
              <p:cNvSpPr/>
              <p:nvPr/>
            </p:nvSpPr>
            <p:spPr>
              <a:xfrm flipV="1" rot="3876600">
                <a:off x="7828560" y="495648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386" name=""/>
          <p:cNvSpPr/>
          <p:nvPr/>
        </p:nvSpPr>
        <p:spPr>
          <a:xfrm>
            <a:off x="6089760" y="2541600"/>
            <a:ext cx="1523880" cy="15685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3399ff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089760" y="2541600"/>
            <a:ext cx="1523880" cy="1568520"/>
          </a:xfrm>
          <a:prstGeom prst="ellipse">
            <a:avLst/>
          </a:prstGeom>
          <a:gradFill rotWithShape="0">
            <a:gsLst>
              <a:gs pos="0">
                <a:srgbClr val="000000">
                  <a:alpha val="90196"/>
                </a:srgbClr>
              </a:gs>
              <a:gs pos="100000">
                <a:srgbClr val="3399ff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191280" y="2644920"/>
            <a:ext cx="1324080" cy="1361880"/>
          </a:xfrm>
          <a:prstGeom prst="ellipse">
            <a:avLst/>
          </a:prstGeom>
          <a:gradFill rotWithShape="0">
            <a:gsLst>
              <a:gs pos="0">
                <a:srgbClr val="1b5289"/>
              </a:gs>
              <a:gs pos="50000">
                <a:srgbClr val="3399ff"/>
              </a:gs>
              <a:gs pos="100000">
                <a:srgbClr val="1b528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192720" y="2647800"/>
            <a:ext cx="1324080" cy="1362240"/>
          </a:xfrm>
          <a:prstGeom prst="ellipse">
            <a:avLst/>
          </a:prstGeom>
          <a:gradFill rotWithShape="0">
            <a:gsLst>
              <a:gs pos="0">
                <a:srgbClr val="3399ff">
                  <a:alpha val="0"/>
                </a:srgbClr>
              </a:gs>
              <a:gs pos="100000">
                <a:srgbClr val="2060a1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256440" y="2712960"/>
            <a:ext cx="1191960" cy="12258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6275520" y="2732040"/>
            <a:ext cx="1155600" cy="1189080"/>
            <a:chOff x="6275520" y="2732040"/>
            <a:chExt cx="1155600" cy="1189080"/>
          </a:xfrm>
        </p:grpSpPr>
        <p:sp>
          <p:nvSpPr>
            <p:cNvPr id="392" name=""/>
            <p:cNvSpPr/>
            <p:nvPr/>
          </p:nvSpPr>
          <p:spPr>
            <a:xfrm>
              <a:off x="6275520" y="2732040"/>
              <a:ext cx="1155600" cy="118908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6290280" y="2738520"/>
              <a:ext cx="1127880" cy="11595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6302160" y="2750040"/>
              <a:ext cx="1072440" cy="108360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6364800" y="2780280"/>
              <a:ext cx="953280" cy="8791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96" name=""/>
          <p:cNvGrpSpPr/>
          <p:nvPr/>
        </p:nvGrpSpPr>
        <p:grpSpPr>
          <a:xfrm>
            <a:off x="2916720" y="3529440"/>
            <a:ext cx="1523160" cy="2421720"/>
            <a:chOff x="2916720" y="3529440"/>
            <a:chExt cx="1523160" cy="2421720"/>
          </a:xfrm>
        </p:grpSpPr>
        <p:grpSp>
          <p:nvGrpSpPr>
            <p:cNvPr id="397" name=""/>
            <p:cNvGrpSpPr/>
            <p:nvPr/>
          </p:nvGrpSpPr>
          <p:grpSpPr>
            <a:xfrm>
              <a:off x="2916720" y="3686760"/>
              <a:ext cx="1418400" cy="2264400"/>
              <a:chOff x="2916720" y="3686760"/>
              <a:chExt cx="1418400" cy="2264400"/>
            </a:xfrm>
          </p:grpSpPr>
          <p:sp>
            <p:nvSpPr>
              <p:cNvPr id="398" name="未知"/>
              <p:cNvSpPr/>
              <p:nvPr/>
            </p:nvSpPr>
            <p:spPr>
              <a:xfrm rot="3876600">
                <a:off x="2489040" y="4573080"/>
                <a:ext cx="2273400" cy="4910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99" name="未知"/>
              <p:cNvSpPr/>
              <p:nvPr/>
            </p:nvSpPr>
            <p:spPr>
              <a:xfrm rot="3876600">
                <a:off x="385488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00" name=""/>
            <p:cNvGrpSpPr/>
            <p:nvPr/>
          </p:nvGrpSpPr>
          <p:grpSpPr>
            <a:xfrm>
              <a:off x="3351600" y="3529440"/>
              <a:ext cx="1088280" cy="1737360"/>
              <a:chOff x="3351600" y="3529440"/>
              <a:chExt cx="1088280" cy="1737360"/>
            </a:xfrm>
          </p:grpSpPr>
          <p:sp>
            <p:nvSpPr>
              <p:cNvPr id="401" name="未知"/>
              <p:cNvSpPr/>
              <p:nvPr/>
            </p:nvSpPr>
            <p:spPr>
              <a:xfrm flipV="1" rot="3876600">
                <a:off x="3023280" y="4209840"/>
                <a:ext cx="1744560" cy="37656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02" name="未知"/>
              <p:cNvSpPr/>
              <p:nvPr/>
            </p:nvSpPr>
            <p:spPr>
              <a:xfrm flipV="1" rot="3876600">
                <a:off x="4056120" y="4889880"/>
                <a:ext cx="273960" cy="30816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grpSp>
        <p:nvGrpSpPr>
          <p:cNvPr id="403" name=""/>
          <p:cNvGrpSpPr/>
          <p:nvPr/>
        </p:nvGrpSpPr>
        <p:grpSpPr>
          <a:xfrm>
            <a:off x="2509920" y="2685960"/>
            <a:ext cx="1268280" cy="1308240"/>
            <a:chOff x="2509920" y="2685960"/>
            <a:chExt cx="1268280" cy="1308240"/>
          </a:xfrm>
        </p:grpSpPr>
        <p:sp>
          <p:nvSpPr>
            <p:cNvPr id="404" name=""/>
            <p:cNvSpPr/>
            <p:nvPr/>
          </p:nvSpPr>
          <p:spPr>
            <a:xfrm>
              <a:off x="25099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83a6a7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099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83a6a7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593800" y="2770920"/>
              <a:ext cx="1100160" cy="1136520"/>
            </a:xfrm>
            <a:prstGeom prst="ellipse">
              <a:avLst/>
            </a:prstGeom>
            <a:gradFill rotWithShape="0">
              <a:gsLst>
                <a:gs pos="0">
                  <a:srgbClr val="46595a"/>
                </a:gs>
                <a:gs pos="50000">
                  <a:srgbClr val="83a6a7"/>
                </a:gs>
                <a:gs pos="100000">
                  <a:srgbClr val="46595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593800" y="2773800"/>
              <a:ext cx="1100160" cy="113652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0"/>
                  </a:srgbClr>
                </a:gs>
                <a:gs pos="100000">
                  <a:srgbClr val="52696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648160" y="2828880"/>
              <a:ext cx="991080" cy="10224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409" name=""/>
            <p:cNvGrpSpPr/>
            <p:nvPr/>
          </p:nvGrpSpPr>
          <p:grpSpPr>
            <a:xfrm>
              <a:off x="2663640" y="2844360"/>
              <a:ext cx="960480" cy="992160"/>
              <a:chOff x="2663640" y="2844360"/>
              <a:chExt cx="960480" cy="992160"/>
            </a:xfrm>
          </p:grpSpPr>
          <p:sp>
            <p:nvSpPr>
              <p:cNvPr id="410" name=""/>
              <p:cNvSpPr/>
              <p:nvPr/>
            </p:nvSpPr>
            <p:spPr>
              <a:xfrm>
                <a:off x="2663640" y="2844360"/>
                <a:ext cx="960480" cy="99216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2675880" y="2849760"/>
                <a:ext cx="937440" cy="9676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2685600" y="2859120"/>
                <a:ext cx="891360" cy="90396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2737800" y="2884680"/>
                <a:ext cx="792360" cy="7336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grpSp>
        <p:nvGrpSpPr>
          <p:cNvPr id="414" name=""/>
          <p:cNvGrpSpPr/>
          <p:nvPr/>
        </p:nvGrpSpPr>
        <p:grpSpPr>
          <a:xfrm>
            <a:off x="1170720" y="3529080"/>
            <a:ext cx="1523880" cy="2422080"/>
            <a:chOff x="1170720" y="3529080"/>
            <a:chExt cx="1523880" cy="2422080"/>
          </a:xfrm>
        </p:grpSpPr>
        <p:grpSp>
          <p:nvGrpSpPr>
            <p:cNvPr id="415" name=""/>
            <p:cNvGrpSpPr/>
            <p:nvPr/>
          </p:nvGrpSpPr>
          <p:grpSpPr>
            <a:xfrm>
              <a:off x="1170720" y="3686760"/>
              <a:ext cx="1418760" cy="2264400"/>
              <a:chOff x="1170720" y="3686760"/>
              <a:chExt cx="1418760" cy="2264400"/>
            </a:xfrm>
          </p:grpSpPr>
          <p:sp>
            <p:nvSpPr>
              <p:cNvPr id="416" name="未知"/>
              <p:cNvSpPr/>
              <p:nvPr/>
            </p:nvSpPr>
            <p:spPr>
              <a:xfrm rot="3876600">
                <a:off x="743040" y="45730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17" name="未知"/>
              <p:cNvSpPr/>
              <p:nvPr/>
            </p:nvSpPr>
            <p:spPr>
              <a:xfrm rot="3876600">
                <a:off x="210924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18" name=""/>
            <p:cNvGrpSpPr/>
            <p:nvPr/>
          </p:nvGrpSpPr>
          <p:grpSpPr>
            <a:xfrm>
              <a:off x="1605960" y="3529080"/>
              <a:ext cx="1088640" cy="1737720"/>
              <a:chOff x="1605960" y="3529080"/>
              <a:chExt cx="1088640" cy="1737720"/>
            </a:xfrm>
          </p:grpSpPr>
          <p:sp>
            <p:nvSpPr>
              <p:cNvPr id="419" name="未知"/>
              <p:cNvSpPr/>
              <p:nvPr/>
            </p:nvSpPr>
            <p:spPr>
              <a:xfrm flipV="1" rot="3876600">
                <a:off x="1277640" y="42091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20" name="未知"/>
              <p:cNvSpPr/>
              <p:nvPr/>
            </p:nvSpPr>
            <p:spPr>
              <a:xfrm flipV="1" rot="3876600">
                <a:off x="2310480" y="488988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grpSp>
        <p:nvGrpSpPr>
          <p:cNvPr id="421" name=""/>
          <p:cNvGrpSpPr/>
          <p:nvPr/>
        </p:nvGrpSpPr>
        <p:grpSpPr>
          <a:xfrm>
            <a:off x="762120" y="2685960"/>
            <a:ext cx="1268280" cy="1308240"/>
            <a:chOff x="762120" y="2685960"/>
            <a:chExt cx="1268280" cy="1308240"/>
          </a:xfrm>
        </p:grpSpPr>
        <p:sp>
          <p:nvSpPr>
            <p:cNvPr id="422" name=""/>
            <p:cNvSpPr/>
            <p:nvPr/>
          </p:nvSpPr>
          <p:spPr>
            <a:xfrm>
              <a:off x="7621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83a6a7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7621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83a6a7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846000" y="2770920"/>
              <a:ext cx="1100160" cy="1136520"/>
            </a:xfrm>
            <a:prstGeom prst="ellipse">
              <a:avLst/>
            </a:prstGeom>
            <a:gradFill rotWithShape="0">
              <a:gsLst>
                <a:gs pos="0">
                  <a:srgbClr val="46595a"/>
                </a:gs>
                <a:gs pos="50000">
                  <a:srgbClr val="83a6a7"/>
                </a:gs>
                <a:gs pos="100000">
                  <a:srgbClr val="46595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846000" y="2773800"/>
              <a:ext cx="1100160" cy="113652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0"/>
                  </a:srgbClr>
                </a:gs>
                <a:gs pos="100000">
                  <a:srgbClr val="52696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900360" y="2828880"/>
              <a:ext cx="991080" cy="10224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427" name=""/>
            <p:cNvGrpSpPr/>
            <p:nvPr/>
          </p:nvGrpSpPr>
          <p:grpSpPr>
            <a:xfrm>
              <a:off x="915840" y="2844360"/>
              <a:ext cx="960480" cy="992160"/>
              <a:chOff x="915840" y="2844360"/>
              <a:chExt cx="960480" cy="992160"/>
            </a:xfrm>
          </p:grpSpPr>
          <p:sp>
            <p:nvSpPr>
              <p:cNvPr id="428" name=""/>
              <p:cNvSpPr/>
              <p:nvPr/>
            </p:nvSpPr>
            <p:spPr>
              <a:xfrm>
                <a:off x="915840" y="2844360"/>
                <a:ext cx="960480" cy="99216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928080" y="2849760"/>
                <a:ext cx="937440" cy="9676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937800" y="2859120"/>
                <a:ext cx="891360" cy="90396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990000" y="2884680"/>
                <a:ext cx="792360" cy="7336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432" name=""/>
          <p:cNvSpPr/>
          <p:nvPr/>
        </p:nvSpPr>
        <p:spPr>
          <a:xfrm rot="3925800">
            <a:off x="112680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 rot="3925800">
            <a:off x="159120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 rot="3925800">
            <a:off x="286812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 rot="3925800">
            <a:off x="333288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 rot="3925800">
            <a:off x="468108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 rot="3925800">
            <a:off x="514548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 rot="3925800">
            <a:off x="6633720" y="464436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 rot="3925800">
            <a:off x="7096680" y="436860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440" name=""/>
          <p:cNvGrpSpPr/>
          <p:nvPr/>
        </p:nvGrpSpPr>
        <p:grpSpPr>
          <a:xfrm>
            <a:off x="1101600" y="1828800"/>
            <a:ext cx="6056640" cy="407880"/>
            <a:chOff x="1101600" y="1828800"/>
            <a:chExt cx="6056640" cy="407880"/>
          </a:xfrm>
        </p:grpSpPr>
        <p:sp>
          <p:nvSpPr>
            <p:cNvPr id="441" name=""/>
            <p:cNvSpPr/>
            <p:nvPr/>
          </p:nvSpPr>
          <p:spPr>
            <a:xfrm>
              <a:off x="110160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9190b"/>
                  </a:solidFill>
                  <a:latin typeface="Verdana"/>
                </a:rPr>
                <a:t>2001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285588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9190b"/>
                  </a:solidFill>
                  <a:latin typeface="Verdana"/>
                </a:rPr>
                <a:t>2002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460188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9190b"/>
                  </a:solidFill>
                  <a:latin typeface="Verdana"/>
                </a:rPr>
                <a:t>2003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6392160" y="1828800"/>
              <a:ext cx="76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190b"/>
                  </a:solidFill>
                  <a:latin typeface="Verdana"/>
                </a:rPr>
                <a:t>2004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cxnSp>
          <p:nvCxnSpPr>
            <p:cNvPr id="445" name=""/>
            <p:cNvCxnSpPr>
              <a:stCxn id="441" idx="3"/>
              <a:endCxn id="442" idx="1"/>
            </p:cNvCxnSpPr>
            <p:nvPr/>
          </p:nvCxnSpPr>
          <p:spPr>
            <a:xfrm>
              <a:off x="1837800" y="2052360"/>
              <a:ext cx="986760" cy="1080"/>
            </a:xfrm>
            <a:prstGeom prst="straightConnector1">
              <a:avLst/>
            </a:prstGeom>
            <a:ln w="9360">
              <a:solidFill>
                <a:srgbClr val="99190b"/>
              </a:solidFill>
              <a:miter/>
              <a:tailEnd len="med" type="triangle" w="med"/>
            </a:ln>
          </p:spPr>
        </p:cxnSp>
        <p:cxnSp>
          <p:nvCxnSpPr>
            <p:cNvPr id="446" name=""/>
            <p:cNvCxnSpPr>
              <a:stCxn id="442" idx="3"/>
              <a:endCxn id="443" idx="1"/>
            </p:cNvCxnSpPr>
            <p:nvPr/>
          </p:nvCxnSpPr>
          <p:spPr>
            <a:xfrm>
              <a:off x="3592440" y="2052360"/>
              <a:ext cx="978480" cy="1080"/>
            </a:xfrm>
            <a:prstGeom prst="straightConnector1">
              <a:avLst/>
            </a:prstGeom>
            <a:ln w="9360">
              <a:solidFill>
                <a:srgbClr val="99190b"/>
              </a:solidFill>
              <a:miter/>
              <a:tailEnd len="med" type="triangle" w="med"/>
            </a:ln>
          </p:spPr>
        </p:cxnSp>
        <p:cxnSp>
          <p:nvCxnSpPr>
            <p:cNvPr id="447" name=""/>
            <p:cNvCxnSpPr/>
            <p:nvPr/>
          </p:nvCxnSpPr>
          <p:spPr>
            <a:xfrm>
              <a:off x="5338800" y="2057040"/>
              <a:ext cx="978480" cy="1080"/>
            </a:xfrm>
            <a:prstGeom prst="straightConnector1">
              <a:avLst/>
            </a:prstGeom>
            <a:ln w="9360">
              <a:solidFill>
                <a:srgbClr val="99190b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1523880" y="1752480"/>
            <a:ext cx="1752480" cy="4267080"/>
            <a:chOff x="1523880" y="1752480"/>
            <a:chExt cx="1752480" cy="4267080"/>
          </a:xfrm>
        </p:grpSpPr>
        <p:sp>
          <p:nvSpPr>
            <p:cNvPr id="450" name=""/>
            <p:cNvSpPr/>
            <p:nvPr/>
          </p:nvSpPr>
          <p:spPr>
            <a:xfrm>
              <a:off x="1600200" y="3352680"/>
              <a:ext cx="1600200" cy="2666880"/>
            </a:xfrm>
            <a:custGeom>
              <a:avLst/>
              <a:gdLst>
                <a:gd name="textAreaLeft" fmla="*/ 37080 w 1600200"/>
                <a:gd name="textAreaRight" fmla="*/ 1563120 w 1600200"/>
                <a:gd name="textAreaTop" fmla="*/ 37080 h 2666880"/>
                <a:gd name="textAreaBottom" fmla="*/ 2629800 h 2666880"/>
              </a:gdLst>
              <a:ahLst/>
              <a:rect l="textAreaLeft" t="textAreaTop" r="textAreaRight" b="textAreaBottom"/>
              <a:pathLst>
                <a:path w="21600" h="35995">
                  <a:moveTo>
                    <a:pt x="1714" y="0"/>
                  </a:moveTo>
                  <a:arcTo wR="1714" hR="1714" stAng="16200000" swAng="-5400000"/>
                  <a:lnTo>
                    <a:pt x="0" y="34281"/>
                  </a:lnTo>
                  <a:arcTo wR="1714" hR="1714" stAng="10800000" swAng="-5400000"/>
                  <a:lnTo>
                    <a:pt x="19886" y="35995"/>
                  </a:lnTo>
                  <a:arcTo wR="1714" hR="1714" stAng="5400000" swAng="-5400000"/>
                  <a:lnTo>
                    <a:pt x="21600" y="1714"/>
                  </a:lnTo>
                  <a:arcTo wR="1714" hR="1714" stAng="0" swAng="-5400000"/>
                  <a:close/>
                </a:path>
              </a:pathLst>
            </a:custGeom>
            <a:gradFill rotWithShape="0">
              <a:gsLst>
                <a:gs pos="0">
                  <a:srgbClr val="784b01"/>
                </a:gs>
                <a:gs pos="100000">
                  <a:srgbClr val="d28302"/>
                </a:gs>
              </a:gsLst>
              <a:lin ang="5400000"/>
            </a:gradFill>
            <a:ln w="0">
              <a:noFill/>
            </a:ln>
            <a:effectLst>
              <a:outerShdw dist="153753" dir="2700000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1817640" y="4038480"/>
              <a:ext cx="1145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dd Your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 her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1523880" y="1752480"/>
              <a:ext cx="1752480" cy="2057400"/>
            </a:xfrm>
            <a:custGeom>
              <a:avLst/>
              <a:gdLst>
                <a:gd name="textAreaLeft" fmla="*/ 89640 w 1752480"/>
                <a:gd name="textAreaRight" fmla="*/ 1662840 w 1752480"/>
                <a:gd name="textAreaTop" fmla="*/ 89640 h 2057400"/>
                <a:gd name="textAreaBottom" fmla="*/ 1967760 h 2057400"/>
              </a:gdLst>
              <a:ahLst/>
              <a:rect l="textAreaLeft" t="textAreaTop" r="textAreaRight" b="textAreaBottom"/>
              <a:pathLst>
                <a:path w="21600" h="25357">
                  <a:moveTo>
                    <a:pt x="3782" y="0"/>
                  </a:moveTo>
                  <a:arcTo wR="3782" hR="3782" stAng="16200000" swAng="-5400000"/>
                  <a:lnTo>
                    <a:pt x="0" y="21575"/>
                  </a:lnTo>
                  <a:arcTo wR="3782" hR="3782" stAng="10800000" swAng="-5400000"/>
                  <a:lnTo>
                    <a:pt x="17818" y="25357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solidFill>
              <a:srgbClr val="d28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1565280" y="3244680"/>
              <a:ext cx="1676160" cy="51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28302"/>
                </a:gs>
                <a:gs pos="100000">
                  <a:srgbClr val="e8c18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1565280" y="1774800"/>
              <a:ext cx="1676160" cy="509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dd0a2"/>
                </a:gs>
                <a:gs pos="100000">
                  <a:srgbClr val="d2830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1982880" y="2087280"/>
              <a:ext cx="808560" cy="10692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40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itle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 flipV="1">
              <a:off x="1709640" y="5685480"/>
              <a:ext cx="1371600" cy="2286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28302"/>
                </a:gs>
                <a:gs pos="100000">
                  <a:srgbClr val="e5ba7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457" name=""/>
          <p:cNvGrpSpPr/>
          <p:nvPr/>
        </p:nvGrpSpPr>
        <p:grpSpPr>
          <a:xfrm>
            <a:off x="6059520" y="2438280"/>
            <a:ext cx="1712880" cy="3581280"/>
            <a:chOff x="6059520" y="2438280"/>
            <a:chExt cx="1712880" cy="3581280"/>
          </a:xfrm>
        </p:grpSpPr>
        <p:sp>
          <p:nvSpPr>
            <p:cNvPr id="458" name=""/>
            <p:cNvSpPr/>
            <p:nvPr/>
          </p:nvSpPr>
          <p:spPr>
            <a:xfrm>
              <a:off x="6121440" y="3809880"/>
              <a:ext cx="1600200" cy="2209680"/>
            </a:xfrm>
            <a:custGeom>
              <a:avLst/>
              <a:gdLst>
                <a:gd name="textAreaLeft" fmla="*/ 37080 w 1600200"/>
                <a:gd name="textAreaRight" fmla="*/ 1563120 w 1600200"/>
                <a:gd name="textAreaTop" fmla="*/ 37080 h 2209680"/>
                <a:gd name="textAreaBottom" fmla="*/ 2172600 h 2209680"/>
              </a:gdLst>
              <a:ahLst/>
              <a:rect l="textAreaLeft" t="textAreaTop" r="textAreaRight" b="textAreaBottom"/>
              <a:pathLst>
                <a:path w="21600" h="29825">
                  <a:moveTo>
                    <a:pt x="1714" y="0"/>
                  </a:moveTo>
                  <a:arcTo wR="1714" hR="1714" stAng="16200000" swAng="-5400000"/>
                  <a:lnTo>
                    <a:pt x="0" y="28111"/>
                  </a:lnTo>
                  <a:arcTo wR="1714" hR="1714" stAng="10800000" swAng="-5400000"/>
                  <a:lnTo>
                    <a:pt x="19886" y="29825"/>
                  </a:lnTo>
                  <a:arcTo wR="1714" hR="1714" stAng="5400000" swAng="-5400000"/>
                  <a:lnTo>
                    <a:pt x="21600" y="1714"/>
                  </a:lnTo>
                  <a:arcTo wR="1714" hR="1714" stAng="0" swAng="-5400000"/>
                  <a:close/>
                </a:path>
              </a:pathLst>
            </a:custGeom>
            <a:gradFill rotWithShape="0">
              <a:gsLst>
                <a:gs pos="0">
                  <a:srgbClr val="454f53"/>
                </a:gs>
                <a:gs pos="100000">
                  <a:srgbClr val="97adb5"/>
                </a:gs>
              </a:gsLst>
              <a:lin ang="5400000"/>
            </a:gradFill>
            <a:ln w="0">
              <a:noFill/>
            </a:ln>
            <a:effectLst>
              <a:outerShdw dist="153753" dir="2700000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6339240" y="4464000"/>
              <a:ext cx="1145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dd Your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 her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460" name=""/>
            <p:cNvGrpSpPr/>
            <p:nvPr/>
          </p:nvGrpSpPr>
          <p:grpSpPr>
            <a:xfrm>
              <a:off x="6059520" y="2438280"/>
              <a:ext cx="1712880" cy="1901880"/>
              <a:chOff x="6059520" y="2438280"/>
              <a:chExt cx="1712880" cy="1901880"/>
            </a:xfrm>
          </p:grpSpPr>
          <p:sp>
            <p:nvSpPr>
              <p:cNvPr id="461" name=""/>
              <p:cNvSpPr/>
              <p:nvPr/>
            </p:nvSpPr>
            <p:spPr>
              <a:xfrm>
                <a:off x="6059520" y="2438280"/>
                <a:ext cx="1712880" cy="1901880"/>
              </a:xfrm>
              <a:custGeom>
                <a:avLst/>
                <a:gdLst>
                  <a:gd name="textAreaLeft" fmla="*/ 87840 w 1712880"/>
                  <a:gd name="textAreaRight" fmla="*/ 1625040 w 1712880"/>
                  <a:gd name="textAreaTop" fmla="*/ 87840 h 1901880"/>
                  <a:gd name="textAreaBottom" fmla="*/ 1814040 h 1901880"/>
                </a:gdLst>
                <a:ahLst/>
                <a:rect l="textAreaLeft" t="textAreaTop" r="textAreaRight" b="textAreaBottom"/>
                <a:pathLst>
                  <a:path w="21600" h="23983">
                    <a:moveTo>
                      <a:pt x="3782" y="0"/>
                    </a:moveTo>
                    <a:arcTo wR="3782" hR="3782" stAng="16200000" swAng="-5400000"/>
                    <a:lnTo>
                      <a:pt x="0" y="20201"/>
                    </a:lnTo>
                    <a:arcTo wR="3782" hR="3782" stAng="10800000" swAng="-5400000"/>
                    <a:lnTo>
                      <a:pt x="17818" y="23983"/>
                    </a:lnTo>
                    <a:arcTo wR="3782" hR="3782" stAng="5400000" swAng="-5400000"/>
                    <a:lnTo>
                      <a:pt x="21600" y="3782"/>
                    </a:lnTo>
                    <a:arcTo wR="3782" hR="3782" stAng="0" swAng="-5400000"/>
                    <a:close/>
                  </a:path>
                </a:pathLst>
              </a:custGeom>
              <a:solidFill>
                <a:srgbClr val="97ad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6099480" y="3817080"/>
                <a:ext cx="1638720" cy="4719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97adb5"/>
                  </a:gs>
                  <a:gs pos="100000">
                    <a:srgbClr val="d2dbd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6099480" y="2458080"/>
                <a:ext cx="1638720" cy="471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d2dbde"/>
                  </a:gs>
                  <a:gs pos="100000">
                    <a:srgbClr val="97adb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464" name=""/>
            <p:cNvSpPr/>
            <p:nvPr/>
          </p:nvSpPr>
          <p:spPr>
            <a:xfrm>
              <a:off x="6555240" y="2895480"/>
              <a:ext cx="808560" cy="10692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40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itle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6248520" y="5714280"/>
              <a:ext cx="1371600" cy="2286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7adb5"/>
                </a:gs>
                <a:gs pos="100000">
                  <a:srgbClr val="ebef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466" name=""/>
          <p:cNvGrpSpPr/>
          <p:nvPr/>
        </p:nvGrpSpPr>
        <p:grpSpPr>
          <a:xfrm>
            <a:off x="3835440" y="2057400"/>
            <a:ext cx="1727280" cy="3962520"/>
            <a:chOff x="3835440" y="2057400"/>
            <a:chExt cx="1727280" cy="3962520"/>
          </a:xfrm>
        </p:grpSpPr>
        <p:sp>
          <p:nvSpPr>
            <p:cNvPr id="467" name=""/>
            <p:cNvSpPr/>
            <p:nvPr/>
          </p:nvSpPr>
          <p:spPr>
            <a:xfrm>
              <a:off x="3911760" y="3657600"/>
              <a:ext cx="1600200" cy="2362320"/>
            </a:xfrm>
            <a:custGeom>
              <a:avLst/>
              <a:gdLst>
                <a:gd name="textAreaLeft" fmla="*/ 37080 w 1600200"/>
                <a:gd name="textAreaRight" fmla="*/ 1563120 w 1600200"/>
                <a:gd name="textAreaTop" fmla="*/ 37080 h 2362320"/>
                <a:gd name="textAreaBottom" fmla="*/ 2325240 h 2362320"/>
              </a:gdLst>
              <a:ahLst/>
              <a:rect l="textAreaLeft" t="textAreaTop" r="textAreaRight" b="textAreaBottom"/>
              <a:pathLst>
                <a:path w="21600" h="31885">
                  <a:moveTo>
                    <a:pt x="1714" y="0"/>
                  </a:moveTo>
                  <a:arcTo wR="1714" hR="1714" stAng="16200000" swAng="-5400000"/>
                  <a:lnTo>
                    <a:pt x="0" y="30171"/>
                  </a:lnTo>
                  <a:arcTo wR="1714" hR="1714" stAng="10800000" swAng="-5400000"/>
                  <a:lnTo>
                    <a:pt x="19886" y="31885"/>
                  </a:lnTo>
                  <a:arcTo wR="1714" hR="1714" stAng="5400000" swAng="-5400000"/>
                  <a:lnTo>
                    <a:pt x="21600" y="1714"/>
                  </a:lnTo>
                  <a:arcTo wR="1714" hR="1714" stAng="0" swAng="-5400000"/>
                  <a:close/>
                </a:path>
              </a:pathLst>
            </a:custGeom>
            <a:gradFill rotWithShape="0">
              <a:gsLst>
                <a:gs pos="0">
                  <a:srgbClr val="246031"/>
                </a:gs>
                <a:gs pos="100000">
                  <a:srgbClr val="3ca05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468" name=""/>
            <p:cNvGrpSpPr/>
            <p:nvPr/>
          </p:nvGrpSpPr>
          <p:grpSpPr>
            <a:xfrm>
              <a:off x="3835440" y="2057400"/>
              <a:ext cx="1727280" cy="1981080"/>
              <a:chOff x="3835440" y="2057400"/>
              <a:chExt cx="1727280" cy="1981080"/>
            </a:xfrm>
          </p:grpSpPr>
          <p:sp>
            <p:nvSpPr>
              <p:cNvPr id="469" name=""/>
              <p:cNvSpPr/>
              <p:nvPr/>
            </p:nvSpPr>
            <p:spPr>
              <a:xfrm>
                <a:off x="3835440" y="2057400"/>
                <a:ext cx="1727280" cy="1981080"/>
              </a:xfrm>
              <a:custGeom>
                <a:avLst/>
                <a:gdLst>
                  <a:gd name="textAreaLeft" fmla="*/ 88560 w 1727280"/>
                  <a:gd name="textAreaRight" fmla="*/ 1638720 w 1727280"/>
                  <a:gd name="textAreaTop" fmla="*/ 88560 h 1981080"/>
                  <a:gd name="textAreaBottom" fmla="*/ 1892520 h 1981080"/>
                </a:gdLst>
                <a:ahLst/>
                <a:rect l="textAreaLeft" t="textAreaTop" r="textAreaRight" b="textAreaBottom"/>
                <a:pathLst>
                  <a:path w="21600" h="24773">
                    <a:moveTo>
                      <a:pt x="3782" y="0"/>
                    </a:moveTo>
                    <a:arcTo wR="3782" hR="3782" stAng="16200000" swAng="-5400000"/>
                    <a:lnTo>
                      <a:pt x="0" y="20991"/>
                    </a:lnTo>
                    <a:arcTo wR="3782" hR="3782" stAng="10800000" swAng="-5400000"/>
                    <a:lnTo>
                      <a:pt x="17818" y="24773"/>
                    </a:lnTo>
                    <a:arcTo wR="3782" hR="3782" stAng="5400000" swAng="-5400000"/>
                    <a:lnTo>
                      <a:pt x="21600" y="3782"/>
                    </a:lnTo>
                    <a:arcTo wR="3782" hR="3782" stAng="0" swAng="-5400000"/>
                    <a:close/>
                  </a:path>
                </a:pathLst>
              </a:custGeom>
              <a:solidFill>
                <a:srgbClr val="3ca0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3875760" y="3495960"/>
                <a:ext cx="1652400" cy="4917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3ca051"/>
                  </a:gs>
                  <a:gs pos="100000">
                    <a:srgbClr val="cee6d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3875760" y="2080440"/>
                <a:ext cx="1652400" cy="4906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cee6d3"/>
                  </a:gs>
                  <a:gs pos="100000">
                    <a:srgbClr val="3ca05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472" name=""/>
            <p:cNvSpPr/>
            <p:nvPr/>
          </p:nvSpPr>
          <p:spPr>
            <a:xfrm>
              <a:off x="4129200" y="4267080"/>
              <a:ext cx="1145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dd Your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 her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294440" y="2514600"/>
              <a:ext cx="808560" cy="10692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endParaRPr b="0" lang="en-US" sz="40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itle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 flipV="1">
              <a:off x="4038480" y="5714280"/>
              <a:ext cx="1371600" cy="2286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051"/>
                </a:gs>
                <a:gs pos="100000">
                  <a:srgbClr val="daecd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475" name=""/>
          <p:cNvSpPr/>
          <p:nvPr/>
        </p:nvSpPr>
        <p:spPr>
          <a:xfrm>
            <a:off x="7087320" y="624852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Block 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7" name=""/>
          <p:cNvSpPr/>
          <p:nvPr/>
        </p:nvSpPr>
        <p:spPr>
          <a:xfrm>
            <a:off x="6151680" y="3433680"/>
            <a:ext cx="1620720" cy="2738520"/>
          </a:xfrm>
          <a:custGeom>
            <a:avLst/>
            <a:gdLst>
              <a:gd name="textAreaLeft" fmla="*/ 65160 w 1620720"/>
              <a:gd name="textAreaRight" fmla="*/ 1555560 w 162072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94">
                <a:moveTo>
                  <a:pt x="2969" y="0"/>
                </a:moveTo>
                <a:arcTo wR="2969" hR="2969" stAng="16200000" swAng="-5400000"/>
                <a:lnTo>
                  <a:pt x="0" y="33525"/>
                </a:lnTo>
                <a:arcTo wR="2969" hR="2969" stAng="10800000" swAng="-5400000"/>
                <a:lnTo>
                  <a:pt x="18631" y="3649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4456080" y="3433680"/>
            <a:ext cx="1611360" cy="2738520"/>
          </a:xfrm>
          <a:custGeom>
            <a:avLst/>
            <a:gdLst>
              <a:gd name="textAreaLeft" fmla="*/ 64800 w 1611360"/>
              <a:gd name="textAreaRight" fmla="*/ 1546560 w 1611360"/>
              <a:gd name="textAreaTop" fmla="*/ 64800 h 2738520"/>
              <a:gd name="textAreaBottom" fmla="*/ 2673720 h 2738520"/>
            </a:gdLst>
            <a:ahLst/>
            <a:rect l="textAreaLeft" t="textAreaTop" r="textAreaRight" b="textAreaBottom"/>
            <a:pathLst>
              <a:path w="21600" h="36706">
                <a:moveTo>
                  <a:pt x="2969" y="0"/>
                </a:moveTo>
                <a:arcTo wR="2969" hR="2969" stAng="16200000" swAng="-5400000"/>
                <a:lnTo>
                  <a:pt x="0" y="33737"/>
                </a:lnTo>
                <a:arcTo wR="2969" hR="2969" stAng="10800000" swAng="-5400000"/>
                <a:lnTo>
                  <a:pt x="18631" y="3670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773440" y="3433680"/>
            <a:ext cx="1563480" cy="2738520"/>
          </a:xfrm>
          <a:custGeom>
            <a:avLst/>
            <a:gdLst>
              <a:gd name="textAreaLeft" fmla="*/ 62640 w 1563480"/>
              <a:gd name="textAreaRight" fmla="*/ 1500840 w 1563480"/>
              <a:gd name="textAreaTop" fmla="*/ 62640 h 2738520"/>
              <a:gd name="textAreaBottom" fmla="*/ 2675880 h 2738520"/>
            </a:gdLst>
            <a:ahLst/>
            <a:rect l="textAreaLeft" t="textAreaTop" r="textAreaRight" b="textAreaBottom"/>
            <a:pathLst>
              <a:path w="21600" h="37830">
                <a:moveTo>
                  <a:pt x="2969" y="0"/>
                </a:moveTo>
                <a:arcTo wR="2969" hR="2969" stAng="16200000" swAng="-5400000"/>
                <a:lnTo>
                  <a:pt x="0" y="34861"/>
                </a:lnTo>
                <a:arcTo wR="2969" hR="2969" stAng="10800000" swAng="-5400000"/>
                <a:lnTo>
                  <a:pt x="18631" y="37830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1066680" y="3433680"/>
            <a:ext cx="1621080" cy="2738520"/>
          </a:xfrm>
          <a:custGeom>
            <a:avLst/>
            <a:gdLst>
              <a:gd name="textAreaLeft" fmla="*/ 65160 w 1621080"/>
              <a:gd name="textAreaRight" fmla="*/ 1555920 w 162108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86">
                <a:moveTo>
                  <a:pt x="2969" y="0"/>
                </a:moveTo>
                <a:arcTo wR="2969" hR="2969" stAng="16200000" swAng="-5400000"/>
                <a:lnTo>
                  <a:pt x="0" y="33517"/>
                </a:lnTo>
                <a:arcTo wR="2969" hR="2969" stAng="10800000" swAng="-5400000"/>
                <a:lnTo>
                  <a:pt x="18631" y="3648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481" name=""/>
          <p:cNvGrpSpPr/>
          <p:nvPr/>
        </p:nvGrpSpPr>
        <p:grpSpPr>
          <a:xfrm>
            <a:off x="1127520" y="1863360"/>
            <a:ext cx="6215400" cy="1324800"/>
            <a:chOff x="1127520" y="1863360"/>
            <a:chExt cx="6215400" cy="1324800"/>
          </a:xfrm>
        </p:grpSpPr>
        <p:sp>
          <p:nvSpPr>
            <p:cNvPr id="482" name=""/>
            <p:cNvSpPr/>
            <p:nvPr/>
          </p:nvSpPr>
          <p:spPr>
            <a:xfrm rot="3418800">
              <a:off x="1335240" y="2071440"/>
              <a:ext cx="874080" cy="970920"/>
            </a:xfrm>
            <a:prstGeom prst="rect">
              <a:avLst/>
            </a:prstGeom>
            <a:gradFill rotWithShape="0">
              <a:gsLst>
                <a:gs pos="0">
                  <a:srgbClr val="3ca051"/>
                </a:gs>
                <a:gs pos="100000">
                  <a:srgbClr val="1b4925"/>
                </a:gs>
              </a:gsLst>
              <a:lin ang="1980000"/>
            </a:gra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483" name=""/>
            <p:cNvGrpSpPr/>
            <p:nvPr/>
          </p:nvGrpSpPr>
          <p:grpSpPr>
            <a:xfrm>
              <a:off x="2258280" y="2244600"/>
              <a:ext cx="901080" cy="124200"/>
              <a:chOff x="2258280" y="2244600"/>
              <a:chExt cx="901080" cy="124200"/>
            </a:xfrm>
          </p:grpSpPr>
          <p:sp>
            <p:nvSpPr>
              <p:cNvPr id="484" name=""/>
              <p:cNvSpPr/>
              <p:nvPr/>
            </p:nvSpPr>
            <p:spPr>
              <a:xfrm>
                <a:off x="2258280" y="224460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2344680" y="2245320"/>
                <a:ext cx="747360" cy="1234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3022920" y="2246400"/>
                <a:ext cx="136440" cy="1195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3096000" y="2285280"/>
                <a:ext cx="38160" cy="349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488" name=""/>
            <p:cNvSpPr/>
            <p:nvPr/>
          </p:nvSpPr>
          <p:spPr>
            <a:xfrm rot="3418800">
              <a:off x="2999880" y="2009160"/>
              <a:ext cx="874080" cy="970920"/>
            </a:xfrm>
            <a:prstGeom prst="rect">
              <a:avLst/>
            </a:prstGeom>
            <a:solidFill>
              <a:srgbClr val="1f63ad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489" name=""/>
            <p:cNvGrpSpPr/>
            <p:nvPr/>
          </p:nvGrpSpPr>
          <p:grpSpPr>
            <a:xfrm>
              <a:off x="3922920" y="2244600"/>
              <a:ext cx="901080" cy="124200"/>
              <a:chOff x="3922920" y="2244600"/>
              <a:chExt cx="901080" cy="124200"/>
            </a:xfrm>
          </p:grpSpPr>
          <p:sp>
            <p:nvSpPr>
              <p:cNvPr id="490" name=""/>
              <p:cNvSpPr/>
              <p:nvPr/>
            </p:nvSpPr>
            <p:spPr>
              <a:xfrm>
                <a:off x="3922920" y="224460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4009320" y="2245320"/>
                <a:ext cx="747360" cy="1234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4687560" y="2246400"/>
                <a:ext cx="136440" cy="1195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4760640" y="2285280"/>
                <a:ext cx="38160" cy="349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494" name=""/>
            <p:cNvSpPr/>
            <p:nvPr/>
          </p:nvSpPr>
          <p:spPr>
            <a:xfrm rot="3418800">
              <a:off x="4595760" y="2008800"/>
              <a:ext cx="874080" cy="971280"/>
            </a:xfrm>
            <a:prstGeom prst="rect">
              <a:avLst/>
            </a:prstGeom>
            <a:gradFill rotWithShape="0">
              <a:gsLst>
                <a:gs pos="0">
                  <a:srgbClr val="3ca051"/>
                </a:gs>
                <a:gs pos="100000">
                  <a:srgbClr val="1b4925"/>
                </a:gs>
              </a:gsLst>
              <a:lin ang="1980000"/>
            </a:gra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495" name=""/>
            <p:cNvGrpSpPr/>
            <p:nvPr/>
          </p:nvGrpSpPr>
          <p:grpSpPr>
            <a:xfrm>
              <a:off x="5587560" y="2244600"/>
              <a:ext cx="1178640" cy="124200"/>
              <a:chOff x="5587560" y="2244600"/>
              <a:chExt cx="1178640" cy="124200"/>
            </a:xfrm>
          </p:grpSpPr>
          <p:sp>
            <p:nvSpPr>
              <p:cNvPr id="496" name=""/>
              <p:cNvSpPr/>
              <p:nvPr/>
            </p:nvSpPr>
            <p:spPr>
              <a:xfrm>
                <a:off x="5587560" y="2244600"/>
                <a:ext cx="198720" cy="1234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5700600" y="2245320"/>
                <a:ext cx="977400" cy="1234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6587640" y="2246400"/>
                <a:ext cx="178560" cy="1195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6683040" y="2285280"/>
                <a:ext cx="50040" cy="349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500" name=""/>
            <p:cNvSpPr/>
            <p:nvPr/>
          </p:nvSpPr>
          <p:spPr>
            <a:xfrm rot="3418800">
              <a:off x="6260400" y="2008800"/>
              <a:ext cx="874080" cy="971280"/>
            </a:xfrm>
            <a:prstGeom prst="rect">
              <a:avLst/>
            </a:prstGeom>
            <a:solidFill>
              <a:srgbClr val="1f63ad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01" name=""/>
          <p:cNvSpPr/>
          <p:nvPr/>
        </p:nvSpPr>
        <p:spPr>
          <a:xfrm>
            <a:off x="14425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31381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46843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637956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44900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314280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483804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653364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Tabl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510" name=""/>
          <p:cNvGraphicFramePr/>
          <p:nvPr/>
        </p:nvGraphicFramePr>
        <p:xfrm>
          <a:off x="838080" y="2395440"/>
          <a:ext cx="7467480" cy="3124080"/>
        </p:xfrm>
        <a:graphic>
          <a:graphicData uri="http://schemas.openxmlformats.org/drawingml/2006/table">
            <a:tbl>
              <a:tblPr/>
              <a:tblGrid>
                <a:gridCol w="1684440"/>
                <a:gridCol w="1174680"/>
                <a:gridCol w="1152360"/>
                <a:gridCol w="1149480"/>
                <a:gridCol w="1157400"/>
                <a:gridCol w="1149120"/>
              </a:tblGrid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3366"/>
                      </a:solidFill>
                    </a:lnR>
                    <a:lnT>
                      <a:noFill/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d2830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d28302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d2830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d28302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d28302"/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7adb5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7adb5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7adb5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7adb5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7adb5">
                        <a:alpha val="80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7adb5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7adb5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7adb5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7adb5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7adb5">
                        <a:alpha val="48000"/>
                      </a:srgbClr>
                    </a:solidFill>
                  </a:tcPr>
                </a:tc>
              </a:tr>
              <a:tr h="447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7adb5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7adb5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7adb5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7adb5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7adb5">
                        <a:alpha val="80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7adb5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7adb5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7adb5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7adb5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7adb5">
                        <a:alpha val="48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7adb5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7adb5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7adb5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7adb5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7adb5">
                        <a:alpha val="80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7adb5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X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7adb5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7adb5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X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7adb5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7adb5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1" name=""/>
          <p:cNvGrpSpPr/>
          <p:nvPr/>
        </p:nvGrpSpPr>
        <p:grpSpPr>
          <a:xfrm>
            <a:off x="825120" y="679320"/>
            <a:ext cx="7378560" cy="5581080"/>
            <a:chOff x="825120" y="679320"/>
            <a:chExt cx="7378560" cy="5581080"/>
          </a:xfrm>
        </p:grpSpPr>
        <p:sp>
          <p:nvSpPr>
            <p:cNvPr id="512" name=""/>
            <p:cNvSpPr/>
            <p:nvPr/>
          </p:nvSpPr>
          <p:spPr>
            <a:xfrm>
              <a:off x="2361960" y="4465800"/>
              <a:ext cx="5562360" cy="1325520"/>
            </a:xfrm>
            <a:prstGeom prst="ellipse">
              <a:avLst/>
            </a:prstGeom>
            <a:gradFill rotWithShape="0">
              <a:gsLst>
                <a:gs pos="0">
                  <a:srgbClr val="f7f9f2"/>
                </a:gs>
                <a:gs pos="100000">
                  <a:srgbClr val="ddddd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t" anchorCtr="1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 rot="20601600">
              <a:off x="1636560" y="2352240"/>
              <a:ext cx="5762160" cy="301644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adadad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 rot="20601600">
              <a:off x="1693080" y="2190600"/>
              <a:ext cx="5562360" cy="29224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2791bb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 rot="20601600">
              <a:off x="1609560" y="2176200"/>
              <a:ext cx="5697720" cy="2925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395" y="2248"/>
                  </a:moveTo>
                  <a:arcTo wR="10800" hR="10800" stAng="-3141777" swAng="5155523"/>
                  <a:lnTo>
                    <a:pt x="10800" y="10800"/>
                  </a:lnTo>
                  <a:close/>
                </a:path>
                <a:path fill="none" w="21600" h="21600">
                  <a:moveTo>
                    <a:pt x="17395" y="2248"/>
                  </a:moveTo>
                  <a:arcTo wR="10800" hR="10800" stAng="-3141777" swAng="5155523"/>
                </a:path>
              </a:pathLst>
            </a:custGeom>
            <a:gradFill rotWithShape="0">
              <a:gsLst>
                <a:gs pos="0">
                  <a:srgbClr val="3ca051"/>
                </a:gs>
                <a:gs pos="100000">
                  <a:srgbClr val="82c18f"/>
                </a:gs>
              </a:gsLst>
              <a:lin ang="63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 flipH="1" rot="20602200">
              <a:off x="1658520" y="2176560"/>
              <a:ext cx="5642640" cy="2952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28" y="12048"/>
                  </a:moveTo>
                  <a:arcTo wR="10800" hR="10800" stAng="398260" swAng="5586891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28" y="12048"/>
                  </a:moveTo>
                  <a:arcTo wR="10800" hR="10800" stAng="398260" swAng="5586891"/>
                </a:path>
              </a:pathLst>
            </a:custGeom>
            <a:gradFill rotWithShape="0">
              <a:gsLst>
                <a:gs pos="0">
                  <a:srgbClr val="1f63ad"/>
                </a:gs>
                <a:gs pos="100000">
                  <a:srgbClr val="154478"/>
                </a:gs>
              </a:gsLst>
              <a:lin ang="125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 rot="20601600">
              <a:off x="1616400" y="2187360"/>
              <a:ext cx="5680800" cy="2835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5879" y="1186"/>
                  </a:moveTo>
                  <a:arcTo wR="10800" hR="10800" stAng="-7026499" swAng="4201110"/>
                  <a:lnTo>
                    <a:pt x="10800" y="10800"/>
                  </a:lnTo>
                  <a:close/>
                </a:path>
                <a:path fill="none" w="21600" h="21600">
                  <a:moveTo>
                    <a:pt x="5879" y="1186"/>
                  </a:moveTo>
                  <a:arcTo wR="10800" hR="10800" stAng="-7026499" swAng="4201110"/>
                </a:path>
              </a:pathLst>
            </a:custGeom>
            <a:gradFill rotWithShape="0">
              <a:gsLst>
                <a:gs pos="0">
                  <a:srgbClr val="3b6696"/>
                </a:gs>
                <a:gs pos="100000">
                  <a:srgbClr val="5a9be2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 flipH="1" rot="20602200">
              <a:off x="1626480" y="2185920"/>
              <a:ext cx="5701320" cy="2930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4946" y="828"/>
                  </a:moveTo>
                  <a:arcTo wR="10800" hR="10800" stAng="-4045467" swAng="5794864"/>
                  <a:lnTo>
                    <a:pt x="10800" y="10800"/>
                  </a:lnTo>
                  <a:close/>
                </a:path>
                <a:path fill="none" w="21600" h="21600">
                  <a:moveTo>
                    <a:pt x="14946" y="828"/>
                  </a:moveTo>
                  <a:arcTo wR="10800" hR="10800" stAng="-4045467" swAng="5794864"/>
                </a:path>
              </a:pathLst>
            </a:custGeom>
            <a:gradFill rotWithShape="0">
              <a:gsLst>
                <a:gs pos="0">
                  <a:srgbClr val="603c00"/>
                </a:gs>
                <a:gs pos="100000">
                  <a:srgbClr val="d28302"/>
                </a:gs>
              </a:gsLst>
              <a:lin ang="125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9" name="未知"/>
            <p:cNvSpPr/>
            <p:nvPr/>
          </p:nvSpPr>
          <p:spPr>
            <a:xfrm>
              <a:off x="5687640" y="3622680"/>
              <a:ext cx="1753920" cy="1778040"/>
            </a:xfrm>
            <a:custGeom>
              <a:avLst/>
              <a:gdLst/>
              <a:ahLst/>
              <a:rect l="l" t="t" r="r" b="b"/>
              <a:pathLst>
                <a:path w="1105" h="1120">
                  <a:moveTo>
                    <a:pt x="9" y="888"/>
                  </a:moveTo>
                  <a:lnTo>
                    <a:pt x="1105" y="0"/>
                  </a:lnTo>
                  <a:lnTo>
                    <a:pt x="1081" y="256"/>
                  </a:lnTo>
                  <a:cubicBezTo>
                    <a:pt x="1014" y="373"/>
                    <a:pt x="882" y="560"/>
                    <a:pt x="705" y="704"/>
                  </a:cubicBezTo>
                  <a:cubicBezTo>
                    <a:pt x="528" y="848"/>
                    <a:pt x="133" y="1089"/>
                    <a:pt x="17" y="1120"/>
                  </a:cubicBezTo>
                  <a:cubicBezTo>
                    <a:pt x="0" y="1038"/>
                    <a:pt x="9" y="888"/>
                    <a:pt x="9" y="88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adb5"/>
                </a:gs>
                <a:gs pos="100000">
                  <a:srgbClr val="5f6d7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 rot="20539200">
              <a:off x="1243440" y="1583640"/>
              <a:ext cx="6541920" cy="377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808" y="16758"/>
                  </a:moveTo>
                  <a:arcTo wR="10800" hR="10800" stAng="2008784" swAng="2800242"/>
                  <a:lnTo>
                    <a:pt x="10800" y="10800"/>
                  </a:lnTo>
                  <a:close/>
                </a:path>
                <a:path fill="none" w="21600" h="21600">
                  <a:moveTo>
                    <a:pt x="19808" y="16758"/>
                  </a:moveTo>
                  <a:arcTo wR="10800" hR="10800" stAng="2008784" swAng="2800242"/>
                </a:path>
              </a:pathLst>
            </a:custGeom>
            <a:gradFill rotWithShape="0">
              <a:gsLst>
                <a:gs pos="0">
                  <a:srgbClr val="97adb5"/>
                </a:gs>
                <a:gs pos="100000">
                  <a:srgbClr val="454f53"/>
                </a:gs>
              </a:gsLst>
              <a:lin ang="1456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1" name="未知"/>
            <p:cNvSpPr/>
            <p:nvPr/>
          </p:nvSpPr>
          <p:spPr>
            <a:xfrm>
              <a:off x="4698720" y="3962520"/>
              <a:ext cx="1028520" cy="1473120"/>
            </a:xfrm>
            <a:custGeom>
              <a:avLst/>
              <a:gdLst/>
              <a:ahLst/>
              <a:rect l="l" t="t" r="r" b="b"/>
              <a:pathLst>
                <a:path w="648" h="928">
                  <a:moveTo>
                    <a:pt x="648" y="632"/>
                  </a:moveTo>
                  <a:lnTo>
                    <a:pt x="648" y="928"/>
                  </a:lnTo>
                  <a:lnTo>
                    <a:pt x="0" y="64"/>
                  </a:lnTo>
                  <a:lnTo>
                    <a:pt x="96" y="0"/>
                  </a:lnTo>
                  <a:lnTo>
                    <a:pt x="648" y="632"/>
                  </a:lnTo>
                  <a:close/>
                </a:path>
              </a:pathLst>
            </a:custGeom>
            <a:gradFill rotWithShape="0">
              <a:gsLst>
                <a:gs pos="0">
                  <a:srgbClr val="97adb5"/>
                </a:gs>
                <a:gs pos="100000">
                  <a:srgbClr val="6d7d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 rot="20601600">
              <a:off x="3153960" y="2905200"/>
              <a:ext cx="2695320" cy="133992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f5f5f5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2144520" y="35845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4049640" y="236556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2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5878440" y="26701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3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573520" y="388944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4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363840" y="457524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5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8" name="未知"/>
            <p:cNvSpPr/>
            <p:nvPr/>
          </p:nvSpPr>
          <p:spPr>
            <a:xfrm>
              <a:off x="4617720" y="4178520"/>
              <a:ext cx="863280" cy="1079280"/>
            </a:xfrm>
            <a:custGeom>
              <a:avLst/>
              <a:gdLst/>
              <a:ahLst/>
              <a:rect l="l" t="t" r="r" b="b"/>
              <a:pathLst>
                <a:path w="544" h="680">
                  <a:moveTo>
                    <a:pt x="0" y="16"/>
                  </a:moveTo>
                  <a:lnTo>
                    <a:pt x="256" y="528"/>
                  </a:lnTo>
                  <a:lnTo>
                    <a:pt x="264" y="680"/>
                  </a:lnTo>
                  <a:lnTo>
                    <a:pt x="448" y="624"/>
                  </a:lnTo>
                  <a:lnTo>
                    <a:pt x="544" y="576"/>
                  </a:lnTo>
                  <a:lnTo>
                    <a:pt x="112" y="0"/>
                  </a:lnTo>
                  <a:lnTo>
                    <a:pt x="0" y="16"/>
                  </a:lnTo>
                  <a:close/>
                </a:path>
              </a:pathLst>
            </a:custGeom>
            <a:gradFill rotWithShape="0">
              <a:gsLst>
                <a:gs pos="0">
                  <a:srgbClr val="3ca051">
                    <a:alpha val="19215"/>
                  </a:srgbClr>
                </a:gs>
                <a:gs pos="100000">
                  <a:srgbClr val="7cbe8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 rot="20601600">
              <a:off x="3255840" y="3157560"/>
              <a:ext cx="2585520" cy="1090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3-D Pie Chart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Block 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1905120" y="2438280"/>
            <a:ext cx="5530680" cy="2743200"/>
          </a:xfrm>
          <a:prstGeom prst="upArrow">
            <a:avLst>
              <a:gd name="adj1" fmla="val 57824"/>
              <a:gd name="adj2" fmla="val 54398"/>
            </a:avLst>
          </a:prstGeom>
          <a:gradFill rotWithShape="0">
            <a:gsLst>
              <a:gs pos="0">
                <a:srgbClr val="97adb5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1676520" y="1676520"/>
            <a:ext cx="579096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ca051"/>
              </a:gs>
              <a:gs pos="50000">
                <a:srgbClr val="81c18e"/>
              </a:gs>
              <a:gs pos="100000">
                <a:srgbClr val="3ca051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3656160" y="3048120"/>
            <a:ext cx="180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535" name=""/>
          <p:cNvGrpSpPr/>
          <p:nvPr/>
        </p:nvGrpSpPr>
        <p:grpSpPr>
          <a:xfrm>
            <a:off x="914400" y="4311720"/>
            <a:ext cx="1579680" cy="2070000"/>
            <a:chOff x="914400" y="4311720"/>
            <a:chExt cx="1579680" cy="2070000"/>
          </a:xfrm>
        </p:grpSpPr>
        <p:grpSp>
          <p:nvGrpSpPr>
            <p:cNvPr id="536" name=""/>
            <p:cNvGrpSpPr/>
            <p:nvPr/>
          </p:nvGrpSpPr>
          <p:grpSpPr>
            <a:xfrm>
              <a:off x="914400" y="4311720"/>
              <a:ext cx="1486080" cy="1514520"/>
              <a:chOff x="914400" y="4311720"/>
              <a:chExt cx="1486080" cy="1514520"/>
            </a:xfrm>
          </p:grpSpPr>
          <p:grpSp>
            <p:nvGrpSpPr>
              <p:cNvPr id="537" name=""/>
              <p:cNvGrpSpPr/>
              <p:nvPr/>
            </p:nvGrpSpPr>
            <p:grpSpPr>
              <a:xfrm>
                <a:off x="914400" y="4311720"/>
                <a:ext cx="1486080" cy="1514520"/>
                <a:chOff x="914400" y="4311720"/>
                <a:chExt cx="1486080" cy="1514520"/>
              </a:xfrm>
            </p:grpSpPr>
            <p:sp>
              <p:nvSpPr>
                <p:cNvPr id="538" name=""/>
                <p:cNvSpPr/>
                <p:nvPr/>
              </p:nvSpPr>
              <p:spPr>
                <a:xfrm>
                  <a:off x="914400" y="4311720"/>
                  <a:ext cx="1486080" cy="1514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28302"/>
                    </a:gs>
                    <a:gs pos="100000">
                      <a:srgbClr val="84520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539" name="未知"/>
                <p:cNvSpPr/>
                <p:nvPr/>
              </p:nvSpPr>
              <p:spPr>
                <a:xfrm>
                  <a:off x="1084320" y="4336560"/>
                  <a:ext cx="1146240" cy="57168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d2830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540" name=""/>
              <p:cNvSpPr/>
              <p:nvPr/>
            </p:nvSpPr>
            <p:spPr>
              <a:xfrm>
                <a:off x="1072440" y="5082840"/>
                <a:ext cx="1157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0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541" name=""/>
            <p:cNvSpPr/>
            <p:nvPr/>
          </p:nvSpPr>
          <p:spPr>
            <a:xfrm>
              <a:off x="914400" y="5943600"/>
              <a:ext cx="1579680" cy="438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42" name=""/>
          <p:cNvGrpSpPr/>
          <p:nvPr/>
        </p:nvGrpSpPr>
        <p:grpSpPr>
          <a:xfrm>
            <a:off x="2819520" y="4311720"/>
            <a:ext cx="1617120" cy="2070000"/>
            <a:chOff x="2819520" y="4311720"/>
            <a:chExt cx="1617120" cy="2070000"/>
          </a:xfrm>
        </p:grpSpPr>
        <p:grpSp>
          <p:nvGrpSpPr>
            <p:cNvPr id="543" name=""/>
            <p:cNvGrpSpPr/>
            <p:nvPr/>
          </p:nvGrpSpPr>
          <p:grpSpPr>
            <a:xfrm>
              <a:off x="2819520" y="4311720"/>
              <a:ext cx="1523520" cy="1521000"/>
              <a:chOff x="2819520" y="4311720"/>
              <a:chExt cx="1523520" cy="1521000"/>
            </a:xfrm>
          </p:grpSpPr>
          <p:sp>
            <p:nvSpPr>
              <p:cNvPr id="544" name=""/>
              <p:cNvSpPr/>
              <p:nvPr/>
            </p:nvSpPr>
            <p:spPr>
              <a:xfrm>
                <a:off x="2819520" y="4311720"/>
                <a:ext cx="1523520" cy="1521000"/>
              </a:xfrm>
              <a:prstGeom prst="ellipse">
                <a:avLst/>
              </a:prstGeom>
              <a:gradFill rotWithShape="0">
                <a:gsLst>
                  <a:gs pos="0">
                    <a:srgbClr val="3ca051"/>
                  </a:gs>
                  <a:gs pos="100000">
                    <a:srgbClr val="1e512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45" name="未知"/>
              <p:cNvSpPr/>
              <p:nvPr/>
            </p:nvSpPr>
            <p:spPr>
              <a:xfrm>
                <a:off x="2993400" y="4336920"/>
                <a:ext cx="1175400" cy="57384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3ca05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546" name=""/>
            <p:cNvSpPr/>
            <p:nvPr/>
          </p:nvSpPr>
          <p:spPr>
            <a:xfrm>
              <a:off x="2895480" y="5041800"/>
              <a:ext cx="1371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857320" y="5943600"/>
              <a:ext cx="1579320" cy="438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48" name=""/>
          <p:cNvGrpSpPr/>
          <p:nvPr/>
        </p:nvGrpSpPr>
        <p:grpSpPr>
          <a:xfrm>
            <a:off x="4876920" y="4267080"/>
            <a:ext cx="1631880" cy="2114640"/>
            <a:chOff x="4876920" y="4267080"/>
            <a:chExt cx="1631880" cy="2114640"/>
          </a:xfrm>
        </p:grpSpPr>
        <p:grpSp>
          <p:nvGrpSpPr>
            <p:cNvPr id="549" name=""/>
            <p:cNvGrpSpPr/>
            <p:nvPr/>
          </p:nvGrpSpPr>
          <p:grpSpPr>
            <a:xfrm>
              <a:off x="4876920" y="4267080"/>
              <a:ext cx="1523880" cy="1521000"/>
              <a:chOff x="4876920" y="4267080"/>
              <a:chExt cx="1523880" cy="1521000"/>
            </a:xfrm>
          </p:grpSpPr>
          <p:sp>
            <p:nvSpPr>
              <p:cNvPr id="550" name=""/>
              <p:cNvSpPr/>
              <p:nvPr/>
            </p:nvSpPr>
            <p:spPr>
              <a:xfrm>
                <a:off x="4876920" y="4267080"/>
                <a:ext cx="1523880" cy="1521000"/>
              </a:xfrm>
              <a:prstGeom prst="ellipse">
                <a:avLst/>
              </a:prstGeom>
              <a:gradFill rotWithShape="0">
                <a:gsLst>
                  <a:gs pos="0">
                    <a:srgbClr val="1f63ad"/>
                  </a:gs>
                  <a:gs pos="100000">
                    <a:srgbClr val="0f325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51" name="未知"/>
              <p:cNvSpPr/>
              <p:nvPr/>
            </p:nvSpPr>
            <p:spPr>
              <a:xfrm>
                <a:off x="5051160" y="4292280"/>
                <a:ext cx="1175400" cy="57384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1f63a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552" name=""/>
            <p:cNvSpPr/>
            <p:nvPr/>
          </p:nvSpPr>
          <p:spPr>
            <a:xfrm>
              <a:off x="4953240" y="4997160"/>
              <a:ext cx="137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4929480" y="5943600"/>
              <a:ext cx="1579320" cy="438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54" name=""/>
          <p:cNvGrpSpPr/>
          <p:nvPr/>
        </p:nvGrpSpPr>
        <p:grpSpPr>
          <a:xfrm>
            <a:off x="6781680" y="4267080"/>
            <a:ext cx="1579680" cy="2114640"/>
            <a:chOff x="6781680" y="4267080"/>
            <a:chExt cx="1579680" cy="2114640"/>
          </a:xfrm>
        </p:grpSpPr>
        <p:grpSp>
          <p:nvGrpSpPr>
            <p:cNvPr id="555" name=""/>
            <p:cNvGrpSpPr/>
            <p:nvPr/>
          </p:nvGrpSpPr>
          <p:grpSpPr>
            <a:xfrm>
              <a:off x="6781680" y="4267080"/>
              <a:ext cx="1523880" cy="1531800"/>
              <a:chOff x="6781680" y="4267080"/>
              <a:chExt cx="1523880" cy="1531800"/>
            </a:xfrm>
          </p:grpSpPr>
          <p:grpSp>
            <p:nvGrpSpPr>
              <p:cNvPr id="556" name=""/>
              <p:cNvGrpSpPr/>
              <p:nvPr/>
            </p:nvGrpSpPr>
            <p:grpSpPr>
              <a:xfrm>
                <a:off x="6781680" y="4267080"/>
                <a:ext cx="1523880" cy="1531800"/>
                <a:chOff x="6781680" y="4267080"/>
                <a:chExt cx="1523880" cy="1531800"/>
              </a:xfrm>
            </p:grpSpPr>
            <p:sp>
              <p:nvSpPr>
                <p:cNvPr id="557" name=""/>
                <p:cNvSpPr/>
                <p:nvPr/>
              </p:nvSpPr>
              <p:spPr>
                <a:xfrm>
                  <a:off x="6781680" y="4267080"/>
                  <a:ext cx="1523880" cy="1531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7adb5"/>
                    </a:gs>
                    <a:gs pos="100000">
                      <a:srgbClr val="24292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558" name="未知"/>
                <p:cNvSpPr/>
                <p:nvPr/>
              </p:nvSpPr>
              <p:spPr>
                <a:xfrm>
                  <a:off x="6955920" y="4292280"/>
                  <a:ext cx="1175400" cy="57816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97adb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559" name=""/>
              <p:cNvSpPr/>
              <p:nvPr/>
            </p:nvSpPr>
            <p:spPr>
              <a:xfrm>
                <a:off x="6924600" y="4980960"/>
                <a:ext cx="1200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0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560" name=""/>
            <p:cNvSpPr/>
            <p:nvPr/>
          </p:nvSpPr>
          <p:spPr>
            <a:xfrm>
              <a:off x="6781680" y="5943600"/>
              <a:ext cx="1579680" cy="438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ontent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2209680" y="2057400"/>
            <a:ext cx="4724280" cy="685800"/>
            <a:chOff x="2209680" y="2057400"/>
            <a:chExt cx="4724280" cy="685800"/>
          </a:xfrm>
        </p:grpSpPr>
        <p:sp>
          <p:nvSpPr>
            <p:cNvPr id="91" name=""/>
            <p:cNvSpPr/>
            <p:nvPr/>
          </p:nvSpPr>
          <p:spPr>
            <a:xfrm>
              <a:off x="2590560" y="217656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28302"/>
                </a:gs>
                <a:gs pos="100000">
                  <a:srgbClr val="f4e3c8"/>
                </a:gs>
              </a:gsLst>
              <a:lin ang="10800000"/>
            </a:gra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209680" y="2057400"/>
              <a:ext cx="685800" cy="685800"/>
            </a:xfrm>
            <a:prstGeom prst="diamond">
              <a:avLst/>
            </a:prstGeom>
            <a:solidFill>
              <a:srgbClr val="d28302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819160" y="223200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365560" y="21556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2209680" y="2895480"/>
            <a:ext cx="4724280" cy="685800"/>
            <a:chOff x="2209680" y="2895480"/>
            <a:chExt cx="4724280" cy="685800"/>
          </a:xfrm>
        </p:grpSpPr>
        <p:sp>
          <p:nvSpPr>
            <p:cNvPr id="96" name=""/>
            <p:cNvSpPr/>
            <p:nvPr/>
          </p:nvSpPr>
          <p:spPr>
            <a:xfrm>
              <a:off x="2590560" y="301464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1f63ad"/>
                </a:gs>
                <a:gs pos="100000">
                  <a:srgbClr val="ceddec"/>
                </a:gs>
              </a:gsLst>
              <a:lin ang="10800000"/>
            </a:gra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209680" y="2895480"/>
              <a:ext cx="685800" cy="685800"/>
            </a:xfrm>
            <a:prstGeom prst="diamond">
              <a:avLst/>
            </a:prstGeom>
            <a:solidFill>
              <a:srgbClr val="1f63ad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19160" y="307008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365560" y="2993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2209680" y="3733920"/>
            <a:ext cx="4724280" cy="685800"/>
            <a:chOff x="2209680" y="3733920"/>
            <a:chExt cx="4724280" cy="685800"/>
          </a:xfrm>
        </p:grpSpPr>
        <p:sp>
          <p:nvSpPr>
            <p:cNvPr id="101" name=""/>
            <p:cNvSpPr/>
            <p:nvPr/>
          </p:nvSpPr>
          <p:spPr>
            <a:xfrm>
              <a:off x="2590560" y="385308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9190b"/>
                </a:gs>
                <a:gs pos="100000">
                  <a:srgbClr val="e8cdca"/>
                </a:gs>
              </a:gsLst>
              <a:lin ang="10800000"/>
            </a:gra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209680" y="3733920"/>
              <a:ext cx="685800" cy="685800"/>
            </a:xfrm>
            <a:prstGeom prst="diamond">
              <a:avLst/>
            </a:prstGeom>
            <a:solidFill>
              <a:srgbClr val="3ca051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819160" y="39085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365560" y="38322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2209680" y="4648320"/>
            <a:ext cx="4724280" cy="685800"/>
            <a:chOff x="2209680" y="4648320"/>
            <a:chExt cx="4724280" cy="685800"/>
          </a:xfrm>
        </p:grpSpPr>
        <p:sp>
          <p:nvSpPr>
            <p:cNvPr id="106" name=""/>
            <p:cNvSpPr/>
            <p:nvPr/>
          </p:nvSpPr>
          <p:spPr>
            <a:xfrm>
              <a:off x="2590560" y="476748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7adb5"/>
                </a:gs>
                <a:gs pos="100000">
                  <a:srgbClr val="e8ecee"/>
                </a:gs>
              </a:gsLst>
              <a:lin ang="10800000"/>
            </a:gra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209680" y="4648320"/>
              <a:ext cx="685800" cy="685800"/>
            </a:xfrm>
            <a:prstGeom prst="diamond">
              <a:avLst/>
            </a:prstGeom>
            <a:solidFill>
              <a:srgbClr val="97adb5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819160" y="48229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365560" y="47466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"/>
          <p:cNvSpPr txBox="1"/>
          <p:nvPr/>
        </p:nvSpPr>
        <p:spPr>
          <a:xfrm>
            <a:off x="2209680" y="3048120"/>
            <a:ext cx="43434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656565"/>
                    </a:gs>
                    <a:gs pos="100000">
                      <a:srgbClr val="dddddd"/>
                    </a:gs>
                  </a:gsLst>
                  <a:lin ang="10800000"/>
                </a:gradFill>
                <a:effectLst>
                  <a:outerShdw dist="71785" dir="2700000" blurRad="0" rotWithShape="0">
                    <a:srgbClr val="003366">
                      <a:alpha val="50000"/>
                    </a:srgbClr>
                  </a:outerShdw>
                </a:effectLst>
                <a:latin typeface="Arial"/>
              </a:rPr>
              <a:t>Thank You !</a:t>
            </a:r>
            <a:endParaRPr b="1" lang="en-US" sz="18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656565"/>
                  </a:gs>
                  <a:gs pos="100000">
                    <a:srgbClr val="dddddd"/>
                  </a:gs>
                </a:gsLst>
                <a:lin ang="10800000"/>
              </a:gradFill>
              <a:effectLst>
                <a:outerShdw dist="71785" dir="2700000" blurRad="0" rotWithShape="0">
                  <a:srgbClr val="00336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1745640" y="6248520"/>
            <a:ext cx="56332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3ca051"/>
                </a:solidFill>
                <a:uFillTx/>
                <a:latin typeface="华文新魏"/>
                <a:ea typeface="华文新魏"/>
                <a:hlinkClick r:id="rId2"/>
              </a:rPr>
              <a:t>PPT之家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整理发布，更多免费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PPT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www.eeppt.com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Hot Tip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644480"/>
            <a:ext cx="7605720" cy="470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How do I incorporate my logo to a slide that will apply to all the other slides? 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ca05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On the </a:t>
            </a:r>
            <a:r>
              <a:rPr b="1" lang="en-US" sz="2400" spc="-1" strike="noStrike">
                <a:solidFill>
                  <a:srgbClr val="1f63ad"/>
                </a:solidFill>
                <a:latin typeface="Arial"/>
              </a:rPr>
              <a:t>[View]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 menu, point to </a:t>
            </a:r>
            <a:r>
              <a:rPr b="1" lang="en-US" sz="2400" spc="-1" strike="noStrike">
                <a:solidFill>
                  <a:srgbClr val="1f63ad"/>
                </a:solidFill>
                <a:latin typeface="Arial"/>
              </a:rPr>
              <a:t>[Master],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 and then click </a:t>
            </a:r>
            <a:r>
              <a:rPr b="1" lang="en-US" sz="2400" spc="-1" strike="noStrike">
                <a:solidFill>
                  <a:srgbClr val="1f63ad"/>
                </a:solidFill>
                <a:latin typeface="Arial"/>
              </a:rPr>
              <a:t>[Slide Master]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 or </a:t>
            </a:r>
            <a:r>
              <a:rPr b="1" lang="en-US" sz="2400" spc="-1" strike="noStrike">
                <a:solidFill>
                  <a:srgbClr val="1f63ad"/>
                </a:solidFill>
                <a:latin typeface="Arial"/>
              </a:rPr>
              <a:t>[Notes Master].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 Change images to the one you like, then it will apply to all the other slides. </a:t>
            </a:r>
            <a:br>
              <a:rPr sz="2400"/>
            </a:b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"/>
          <p:cNvSpPr/>
          <p:nvPr/>
        </p:nvSpPr>
        <p:spPr>
          <a:xfrm>
            <a:off x="5562720" y="3352680"/>
            <a:ext cx="2286000" cy="266724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7240"/>
              <a:gd name="textAreaBottom" fmla="*/ 2555640 h 2667240"/>
            </a:gdLst>
            <a:ahLst/>
            <a:rect l="textAreaLeft" t="textAreaTop" r="textAreaRight" b="textAreaBottom"/>
            <a:pathLst>
              <a:path w="21600" h="25202">
                <a:moveTo>
                  <a:pt x="3600" y="0"/>
                </a:moveTo>
                <a:arcTo wR="3600" hR="3600" stAng="16200000" swAng="-5400000"/>
                <a:lnTo>
                  <a:pt x="0" y="21602"/>
                </a:lnTo>
                <a:arcTo wR="3600" hR="3600" stAng="10800000" swAng="-5400000"/>
                <a:lnTo>
                  <a:pt x="18000" y="2520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143000" y="3352680"/>
            <a:ext cx="2286000" cy="266724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7240"/>
              <a:gd name="textAreaBottom" fmla="*/ 2555640 h 2667240"/>
            </a:gdLst>
            <a:ahLst/>
            <a:rect l="textAreaLeft" t="textAreaTop" r="textAreaRight" b="textAreaBottom"/>
            <a:pathLst>
              <a:path w="21600" h="25202">
                <a:moveTo>
                  <a:pt x="3600" y="0"/>
                </a:moveTo>
                <a:arcTo wR="3600" hR="3600" stAng="16200000" swAng="-5400000"/>
                <a:lnTo>
                  <a:pt x="0" y="21602"/>
                </a:lnTo>
                <a:arcTo wR="3600" hR="3600" stAng="10800000" swAng="-5400000"/>
                <a:lnTo>
                  <a:pt x="18000" y="2520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238400" y="355284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未知"/>
          <p:cNvSpPr/>
          <p:nvPr/>
        </p:nvSpPr>
        <p:spPr>
          <a:xfrm>
            <a:off x="3222720" y="3255840"/>
            <a:ext cx="903240" cy="12416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e1af5d"/>
              </a:gs>
              <a:gs pos="100000">
                <a:srgbClr val="d2830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" name="未知"/>
          <p:cNvSpPr/>
          <p:nvPr/>
        </p:nvSpPr>
        <p:spPr>
          <a:xfrm flipH="1">
            <a:off x="4874400" y="3255840"/>
            <a:ext cx="903240" cy="12416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c0dfc6"/>
              </a:gs>
              <a:gs pos="100000">
                <a:srgbClr val="3ca05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3048120" y="1628640"/>
            <a:ext cx="2998440" cy="1601280"/>
            <a:chOff x="3048120" y="1628640"/>
            <a:chExt cx="2998440" cy="1601280"/>
          </a:xfrm>
        </p:grpSpPr>
        <p:grpSp>
          <p:nvGrpSpPr>
            <p:cNvPr id="119" name=""/>
            <p:cNvGrpSpPr/>
            <p:nvPr/>
          </p:nvGrpSpPr>
          <p:grpSpPr>
            <a:xfrm>
              <a:off x="3048120" y="1771560"/>
              <a:ext cx="2998440" cy="1458360"/>
              <a:chOff x="3048120" y="1771560"/>
              <a:chExt cx="2998440" cy="1458360"/>
            </a:xfrm>
          </p:grpSpPr>
          <p:sp>
            <p:nvSpPr>
              <p:cNvPr id="120" name=""/>
              <p:cNvSpPr/>
              <p:nvPr/>
            </p:nvSpPr>
            <p:spPr>
              <a:xfrm>
                <a:off x="3080880" y="1818000"/>
                <a:ext cx="2965680" cy="1411920"/>
              </a:xfrm>
              <a:prstGeom prst="ellipse">
                <a:avLst/>
              </a:prstGeom>
              <a:gradFill rotWithShape="0">
                <a:gsLst>
                  <a:gs pos="0">
                    <a:srgbClr val="1d4d27"/>
                  </a:gs>
                  <a:gs pos="100000">
                    <a:srgbClr val="3ca051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3048120" y="1771560"/>
                <a:ext cx="2966040" cy="1411920"/>
              </a:xfrm>
              <a:prstGeom prst="ellipse">
                <a:avLst/>
              </a:prstGeom>
              <a:gradFill rotWithShape="0">
                <a:gsLst>
                  <a:gs pos="0">
                    <a:srgbClr val="3ca051"/>
                  </a:gs>
                  <a:gs pos="100000">
                    <a:srgbClr val="a7d4b1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122" name=""/>
            <p:cNvSpPr/>
            <p:nvPr/>
          </p:nvSpPr>
          <p:spPr>
            <a:xfrm>
              <a:off x="3189240" y="1628640"/>
              <a:ext cx="2684520" cy="1341360"/>
            </a:xfrm>
            <a:prstGeom prst="ellipse">
              <a:avLst/>
            </a:prstGeom>
            <a:gradFill rotWithShape="0">
              <a:gsLst>
                <a:gs pos="0">
                  <a:srgbClr val="1f63ad"/>
                </a:gs>
                <a:gs pos="100000">
                  <a:srgbClr val="0e2d4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224160" y="1636560"/>
              <a:ext cx="2619720" cy="1308240"/>
            </a:xfrm>
            <a:prstGeom prst="ellipse">
              <a:avLst/>
            </a:prstGeom>
            <a:gradFill rotWithShape="0">
              <a:gsLst>
                <a:gs pos="0">
                  <a:srgbClr val="b0c7e1"/>
                </a:gs>
                <a:gs pos="100000">
                  <a:srgbClr val="1f63ad">
                    <a:alpha val="0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251160" y="1649160"/>
              <a:ext cx="2492640" cy="1222560"/>
            </a:xfrm>
            <a:prstGeom prst="ellipse">
              <a:avLst/>
            </a:prstGeom>
            <a:gradFill rotWithShape="0">
              <a:gsLst>
                <a:gs pos="0">
                  <a:srgbClr val="1f63ad">
                    <a:alpha val="48235"/>
                  </a:srgbClr>
                </a:gs>
                <a:gs pos="100000">
                  <a:srgbClr val="184e8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382920" y="1676160"/>
              <a:ext cx="2194200" cy="990720"/>
            </a:xfrm>
            <a:prstGeom prst="ellipse">
              <a:avLst/>
            </a:prstGeom>
            <a:gradFill rotWithShape="0">
              <a:gsLst>
                <a:gs pos="0">
                  <a:srgbClr val="1f63ad">
                    <a:alpha val="38039"/>
                  </a:srgbClr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3882960" y="1828800"/>
            <a:ext cx="12351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791320" y="358128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ycle 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762120" y="1722240"/>
            <a:ext cx="7328520" cy="4583520"/>
            <a:chOff x="762120" y="1722240"/>
            <a:chExt cx="7328520" cy="4583520"/>
          </a:xfrm>
        </p:grpSpPr>
        <p:sp>
          <p:nvSpPr>
            <p:cNvPr id="130" name="未知"/>
            <p:cNvSpPr/>
            <p:nvPr/>
          </p:nvSpPr>
          <p:spPr>
            <a:xfrm rot="20241600">
              <a:off x="1392120" y="2801880"/>
              <a:ext cx="6094440" cy="242424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f3f3f3">
                    <a:alpha val="36078"/>
                  </a:srgbClr>
                </a:gs>
              </a:gsLst>
              <a:lin ang="121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 rot="20056200">
              <a:off x="4343040" y="2742840"/>
              <a:ext cx="1067040" cy="30492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 rot="20056200">
              <a:off x="7010280" y="2895120"/>
              <a:ext cx="1066680" cy="30492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 rot="20056200">
              <a:off x="2895480" y="5562360"/>
              <a:ext cx="1066680" cy="30456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 rot="20056200">
              <a:off x="5486040" y="4952520"/>
              <a:ext cx="1067040" cy="30492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 rot="20056200">
              <a:off x="2057040" y="4114440"/>
              <a:ext cx="1067040" cy="30492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21400" y="2057400"/>
              <a:ext cx="1143000" cy="1101600"/>
            </a:xfrm>
            <a:prstGeom prst="ellipse">
              <a:avLst/>
            </a:prstGeom>
            <a:gradFill rotWithShape="0">
              <a:gsLst>
                <a:gs pos="0">
                  <a:srgbClr val="3ca051"/>
                </a:gs>
                <a:gs pos="100000">
                  <a:srgbClr val="14371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586160" y="3375000"/>
              <a:ext cx="1141200" cy="1101600"/>
            </a:xfrm>
            <a:prstGeom prst="ellipse">
              <a:avLst/>
            </a:prstGeom>
            <a:gradFill rotWithShape="0">
              <a:gsLst>
                <a:gs pos="0">
                  <a:srgbClr val="1f63ad"/>
                </a:gs>
                <a:gs pos="100000">
                  <a:srgbClr val="091e3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370240" y="4842000"/>
              <a:ext cx="1141560" cy="1101600"/>
            </a:xfrm>
            <a:prstGeom prst="ellipse">
              <a:avLst/>
            </a:prstGeom>
            <a:gradFill rotWithShape="0">
              <a:gsLst>
                <a:gs pos="0">
                  <a:srgbClr val="d28302"/>
                </a:gs>
                <a:gs pos="100000">
                  <a:srgbClr val="4a2e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838760" y="4297320"/>
              <a:ext cx="1141560" cy="110160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4e4e4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464520" y="2254320"/>
              <a:ext cx="1079280" cy="1103400"/>
            </a:xfrm>
            <a:prstGeom prst="ellipse">
              <a:avLst/>
            </a:prstGeom>
            <a:gradFill rotWithShape="0">
              <a:gsLst>
                <a:gs pos="0">
                  <a:srgbClr val="97adb5"/>
                </a:gs>
                <a:gs pos="100000">
                  <a:srgbClr val="333b3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823400" y="37702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127040" y="24526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736680" y="26924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144400" y="46926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634480" y="52308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429000" y="3657600"/>
              <a:ext cx="230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3366"/>
                  </a:solidFill>
                  <a:latin typeface="Arial"/>
                </a:rPr>
                <a:t>Cycle name</a:t>
              </a:r>
              <a:endParaRPr b="0" lang="en-US" sz="2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602080" y="2452680"/>
              <a:ext cx="1627200" cy="1251000"/>
            </a:xfrm>
            <a:prstGeom prst="line">
              <a:avLst/>
            </a:prstGeom>
            <a:ln w="9360">
              <a:solidFill>
                <a:srgbClr val="00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cxnSp>
          <p:nvCxnSpPr>
            <p:cNvPr id="148" name=""/>
            <p:cNvCxnSpPr/>
            <p:nvPr/>
          </p:nvCxnSpPr>
          <p:spPr>
            <a:xfrm flipH="1">
              <a:off x="887040" y="2452320"/>
              <a:ext cx="1726560" cy="1080"/>
            </a:xfrm>
            <a:prstGeom prst="straightConnector1">
              <a:avLst/>
            </a:prstGeom>
            <a:ln w="9360">
              <a:solidFill>
                <a:srgbClr val="003366"/>
              </a:solidFill>
              <a:miter/>
            </a:ln>
          </p:spPr>
        </p:cxnSp>
        <p:sp>
          <p:nvSpPr>
            <p:cNvPr id="149" name=""/>
            <p:cNvSpPr/>
            <p:nvPr/>
          </p:nvSpPr>
          <p:spPr>
            <a:xfrm>
              <a:off x="762120" y="2057400"/>
              <a:ext cx="2057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1295280" y="1752480"/>
            <a:ext cx="6476760" cy="4125960"/>
            <a:chOff x="1295280" y="1752480"/>
            <a:chExt cx="6476760" cy="4125960"/>
          </a:xfrm>
        </p:grpSpPr>
        <p:sp>
          <p:nvSpPr>
            <p:cNvPr id="152" name=""/>
            <p:cNvSpPr/>
            <p:nvPr/>
          </p:nvSpPr>
          <p:spPr>
            <a:xfrm>
              <a:off x="3759120" y="4057920"/>
              <a:ext cx="1548720" cy="579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54f53"/>
                </a:gs>
                <a:gs pos="50000">
                  <a:srgbClr val="97adb5"/>
                </a:gs>
                <a:gs pos="100000">
                  <a:srgbClr val="454f5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759120" y="355140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54f53"/>
                </a:gs>
                <a:gs pos="50000">
                  <a:srgbClr val="97adb5"/>
                </a:gs>
                <a:gs pos="100000">
                  <a:srgbClr val="454f5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759120" y="304452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54f53"/>
                </a:gs>
                <a:gs pos="50000">
                  <a:srgbClr val="97adb5"/>
                </a:gs>
                <a:gs pos="100000">
                  <a:srgbClr val="454f5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222800" y="32634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222800" y="376992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222800" y="42768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125520" y="2827440"/>
              <a:ext cx="492840" cy="1954080"/>
            </a:xfrm>
            <a:prstGeom prst="leftArrow">
              <a:avLst>
                <a:gd name="adj1" fmla="val 65583"/>
                <a:gd name="adj2" fmla="val 65181"/>
              </a:avLst>
            </a:prstGeom>
            <a:gradFill rotWithShape="0">
              <a:gsLst>
                <a:gs pos="0">
                  <a:srgbClr val="656565">
                    <a:alpha val="12156"/>
                  </a:srgbClr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295280" y="2320560"/>
              <a:ext cx="1689480" cy="296784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840"/>
                <a:gd name="textAreaBottom" fmla="*/ 2885400 h 2967840"/>
              </a:gdLst>
              <a:ahLst/>
              <a:rect l="textAreaLeft" t="textAreaTop" r="textAreaRight" b="textAreaBottom"/>
              <a:pathLst>
                <a:path w="21600" h="37940">
                  <a:moveTo>
                    <a:pt x="3600" y="0"/>
                  </a:moveTo>
                  <a:arcTo wR="3600" hR="3600" stAng="16200000" swAng="-5400000"/>
                  <a:lnTo>
                    <a:pt x="0" y="34340"/>
                  </a:lnTo>
                  <a:arcTo wR="3600" hR="3600" stAng="10800000" swAng="-5400000"/>
                  <a:lnTo>
                    <a:pt x="18000" y="379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5480" y="2537640"/>
              <a:ext cx="154836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082560" y="2320560"/>
              <a:ext cx="1689480" cy="296784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840"/>
                <a:gd name="textAreaBottom" fmla="*/ 2885400 h 2967840"/>
              </a:gdLst>
              <a:ahLst/>
              <a:rect l="textAreaLeft" t="textAreaTop" r="textAreaRight" b="textAreaBottom"/>
              <a:pathLst>
                <a:path w="21600" h="37940">
                  <a:moveTo>
                    <a:pt x="3600" y="0"/>
                  </a:moveTo>
                  <a:arcTo wR="3600" hR="3600" stAng="16200000" swAng="-5400000"/>
                  <a:lnTo>
                    <a:pt x="0" y="34340"/>
                  </a:lnTo>
                  <a:arcTo wR="3600" hR="3600" stAng="10800000" swAng="-5400000"/>
                  <a:lnTo>
                    <a:pt x="18000" y="379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153120" y="2537640"/>
              <a:ext cx="154872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51840" y="2827440"/>
              <a:ext cx="489600" cy="1954080"/>
            </a:xfrm>
            <a:prstGeom prst="rightArrow">
              <a:avLst>
                <a:gd name="adj1" fmla="val 67750"/>
                <a:gd name="adj2" fmla="val 66167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656565">
                    <a:alpha val="1215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055320" y="1752480"/>
              <a:ext cx="2815920" cy="578880"/>
            </a:xfrm>
            <a:prstGeom prst="can">
              <a:avLst>
                <a:gd name="adj" fmla="val 27865"/>
              </a:avLst>
            </a:prstGeom>
            <a:gradFill rotWithShape="0">
              <a:gsLst>
                <a:gs pos="0">
                  <a:srgbClr val="0e2d4f"/>
                </a:gs>
                <a:gs pos="50000">
                  <a:srgbClr val="1f63ad"/>
                </a:gs>
                <a:gs pos="100000">
                  <a:srgbClr val="0e2d4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728520" y="2465640"/>
              <a:ext cx="1618920" cy="506160"/>
            </a:xfrm>
            <a:prstGeom prst="upArrow">
              <a:avLst>
                <a:gd name="adj1" fmla="val 68380"/>
                <a:gd name="adj2" fmla="val 70833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e8e8e8">
                    <a:alpha val="1215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201200" y="19634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125520" y="5288760"/>
              <a:ext cx="2816280" cy="578880"/>
            </a:xfrm>
            <a:prstGeom prst="can">
              <a:avLst>
                <a:gd name="adj" fmla="val 32032"/>
              </a:avLst>
            </a:prstGeom>
            <a:gradFill rotWithShape="0">
              <a:gsLst>
                <a:gs pos="0">
                  <a:srgbClr val="1b4925"/>
                </a:gs>
                <a:gs pos="50000">
                  <a:srgbClr val="3ca051"/>
                </a:gs>
                <a:gs pos="100000">
                  <a:srgbClr val="1b492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201200" y="55101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708000" y="4709520"/>
              <a:ext cx="1622160" cy="498960"/>
            </a:xfrm>
            <a:prstGeom prst="downArrow">
              <a:avLst>
                <a:gd name="adj1" fmla="val 67093"/>
                <a:gd name="adj2" fmla="val 64051"/>
              </a:avLst>
            </a:prstGeom>
            <a:gradFill rotWithShape="0">
              <a:gsLst>
                <a:gs pos="0">
                  <a:srgbClr val="e8e8e8">
                    <a:alpha val="12156"/>
                  </a:srgbClr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7087320" y="624852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1143000" y="2209680"/>
            <a:ext cx="6705720" cy="3352680"/>
            <a:chOff x="1143000" y="2209680"/>
            <a:chExt cx="6705720" cy="3352680"/>
          </a:xfrm>
        </p:grpSpPr>
        <p:grpSp>
          <p:nvGrpSpPr>
            <p:cNvPr id="173" name=""/>
            <p:cNvGrpSpPr/>
            <p:nvPr/>
          </p:nvGrpSpPr>
          <p:grpSpPr>
            <a:xfrm>
              <a:off x="3009240" y="2209680"/>
              <a:ext cx="2900160" cy="2706120"/>
              <a:chOff x="3009240" y="2209680"/>
              <a:chExt cx="2900160" cy="2706120"/>
            </a:xfrm>
          </p:grpSpPr>
          <p:sp>
            <p:nvSpPr>
              <p:cNvPr id="174" name=""/>
              <p:cNvSpPr/>
              <p:nvPr/>
            </p:nvSpPr>
            <p:spPr>
              <a:xfrm flipH="1" rot="16200000">
                <a:off x="2927880" y="3256920"/>
                <a:ext cx="459360" cy="296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d6a49e"/>
                  </a:gs>
                  <a:gs pos="100000">
                    <a:srgbClr val="99190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 flipH="1" rot="5400000">
                <a:off x="5531400" y="3206160"/>
                <a:ext cx="459360" cy="296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d6a49e"/>
                  </a:gs>
                  <a:gs pos="100000">
                    <a:srgbClr val="99190b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 flipH="1" rot="10800000">
                <a:off x="4238640" y="4609800"/>
                <a:ext cx="444240" cy="30600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d6a49e"/>
                  </a:gs>
                  <a:gs pos="100000">
                    <a:srgbClr val="99190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3305880" y="2209680"/>
                <a:ext cx="2328120" cy="24001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3438720" y="2344680"/>
                <a:ext cx="2061360" cy="2125080"/>
              </a:xfrm>
              <a:prstGeom prst="ellipse">
                <a:avLst/>
              </a:prstGeom>
              <a:gradFill rotWithShape="0">
                <a:gsLst>
                  <a:gs pos="0">
                    <a:srgbClr val="a1a1a1"/>
                  </a:gs>
                  <a:gs pos="50000">
                    <a:srgbClr val="ffffff"/>
                  </a:gs>
                  <a:gs pos="100000">
                    <a:srgbClr val="a1a1a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560040" y="2471040"/>
                <a:ext cx="1819080" cy="18784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3ca051"/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3560040" y="2471040"/>
                <a:ext cx="1819080" cy="187848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0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3679560" y="2594520"/>
                <a:ext cx="1580040" cy="1631880"/>
              </a:xfrm>
              <a:prstGeom prst="ellipse">
                <a:avLst/>
              </a:prstGeom>
              <a:gradFill rotWithShape="0">
                <a:gsLst>
                  <a:gs pos="0">
                    <a:srgbClr val="20562b"/>
                  </a:gs>
                  <a:gs pos="50000">
                    <a:srgbClr val="3ca051"/>
                  </a:gs>
                  <a:gs pos="100000">
                    <a:srgbClr val="20562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3679560" y="2594520"/>
                <a:ext cx="1580040" cy="1631880"/>
              </a:xfrm>
              <a:prstGeom prst="ellipse">
                <a:avLst/>
              </a:prstGeom>
              <a:gradFill rotWithShape="0">
                <a:gsLst>
                  <a:gs pos="0">
                    <a:srgbClr val="7b6200"/>
                  </a:gs>
                  <a:gs pos="100000">
                    <a:srgbClr val="ffcc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183" name=""/>
            <p:cNvSpPr/>
            <p:nvPr/>
          </p:nvSpPr>
          <p:spPr>
            <a:xfrm>
              <a:off x="1143000" y="3707640"/>
              <a:ext cx="165888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54f53"/>
                </a:gs>
                <a:gs pos="50000">
                  <a:srgbClr val="97adb5"/>
                </a:gs>
                <a:gs pos="100000">
                  <a:srgbClr val="454f5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143000" y="3208320"/>
              <a:ext cx="1658880" cy="5709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54f53"/>
                </a:gs>
                <a:gs pos="50000">
                  <a:srgbClr val="97adb5"/>
                </a:gs>
                <a:gs pos="100000">
                  <a:srgbClr val="454f5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143000" y="2709000"/>
              <a:ext cx="165888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54f53"/>
                </a:gs>
                <a:gs pos="50000">
                  <a:srgbClr val="97adb5"/>
                </a:gs>
                <a:gs pos="100000">
                  <a:srgbClr val="454f5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120360" y="3707640"/>
              <a:ext cx="172836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e2d4f"/>
                </a:gs>
                <a:gs pos="50000">
                  <a:srgbClr val="1f63ad"/>
                </a:gs>
                <a:gs pos="100000">
                  <a:srgbClr val="0e2d4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120360" y="3208320"/>
              <a:ext cx="1728360" cy="5709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e2d4f"/>
                </a:gs>
                <a:gs pos="50000">
                  <a:srgbClr val="1f63ad"/>
                </a:gs>
                <a:gs pos="100000">
                  <a:srgbClr val="0e2d4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120360" y="2709000"/>
              <a:ext cx="172836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e2d4f"/>
                </a:gs>
                <a:gs pos="50000">
                  <a:srgbClr val="1f63ad"/>
                </a:gs>
                <a:gs pos="100000">
                  <a:srgbClr val="0e2d4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775320" y="320832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702520" y="5063400"/>
              <a:ext cx="3525480" cy="4989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588320" y="2855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58832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58832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685200" y="2855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68520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68520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 flipH="1">
            <a:off x="873000" y="5621400"/>
            <a:ext cx="1657440" cy="144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873000" y="4782960"/>
            <a:ext cx="243864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H="1">
            <a:off x="873000" y="3952800"/>
            <a:ext cx="335304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872640" y="3124080"/>
            <a:ext cx="416556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873000" y="2282760"/>
            <a:ext cx="503424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025640" y="2276640"/>
            <a:ext cx="0" cy="871200"/>
          </a:xfrm>
          <a:prstGeom prst="line">
            <a:avLst/>
          </a:prstGeom>
          <a:ln w="9360">
            <a:solidFill>
              <a:srgbClr val="0033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025640" y="3147840"/>
            <a:ext cx="0" cy="817560"/>
          </a:xfrm>
          <a:prstGeom prst="line">
            <a:avLst/>
          </a:prstGeom>
          <a:ln w="9360">
            <a:solidFill>
              <a:srgbClr val="0033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025640" y="3965400"/>
            <a:ext cx="0" cy="816120"/>
          </a:xfrm>
          <a:prstGeom prst="line">
            <a:avLst/>
          </a:prstGeom>
          <a:ln w="9360">
            <a:solidFill>
              <a:srgbClr val="0033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025640" y="4782960"/>
            <a:ext cx="0" cy="816120"/>
          </a:xfrm>
          <a:prstGeom prst="line">
            <a:avLst/>
          </a:prstGeom>
          <a:ln w="9360">
            <a:solidFill>
              <a:srgbClr val="0033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262160" y="2600280"/>
            <a:ext cx="1430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262160" y="3427560"/>
            <a:ext cx="1430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262160" y="4290840"/>
            <a:ext cx="1430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262160" y="5097600"/>
            <a:ext cx="1430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2590920" y="2286000"/>
            <a:ext cx="5825520" cy="3343320"/>
            <a:chOff x="2590920" y="2286000"/>
            <a:chExt cx="5825520" cy="3343320"/>
          </a:xfrm>
        </p:grpSpPr>
        <p:sp>
          <p:nvSpPr>
            <p:cNvPr id="212" name="未知"/>
            <p:cNvSpPr/>
            <p:nvPr/>
          </p:nvSpPr>
          <p:spPr>
            <a:xfrm>
              <a:off x="7833960" y="2286000"/>
              <a:ext cx="576000" cy="84600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0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603c00"/>
                </a:gs>
                <a:gs pos="50000">
                  <a:srgbClr val="d28302"/>
                </a:gs>
                <a:gs pos="100000">
                  <a:srgbClr val="603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13" name="未知"/>
            <p:cNvSpPr/>
            <p:nvPr/>
          </p:nvSpPr>
          <p:spPr>
            <a:xfrm>
              <a:off x="5073480" y="2286000"/>
              <a:ext cx="3342960" cy="541440"/>
            </a:xfrm>
            <a:custGeom>
              <a:avLst/>
              <a:gdLst/>
              <a:ahLst/>
              <a:rect l="l" t="t" r="r" b="b"/>
              <a:pathLst>
                <a:path w="1786" h="284">
                  <a:moveTo>
                    <a:pt x="1478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786" y="0"/>
                  </a:lnTo>
                  <a:lnTo>
                    <a:pt x="1478" y="284"/>
                  </a:lnTo>
                  <a:close/>
                </a:path>
              </a:pathLst>
            </a:custGeom>
            <a:solidFill>
              <a:srgbClr val="d28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14" name="未知"/>
            <p:cNvSpPr/>
            <p:nvPr/>
          </p:nvSpPr>
          <p:spPr>
            <a:xfrm>
              <a:off x="7254720" y="3117960"/>
              <a:ext cx="575640" cy="841320"/>
            </a:xfrm>
            <a:custGeom>
              <a:avLst/>
              <a:gdLst/>
              <a:ahLst/>
              <a:rect l="l" t="t" r="r" b="b"/>
              <a:pathLst>
                <a:path w="308" h="442">
                  <a:moveTo>
                    <a:pt x="308" y="120"/>
                  </a:moveTo>
                  <a:lnTo>
                    <a:pt x="0" y="442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1b4925"/>
                </a:gs>
                <a:gs pos="50000">
                  <a:srgbClr val="3ca051"/>
                </a:gs>
                <a:gs pos="100000">
                  <a:srgbClr val="1b492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15" name="未知"/>
            <p:cNvSpPr/>
            <p:nvPr/>
          </p:nvSpPr>
          <p:spPr>
            <a:xfrm>
              <a:off x="4243320" y="3117960"/>
              <a:ext cx="3593520" cy="539640"/>
            </a:xfrm>
            <a:custGeom>
              <a:avLst/>
              <a:gdLst/>
              <a:ahLst/>
              <a:rect l="l" t="t" r="r" b="b"/>
              <a:pathLst>
                <a:path w="1920" h="284">
                  <a:moveTo>
                    <a:pt x="161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920" y="0"/>
                  </a:lnTo>
                  <a:lnTo>
                    <a:pt x="1612" y="284"/>
                  </a:lnTo>
                  <a:close/>
                </a:path>
              </a:pathLst>
            </a:custGeom>
            <a:solidFill>
              <a:srgbClr val="3ca0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16" name="未知"/>
            <p:cNvSpPr/>
            <p:nvPr/>
          </p:nvSpPr>
          <p:spPr>
            <a:xfrm>
              <a:off x="6673680" y="3949560"/>
              <a:ext cx="572760" cy="844560"/>
            </a:xfrm>
            <a:custGeom>
              <a:avLst/>
              <a:gdLst/>
              <a:ahLst/>
              <a:rect l="l" t="t" r="r" b="b"/>
              <a:pathLst>
                <a:path w="306" h="444">
                  <a:moveTo>
                    <a:pt x="306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6" y="0"/>
                  </a:lnTo>
                  <a:lnTo>
                    <a:pt x="306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54f53"/>
                </a:gs>
                <a:gs pos="50000">
                  <a:srgbClr val="97adb5"/>
                </a:gs>
                <a:gs pos="100000">
                  <a:srgbClr val="454f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17" name="未知"/>
            <p:cNvSpPr/>
            <p:nvPr/>
          </p:nvSpPr>
          <p:spPr>
            <a:xfrm>
              <a:off x="6095880" y="4782960"/>
              <a:ext cx="577440" cy="84636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2"/>
                  </a:lnTo>
                  <a:close/>
                </a:path>
              </a:pathLst>
            </a:custGeom>
            <a:gradFill rotWithShape="0">
              <a:gsLst>
                <a:gs pos="0">
                  <a:srgbClr val="0e2d4f"/>
                </a:gs>
                <a:gs pos="50000">
                  <a:srgbClr val="1f63ad"/>
                </a:gs>
                <a:gs pos="100000">
                  <a:srgbClr val="0e2d4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18" name="未知"/>
            <p:cNvSpPr/>
            <p:nvPr/>
          </p:nvSpPr>
          <p:spPr>
            <a:xfrm>
              <a:off x="2592000" y="4788000"/>
              <a:ext cx="4081320" cy="539640"/>
            </a:xfrm>
            <a:custGeom>
              <a:avLst/>
              <a:gdLst/>
              <a:ahLst/>
              <a:rect l="l" t="t" r="r" b="b"/>
              <a:pathLst>
                <a:path w="2180" h="284">
                  <a:moveTo>
                    <a:pt x="187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2180" y="0"/>
                  </a:lnTo>
                  <a:lnTo>
                    <a:pt x="1872" y="284"/>
                  </a:lnTo>
                  <a:close/>
                </a:path>
              </a:pathLst>
            </a:custGeom>
            <a:solidFill>
              <a:srgbClr val="1f63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19" name="未知"/>
            <p:cNvSpPr/>
            <p:nvPr/>
          </p:nvSpPr>
          <p:spPr>
            <a:xfrm>
              <a:off x="3184200" y="2440080"/>
              <a:ext cx="1838160" cy="2722320"/>
            </a:xfrm>
            <a:custGeom>
              <a:avLst/>
              <a:gdLst/>
              <a:ahLst/>
              <a:rect l="l" t="t" r="r" b="b"/>
              <a:pathLst>
                <a:path w="1824" h="2648">
                  <a:moveTo>
                    <a:pt x="0" y="2648"/>
                  </a:moveTo>
                  <a:lnTo>
                    <a:pt x="12" y="2464"/>
                  </a:lnTo>
                  <a:lnTo>
                    <a:pt x="32" y="2288"/>
                  </a:lnTo>
                  <a:lnTo>
                    <a:pt x="56" y="2120"/>
                  </a:lnTo>
                  <a:lnTo>
                    <a:pt x="88" y="1960"/>
                  </a:lnTo>
                  <a:lnTo>
                    <a:pt x="124" y="1808"/>
                  </a:lnTo>
                  <a:lnTo>
                    <a:pt x="166" y="1662"/>
                  </a:lnTo>
                  <a:lnTo>
                    <a:pt x="212" y="1524"/>
                  </a:lnTo>
                  <a:lnTo>
                    <a:pt x="262" y="1394"/>
                  </a:lnTo>
                  <a:lnTo>
                    <a:pt x="316" y="1270"/>
                  </a:lnTo>
                  <a:lnTo>
                    <a:pt x="372" y="1154"/>
                  </a:lnTo>
                  <a:lnTo>
                    <a:pt x="430" y="1044"/>
                  </a:lnTo>
                  <a:lnTo>
                    <a:pt x="490" y="942"/>
                  </a:lnTo>
                  <a:lnTo>
                    <a:pt x="550" y="846"/>
                  </a:lnTo>
                  <a:lnTo>
                    <a:pt x="612" y="758"/>
                  </a:lnTo>
                  <a:lnTo>
                    <a:pt x="672" y="674"/>
                  </a:lnTo>
                  <a:lnTo>
                    <a:pt x="734" y="598"/>
                  </a:lnTo>
                  <a:lnTo>
                    <a:pt x="792" y="528"/>
                  </a:lnTo>
                  <a:lnTo>
                    <a:pt x="850" y="464"/>
                  </a:lnTo>
                  <a:lnTo>
                    <a:pt x="906" y="408"/>
                  </a:lnTo>
                  <a:lnTo>
                    <a:pt x="960" y="356"/>
                  </a:lnTo>
                  <a:lnTo>
                    <a:pt x="1010" y="310"/>
                  </a:lnTo>
                  <a:lnTo>
                    <a:pt x="1056" y="270"/>
                  </a:lnTo>
                  <a:lnTo>
                    <a:pt x="1096" y="236"/>
                  </a:lnTo>
                  <a:lnTo>
                    <a:pt x="1134" y="208"/>
                  </a:lnTo>
                  <a:lnTo>
                    <a:pt x="1164" y="184"/>
                  </a:lnTo>
                  <a:lnTo>
                    <a:pt x="1190" y="166"/>
                  </a:lnTo>
                  <a:lnTo>
                    <a:pt x="1208" y="154"/>
                  </a:lnTo>
                  <a:lnTo>
                    <a:pt x="1220" y="146"/>
                  </a:lnTo>
                  <a:lnTo>
                    <a:pt x="1224" y="144"/>
                  </a:lnTo>
                  <a:lnTo>
                    <a:pt x="848" y="0"/>
                  </a:lnTo>
                  <a:lnTo>
                    <a:pt x="1728" y="56"/>
                  </a:lnTo>
                  <a:lnTo>
                    <a:pt x="1824" y="480"/>
                  </a:lnTo>
                  <a:lnTo>
                    <a:pt x="1568" y="328"/>
                  </a:lnTo>
                  <a:lnTo>
                    <a:pt x="1564" y="328"/>
                  </a:lnTo>
                  <a:lnTo>
                    <a:pt x="1554" y="332"/>
                  </a:lnTo>
                  <a:lnTo>
                    <a:pt x="1538" y="338"/>
                  </a:lnTo>
                  <a:lnTo>
                    <a:pt x="1514" y="346"/>
                  </a:lnTo>
                  <a:lnTo>
                    <a:pt x="1486" y="356"/>
                  </a:lnTo>
                  <a:lnTo>
                    <a:pt x="1452" y="370"/>
                  </a:lnTo>
                  <a:lnTo>
                    <a:pt x="1412" y="388"/>
                  </a:lnTo>
                  <a:lnTo>
                    <a:pt x="1370" y="410"/>
                  </a:lnTo>
                  <a:lnTo>
                    <a:pt x="1322" y="436"/>
                  </a:lnTo>
                  <a:lnTo>
                    <a:pt x="1270" y="466"/>
                  </a:lnTo>
                  <a:lnTo>
                    <a:pt x="1216" y="500"/>
                  </a:lnTo>
                  <a:lnTo>
                    <a:pt x="1158" y="540"/>
                  </a:lnTo>
                  <a:lnTo>
                    <a:pt x="1098" y="584"/>
                  </a:lnTo>
                  <a:lnTo>
                    <a:pt x="1034" y="636"/>
                  </a:lnTo>
                  <a:lnTo>
                    <a:pt x="970" y="692"/>
                  </a:lnTo>
                  <a:lnTo>
                    <a:pt x="904" y="756"/>
                  </a:lnTo>
                  <a:lnTo>
                    <a:pt x="836" y="824"/>
                  </a:lnTo>
                  <a:lnTo>
                    <a:pt x="770" y="900"/>
                  </a:lnTo>
                  <a:lnTo>
                    <a:pt x="700" y="984"/>
                  </a:lnTo>
                  <a:lnTo>
                    <a:pt x="632" y="1076"/>
                  </a:lnTo>
                  <a:lnTo>
                    <a:pt x="566" y="1174"/>
                  </a:lnTo>
                  <a:lnTo>
                    <a:pt x="498" y="1280"/>
                  </a:lnTo>
                  <a:lnTo>
                    <a:pt x="434" y="1394"/>
                  </a:lnTo>
                  <a:lnTo>
                    <a:pt x="370" y="1518"/>
                  </a:lnTo>
                  <a:lnTo>
                    <a:pt x="308" y="1650"/>
                  </a:lnTo>
                  <a:lnTo>
                    <a:pt x="248" y="1792"/>
                  </a:lnTo>
                  <a:lnTo>
                    <a:pt x="192" y="1944"/>
                  </a:lnTo>
                  <a:lnTo>
                    <a:pt x="138" y="2104"/>
                  </a:lnTo>
                  <a:lnTo>
                    <a:pt x="88" y="2274"/>
                  </a:lnTo>
                  <a:lnTo>
                    <a:pt x="42" y="2456"/>
                  </a:lnTo>
                  <a:lnTo>
                    <a:pt x="0" y="2648"/>
                  </a:lnTo>
                  <a:close/>
                </a:path>
              </a:pathLst>
            </a:custGeom>
            <a:gradFill rotWithShape="0">
              <a:gsLst>
                <a:gs pos="0">
                  <a:srgbClr val="d11364"/>
                </a:gs>
                <a:gs pos="100000">
                  <a:srgbClr val="600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79600" y="2827440"/>
              <a:ext cx="2766960" cy="304560"/>
            </a:xfrm>
            <a:prstGeom prst="rect">
              <a:avLst/>
            </a:prstGeom>
            <a:gradFill rotWithShape="0">
              <a:gsLst>
                <a:gs pos="0">
                  <a:srgbClr val="975e01"/>
                </a:gs>
                <a:gs pos="50000">
                  <a:srgbClr val="d28302"/>
                </a:gs>
                <a:gs pos="100000">
                  <a:srgbClr val="975e0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244760" y="3657600"/>
              <a:ext cx="3015720" cy="298440"/>
            </a:xfrm>
            <a:prstGeom prst="rect">
              <a:avLst/>
            </a:prstGeom>
            <a:gradFill rotWithShape="0">
              <a:gsLst>
                <a:gs pos="0">
                  <a:srgbClr val="2b733a"/>
                </a:gs>
                <a:gs pos="50000">
                  <a:srgbClr val="3ca051"/>
                </a:gs>
                <a:gs pos="100000">
                  <a:srgbClr val="2b733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2" name="未知"/>
            <p:cNvSpPr/>
            <p:nvPr/>
          </p:nvSpPr>
          <p:spPr>
            <a:xfrm>
              <a:off x="3419280" y="3949560"/>
              <a:ext cx="3833280" cy="544680"/>
            </a:xfrm>
            <a:custGeom>
              <a:avLst/>
              <a:gdLst/>
              <a:ahLst/>
              <a:rect l="l" t="t" r="r" b="b"/>
              <a:pathLst>
                <a:path w="2048" h="286">
                  <a:moveTo>
                    <a:pt x="1742" y="286"/>
                  </a:moveTo>
                  <a:lnTo>
                    <a:pt x="0" y="286"/>
                  </a:lnTo>
                  <a:lnTo>
                    <a:pt x="446" y="0"/>
                  </a:lnTo>
                  <a:lnTo>
                    <a:pt x="2048" y="0"/>
                  </a:lnTo>
                  <a:lnTo>
                    <a:pt x="1742" y="286"/>
                  </a:lnTo>
                  <a:close/>
                </a:path>
              </a:pathLst>
            </a:custGeom>
            <a:solidFill>
              <a:srgbClr val="97ad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422520" y="4492800"/>
              <a:ext cx="3263400" cy="298440"/>
            </a:xfrm>
            <a:prstGeom prst="rect">
              <a:avLst/>
            </a:prstGeom>
            <a:gradFill rotWithShape="0">
              <a:gsLst>
                <a:gs pos="0">
                  <a:srgbClr val="6d7d82"/>
                </a:gs>
                <a:gs pos="50000">
                  <a:srgbClr val="97adb5"/>
                </a:gs>
                <a:gs pos="100000">
                  <a:srgbClr val="6d7d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590920" y="5329080"/>
              <a:ext cx="3512880" cy="297000"/>
            </a:xfrm>
            <a:prstGeom prst="rect">
              <a:avLst/>
            </a:prstGeom>
            <a:gradFill rotWithShape="0">
              <a:gsLst>
                <a:gs pos="0">
                  <a:srgbClr val="16477d"/>
                </a:gs>
                <a:gs pos="50000">
                  <a:srgbClr val="1f63ad"/>
                </a:gs>
                <a:gs pos="100000">
                  <a:srgbClr val="16477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2286000" y="1676520"/>
            <a:ext cx="4495320" cy="4514400"/>
            <a:chOff x="2286000" y="1676520"/>
            <a:chExt cx="4495320" cy="4514400"/>
          </a:xfrm>
        </p:grpSpPr>
        <p:sp>
          <p:nvSpPr>
            <p:cNvPr id="227" name="Puzzle3"/>
            <p:cNvSpPr/>
            <p:nvPr/>
          </p:nvSpPr>
          <p:spPr>
            <a:xfrm>
              <a:off x="4474800" y="1676520"/>
              <a:ext cx="1767240" cy="2399040"/>
            </a:xfrm>
            <a:prstGeom prst="pie">
              <a:avLst/>
            </a:prstGeom>
            <a:gradFill rotWithShape="0">
              <a:gsLst>
                <a:gs pos="0">
                  <a:srgbClr val="133e6d"/>
                </a:gs>
                <a:gs pos="100000">
                  <a:srgbClr val="1f63ad"/>
                </a:gs>
              </a:gsLst>
              <a:lin ang="5400000"/>
            </a:gradFill>
            <a:ln w="57240">
              <a:solidFill>
                <a:srgbClr val="ffffff"/>
              </a:solidFill>
              <a:miter/>
            </a:ln>
            <a:effectLst>
              <a:outerShdw dist="134955" dir="247288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8" name="Puzzle2"/>
            <p:cNvSpPr/>
            <p:nvPr/>
          </p:nvSpPr>
          <p:spPr>
            <a:xfrm>
              <a:off x="3961080" y="3424320"/>
              <a:ext cx="2820240" cy="2185200"/>
            </a:xfrm>
            <a:prstGeom prst="pie">
              <a:avLst/>
            </a:prstGeom>
            <a:gradFill rotWithShape="0">
              <a:gsLst>
                <a:gs pos="0">
                  <a:srgbClr val="e9c58b"/>
                </a:gs>
                <a:gs pos="100000">
                  <a:srgbClr val="d28302"/>
                </a:gs>
              </a:gsLst>
              <a:lin ang="5400000"/>
            </a:gradFill>
            <a:ln w="57240">
              <a:solidFill>
                <a:srgbClr val="ffffff"/>
              </a:solidFill>
              <a:miter/>
            </a:ln>
            <a:effectLst>
              <a:outerShdw dist="134955" dir="247288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9" name="Puzzle4"/>
            <p:cNvSpPr/>
            <p:nvPr/>
          </p:nvSpPr>
          <p:spPr>
            <a:xfrm>
              <a:off x="2869560" y="3397320"/>
              <a:ext cx="1700280" cy="2793600"/>
            </a:xfrm>
            <a:prstGeom prst="pie">
              <a:avLst/>
            </a:prstGeom>
            <a:gradFill rotWithShape="0">
              <a:gsLst>
                <a:gs pos="0">
                  <a:srgbClr val="9acda4"/>
                </a:gs>
                <a:gs pos="100000">
                  <a:srgbClr val="3ca051"/>
                </a:gs>
              </a:gsLst>
              <a:lin ang="8100000"/>
            </a:gradFill>
            <a:ln w="57240">
              <a:solidFill>
                <a:srgbClr val="ffffff"/>
              </a:solidFill>
              <a:miter/>
            </a:ln>
            <a:effectLst>
              <a:outerShdw dist="134955" dir="247288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0" name="Puzzle1"/>
            <p:cNvSpPr/>
            <p:nvPr/>
          </p:nvSpPr>
          <p:spPr>
            <a:xfrm>
              <a:off x="2286000" y="2402280"/>
              <a:ext cx="2855520" cy="1665000"/>
            </a:xfrm>
            <a:prstGeom prst="pie">
              <a:avLst/>
            </a:prstGeom>
            <a:gradFill rotWithShape="0">
              <a:gsLst>
                <a:gs pos="0">
                  <a:srgbClr val="454f53"/>
                </a:gs>
                <a:gs pos="100000">
                  <a:srgbClr val="97adb5"/>
                </a:gs>
              </a:gsLst>
              <a:lin ang="13500000"/>
            </a:gradFill>
            <a:ln w="57240">
              <a:solidFill>
                <a:srgbClr val="ffffff"/>
              </a:solidFill>
              <a:miter/>
            </a:ln>
            <a:effectLst>
              <a:outerShdw dist="134955" dir="247288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31" name=""/>
          <p:cNvSpPr/>
          <p:nvPr/>
        </p:nvSpPr>
        <p:spPr>
          <a:xfrm>
            <a:off x="6477840" y="4191120"/>
            <a:ext cx="174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838080" y="358128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438280" y="167652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267080" y="5867280"/>
            <a:ext cx="281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6T06:30:40Z</dcterms:created>
  <dc:creator>Sung Ha, Park</dc:creator>
  <dc:description/>
  <dc:language>en-US</dc:language>
  <cp:lastModifiedBy>Sung Ha, Park</cp:lastModifiedBy>
  <dcterms:modified xsi:type="dcterms:W3CDTF">2014-10-23T16:03:39Z</dcterms:modified>
  <cp:revision>40</cp:revision>
  <dc:subject/>
  <dc:title>PowerPoint 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55</vt:lpwstr>
  </property>
</Properties>
</file>