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EE75-86B2-46F7-97C1-967A3FD05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228A-CABA-4717-AA92-A57D69E4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BFAA-A4E7-410E-821C-FB134B60F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08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32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836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08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32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40F0-EE40-4B36-9652-21E695EB7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CBD4-B5CC-4526-B326-AB5D60ED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44DF-6E73-48A9-AA46-21A38B1F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B61D-EA10-4CC1-8B06-C5AB778B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66FE-C01B-4D27-84B3-62AE784B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DD6D-5817-4074-9CF9-C151555C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6B71-A712-4BCC-8ED0-48DA2B40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5F24-7966-4B96-89AC-F06A3CB8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57D0-E1B6-4879-B22A-678DF109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5219640" y="1716120"/>
            <a:ext cx="1297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3492360" y="2492280"/>
            <a:ext cx="1297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2611440" y="3013200"/>
            <a:ext cx="2089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44313"/>
                </a:srgbClr>
              </a:gs>
              <a:gs pos="100000">
                <a:srgbClr val="ffffff">
                  <a:alpha val="9725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A3FC-8145-4792-A3D6-8997FB39D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TextBox 10" descr=""/>
          <p:cNvPicPr/>
          <p:nvPr/>
        </p:nvPicPr>
        <p:blipFill>
          <a:blip r:embed="rId3"/>
          <a:stretch/>
        </p:blipFill>
        <p:spPr>
          <a:xfrm>
            <a:off x="6334200" y="5522760"/>
            <a:ext cx="2260440" cy="43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4" descr="未标题-1.png"/>
          <p:cNvPicPr/>
          <p:nvPr/>
        </p:nvPicPr>
        <p:blipFill>
          <a:blip r:embed="rId2"/>
          <a:stretch/>
        </p:blipFill>
        <p:spPr>
          <a:xfrm>
            <a:off x="3500280" y="2857680"/>
            <a:ext cx="1262160" cy="1261800"/>
          </a:xfrm>
          <a:prstGeom prst="rect">
            <a:avLst/>
          </a:prstGeom>
          <a:ln w="0">
            <a:noFill/>
          </a:ln>
        </p:spPr>
      </p:pic>
      <p:sp>
        <p:nvSpPr>
          <p:cNvPr id="47" name="矩形 7"/>
          <p:cNvSpPr/>
          <p:nvPr/>
        </p:nvSpPr>
        <p:spPr>
          <a:xfrm>
            <a:off x="146160" y="3286080"/>
            <a:ext cx="379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uhaus 93"/>
                <a:ea typeface="汉鼎简长美黑"/>
              </a:rPr>
              <a:t>Splashing so carefree as a child come pou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142920" y="5281560"/>
            <a:ext cx="6715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not yet forgiven the crow for depriving him of the young magpies, so he carried the crow to the edge 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precipice and threw him over, intending to go round by a path he knew and pick him up at the botto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t no sooner had the fox let the crow go than he soared up into the air, and hovering just out 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9" descr="gucci-brand-10.png"/>
          <p:cNvPicPr/>
          <p:nvPr/>
        </p:nvPicPr>
        <p:blipFill>
          <a:blip r:embed="rId3"/>
          <a:stretch/>
        </p:blipFill>
        <p:spPr>
          <a:xfrm>
            <a:off x="428760" y="785880"/>
            <a:ext cx="750600" cy="750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679800" y="6248520"/>
            <a:ext cx="23724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华文新魏"/>
                <a:ea typeface="华文新魏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1" descr="未标题-1.png"/>
          <p:cNvPicPr/>
          <p:nvPr/>
        </p:nvPicPr>
        <p:blipFill>
          <a:blip r:embed="rId2"/>
          <a:stretch/>
        </p:blipFill>
        <p:spPr>
          <a:xfrm>
            <a:off x="5786280" y="2786040"/>
            <a:ext cx="1262160" cy="1262160"/>
          </a:xfrm>
          <a:prstGeom prst="rect">
            <a:avLst/>
          </a:prstGeom>
          <a:ln w="0">
            <a:noFill/>
          </a:ln>
        </p:spPr>
      </p:pic>
      <p:sp>
        <p:nvSpPr>
          <p:cNvPr id="52" name="矩形 12"/>
          <p:cNvSpPr/>
          <p:nvPr/>
        </p:nvSpPr>
        <p:spPr>
          <a:xfrm>
            <a:off x="357120" y="357120"/>
            <a:ext cx="828684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ough deeply grieved for the loss of his little one, found some comfort in the thought that only a bird of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ordinary wisdom would have dreamed of saving the rest by the sacrifice of the one. But what do you th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k happened? Why, a few days later, Michael the fox might have been seen sitting under the very same 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e, and a dreadful pang shot through the heart of the magpie as he peeped at him from a hole in the n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 sat on the edge of his nest, his head drooping and his feathers all ruffled, looking the picture of mis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deed he was so different from the gay, jaunty magpie whom every creature in the forest knew, that a c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 who was flying past, stopped to inquire what was the matter. 'Where are the two young ones who are 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next morning the fox came to his usual place in front of the tree, for he was hungry, and a nice yo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gpie would have suited him very well for dinner. But this time there was no cowering, timid magpie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 his bidding, but a bird with his head erect and a determined voi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3"/>
          <p:cNvSpPr/>
          <p:nvPr/>
        </p:nvSpPr>
        <p:spPr>
          <a:xfrm>
            <a:off x="858960" y="3214800"/>
            <a:ext cx="50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uhaus 93"/>
                <a:ea typeface="汉鼎简长美黑"/>
              </a:rPr>
              <a:t>The Lion commanded  Him immediately    Tell him the c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6"/>
          <p:cNvSpPr/>
          <p:nvPr/>
        </p:nvSpPr>
        <p:spPr>
          <a:xfrm>
            <a:off x="428760" y="4643280"/>
            <a:ext cx="2500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But no sooner had the fox let the crow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nd hovering just out of teach of his 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h, fox! you know well how to catch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tween his legs, the fox slunk into f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图片 17" descr="gucci-brand-10.png"/>
          <p:cNvPicPr/>
          <p:nvPr/>
        </p:nvPicPr>
        <p:blipFill>
          <a:blip r:embed="rId3"/>
          <a:stretch/>
        </p:blipFill>
        <p:spPr>
          <a:xfrm>
            <a:off x="4000680" y="5643720"/>
            <a:ext cx="750600" cy="75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5218200" y="3192480"/>
            <a:ext cx="379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uhaus 93"/>
                <a:ea typeface="汉鼎简长美黑"/>
              </a:rPr>
              <a:t>Splashing so carefree as a child come pou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9" descr="gucci-brand-10.png"/>
          <p:cNvPicPr/>
          <p:nvPr/>
        </p:nvPicPr>
        <p:blipFill>
          <a:blip r:embed="rId2"/>
          <a:stretch/>
        </p:blipFill>
        <p:spPr>
          <a:xfrm>
            <a:off x="4000680" y="3000240"/>
            <a:ext cx="750600" cy="750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663920" y="61531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3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12:41:07Z</dcterms:created>
  <dc:creator/>
  <dc:description/>
  <dc:language>en-US</dc:language>
  <cp:lastModifiedBy>alex</cp:lastModifiedBy>
  <cp:lastPrinted>1899-12-30T00:00:00Z</cp:lastPrinted>
  <dcterms:modified xsi:type="dcterms:W3CDTF">2014-06-08T05:21:42Z</dcterms:modified>
  <cp:revision>5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