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8FF-FC92-4852-9D2F-5ADCF0A3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D24-6472-4DCD-B232-709A667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29B-D4A0-415A-A959-26A82BCD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371-1AAC-4789-AFCB-94E8EACB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DE5-0A53-4315-AFD4-7CF7F78A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011-6E0B-46DB-BFF5-8408075A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590-7B62-4927-8358-9280541B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E82-F4DE-44EE-A661-D5943BB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B4A-9986-491F-BFF8-CDC4DBE5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FD9-1946-4841-B45A-49B53AC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B6E-0FC0-463D-9F98-72730E9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70C-5812-4261-9EF7-A296594E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9C2D-B42E-46E4-8DC3-27AE0C76186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7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7a8e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708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439040" y="4732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803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184200" y="43718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9:15:13Z</dcterms:created>
  <dc:creator/>
  <dc:description/>
  <dc:language>en-US</dc:language>
  <cp:lastModifiedBy>Ric6000</cp:lastModifiedBy>
  <cp:lastPrinted>1899-12-30T00:00:00Z</cp:lastPrinted>
  <dcterms:modified xsi:type="dcterms:W3CDTF">2014-05-14T14:44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