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BC81-0097-4591-B0CC-3919FC1C4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3257-46F9-4447-A3AD-4D9D3226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600D-F9C4-4A03-95D9-B03AAAAA2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FFF9-34F2-4170-89F5-377C8CA39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F86A-8102-4C41-BCE0-97FB1C158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56DD-50D9-4E07-BEC3-89BB36D4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FFF3-E32A-42CD-A99B-41730318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2DE5-3124-4FCC-B6B1-885CFBDF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DAFF-B6F3-442A-B604-FAFB51F0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002E-08BE-4C1C-900D-8FEC242A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DC7B-CC8E-4003-B794-2D8BFF82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B035-3D12-4DD8-92E5-B726E61D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DB20-708F-47C6-9C0E-0C4FFD99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9B24-146D-461A-9614-C0BBF56F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CC1F-BA7F-4DAD-B567-B82A208B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D2CD-D27A-409E-9F6B-707EE578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5746-B47D-43E0-8C38-64B0DB9D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953C-031A-409B-9809-9ACF34EA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12EB-714B-4975-BFD3-761A7B51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8751-1864-4753-BF22-EBEC7252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330D-F2C9-4C89-9F89-CEE9CC55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AF43-1FF0-4DFC-A240-158FD081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2145-141D-44D3-8472-BBA1D8BD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8C8E-518F-4C6C-879F-9C40663B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18760" y="6322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86000" y="6322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614640" y="6322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8A0B-0DA6-48B3-AFCF-4511A8B0D9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2994-522C-4E90-8703-5AF00A196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48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单击此处添加标题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347920" y="3428640"/>
            <a:ext cx="64008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8048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单击此处添加标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37280" y="2514600"/>
            <a:ext cx="201312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999"/>
              </a:gs>
              <a:gs pos="50000">
                <a:srgbClr val="ff5050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Planning &amp; 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18040" y="2498760"/>
            <a:ext cx="196200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999"/>
              </a:gs>
              <a:gs pos="50000">
                <a:srgbClr val="ff5050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Supporting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89560" y="1782720"/>
            <a:ext cx="205272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ccff"/>
              </a:gs>
              <a:gs pos="50000">
                <a:srgbClr val="0066cc"/>
              </a:gs>
              <a:gs pos="100000">
                <a:srgbClr val="99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President &amp; C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88" idx="2"/>
          </p:cNvCxnSpPr>
          <p:nvPr/>
        </p:nvCxnSpPr>
        <p:spPr>
          <a:xfrm flipH="1" flipV="1">
            <a:off x="6411240" y="1752120"/>
            <a:ext cx="5400" cy="442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90" name=""/>
          <p:cNvCxnSpPr>
            <a:stCxn id="88" idx="2"/>
          </p:cNvCxnSpPr>
          <p:nvPr/>
        </p:nvCxnSpPr>
        <p:spPr>
          <a:xfrm flipH="1" flipV="1">
            <a:off x="6411240" y="1752120"/>
            <a:ext cx="5400" cy="442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91" name=""/>
          <p:cNvCxnSpPr>
            <a:stCxn id="88" idx="2"/>
          </p:cNvCxnSpPr>
          <p:nvPr/>
        </p:nvCxnSpPr>
        <p:spPr>
          <a:xfrm flipH="1" flipV="1">
            <a:off x="6411240" y="1752120"/>
            <a:ext cx="5400" cy="442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92" name=""/>
          <p:cNvCxnSpPr/>
          <p:nvPr/>
        </p:nvCxnSpPr>
        <p:spPr>
          <a:xfrm>
            <a:off x="6735240" y="1628280"/>
            <a:ext cx="1080" cy="1080"/>
          </a:xfrm>
          <a:prstGeom prst="straightConnector1">
            <a:avLst/>
          </a:prstGeom>
          <a:ln w="9360">
            <a:solidFill>
              <a:srgbClr val="969696"/>
            </a:solidFill>
            <a:miter/>
          </a:ln>
        </p:spPr>
      </p:cxnSp>
      <p:cxnSp>
        <p:nvCxnSpPr>
          <p:cNvPr id="93" name=""/>
          <p:cNvCxnSpPr/>
          <p:nvPr/>
        </p:nvCxnSpPr>
        <p:spPr>
          <a:xfrm>
            <a:off x="6735240" y="1628280"/>
            <a:ext cx="1080" cy="1080"/>
          </a:xfrm>
          <a:prstGeom prst="straightConnector1">
            <a:avLst/>
          </a:prstGeom>
          <a:ln w="9360">
            <a:solidFill>
              <a:srgbClr val="969696"/>
            </a:solidFill>
            <a:miter/>
          </a:ln>
        </p:spPr>
      </p:cxnSp>
      <p:sp>
        <p:nvSpPr>
          <p:cNvPr id="94" name=""/>
          <p:cNvSpPr/>
          <p:nvPr/>
        </p:nvSpPr>
        <p:spPr>
          <a:xfrm>
            <a:off x="826920" y="3573360"/>
            <a:ext cx="1374840" cy="1739880"/>
          </a:xfrm>
          <a:custGeom>
            <a:avLst/>
            <a:gdLst>
              <a:gd name="textAreaLeft" fmla="*/ 42840 w 1374840"/>
              <a:gd name="textAreaRight" fmla="*/ 1332000 w 1374840"/>
              <a:gd name="textAreaTop" fmla="*/ 42840 h 1739880"/>
              <a:gd name="textAreaBottom" fmla="*/ 1697040 h 1739880"/>
            </a:gdLst>
            <a:ahLst/>
            <a:rect l="textAreaLeft" t="textAreaTop" r="textAreaRight" b="textAreaBottom"/>
            <a:pathLst>
              <a:path w="21600" h="27334">
                <a:moveTo>
                  <a:pt x="2311" y="0"/>
                </a:moveTo>
                <a:arcTo wR="2311" hR="2311" stAng="16200000" swAng="-5400000"/>
                <a:lnTo>
                  <a:pt x="0" y="25023"/>
                </a:lnTo>
                <a:arcTo wR="2311" hR="2311" stAng="10800000" swAng="-5400000"/>
                <a:lnTo>
                  <a:pt x="19289" y="27334"/>
                </a:lnTo>
                <a:arcTo wR="2311" hR="2311" stAng="5400000" swAng="-5400000"/>
                <a:lnTo>
                  <a:pt x="21600" y="2311"/>
                </a:lnTo>
                <a:arcTo wR="2311" hR="2311" stAng="0" swAng="-5400000"/>
                <a:close/>
              </a:path>
            </a:pathLst>
          </a:custGeom>
          <a:gradFill rotWithShape="0">
            <a:gsLst>
              <a:gs pos="0">
                <a:srgbClr val="c0c0c0">
                  <a:alpha val="70196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CS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Biz 1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Biz 2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Biz 3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16240" y="3564000"/>
            <a:ext cx="1374840" cy="1739880"/>
          </a:xfrm>
          <a:custGeom>
            <a:avLst/>
            <a:gdLst>
              <a:gd name="textAreaLeft" fmla="*/ 42840 w 1374840"/>
              <a:gd name="textAreaRight" fmla="*/ 1332000 w 1374840"/>
              <a:gd name="textAreaTop" fmla="*/ 42840 h 1739880"/>
              <a:gd name="textAreaBottom" fmla="*/ 1697040 h 1739880"/>
            </a:gdLst>
            <a:ahLst/>
            <a:rect l="textAreaLeft" t="textAreaTop" r="textAreaRight" b="textAreaBottom"/>
            <a:pathLst>
              <a:path w="21600" h="27334">
                <a:moveTo>
                  <a:pt x="2311" y="0"/>
                </a:moveTo>
                <a:arcTo wR="2311" hR="2311" stAng="16200000" swAng="-5400000"/>
                <a:lnTo>
                  <a:pt x="0" y="25023"/>
                </a:lnTo>
                <a:arcTo wR="2311" hR="2311" stAng="10800000" swAng="-5400000"/>
                <a:lnTo>
                  <a:pt x="19289" y="27334"/>
                </a:lnTo>
                <a:arcTo wR="2311" hR="2311" stAng="5400000" swAng="-5400000"/>
                <a:lnTo>
                  <a:pt x="21600" y="2311"/>
                </a:lnTo>
                <a:arcTo wR="2311" hR="2311" stAng="0" swAng="-5400000"/>
                <a:close/>
              </a:path>
            </a:pathLst>
          </a:custGeom>
          <a:gradFill rotWithShape="0">
            <a:gsLst>
              <a:gs pos="0">
                <a:srgbClr val="c0c0c0">
                  <a:alpha val="70196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Sales 1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Sales 2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SI System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SI Develop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14920" y="3564000"/>
            <a:ext cx="1374480" cy="1739880"/>
          </a:xfrm>
          <a:custGeom>
            <a:avLst/>
            <a:gdLst>
              <a:gd name="textAreaLeft" fmla="*/ 42840 w 1374480"/>
              <a:gd name="textAreaRight" fmla="*/ 1331640 w 1374480"/>
              <a:gd name="textAreaTop" fmla="*/ 42840 h 1739880"/>
              <a:gd name="textAreaBottom" fmla="*/ 1697040 h 1739880"/>
            </a:gdLst>
            <a:ahLst/>
            <a:rect l="textAreaLeft" t="textAreaTop" r="textAreaRight" b="textAreaBottom"/>
            <a:pathLst>
              <a:path w="21600" h="27341">
                <a:moveTo>
                  <a:pt x="2311" y="0"/>
                </a:moveTo>
                <a:arcTo wR="2311" hR="2311" stAng="16200000" swAng="-5400000"/>
                <a:lnTo>
                  <a:pt x="0" y="25030"/>
                </a:lnTo>
                <a:arcTo wR="2311" hR="2311" stAng="10800000" swAng="-5400000"/>
                <a:lnTo>
                  <a:pt x="19289" y="27341"/>
                </a:lnTo>
                <a:arcTo wR="2311" hR="2311" stAng="5400000" swAng="-5400000"/>
                <a:lnTo>
                  <a:pt x="21600" y="2311"/>
                </a:lnTo>
                <a:arcTo wR="2311" hR="2311" stAng="0" swAng="-5400000"/>
                <a:close/>
              </a:path>
            </a:pathLst>
          </a:custGeom>
          <a:gradFill rotWithShape="0">
            <a:gsLst>
              <a:gs pos="0">
                <a:srgbClr val="c0c0c0">
                  <a:alpha val="70196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Sales 1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Sales 2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Automation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Network 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03880" y="3554280"/>
            <a:ext cx="1373040" cy="1739880"/>
          </a:xfrm>
          <a:custGeom>
            <a:avLst/>
            <a:gdLst>
              <a:gd name="textAreaLeft" fmla="*/ 42840 w 1373040"/>
              <a:gd name="textAreaRight" fmla="*/ 1330200 w 1373040"/>
              <a:gd name="textAreaTop" fmla="*/ 42840 h 1739880"/>
              <a:gd name="textAreaBottom" fmla="*/ 1697040 h 1739880"/>
            </a:gdLst>
            <a:ahLst/>
            <a:rect l="textAreaLeft" t="textAreaTop" r="textAreaRight" b="textAreaBottom"/>
            <a:pathLst>
              <a:path w="21600" h="27369">
                <a:moveTo>
                  <a:pt x="2311" y="0"/>
                </a:moveTo>
                <a:arcTo wR="2311" hR="2311" stAng="16200000" swAng="-5400000"/>
                <a:lnTo>
                  <a:pt x="0" y="25058"/>
                </a:lnTo>
                <a:arcTo wR="2311" hR="2311" stAng="10800000" swAng="-5400000"/>
                <a:lnTo>
                  <a:pt x="19289" y="27369"/>
                </a:lnTo>
                <a:arcTo wR="2311" hR="2311" stAng="5400000" swAng="-5400000"/>
                <a:lnTo>
                  <a:pt x="21600" y="2311"/>
                </a:lnTo>
                <a:arcTo wR="2311" hR="2311" stAng="0" swAng="-5400000"/>
                <a:close/>
              </a:path>
            </a:pathLst>
          </a:custGeom>
          <a:gradFill rotWithShape="0">
            <a:gsLst>
              <a:gs pos="0">
                <a:srgbClr val="c0c0c0">
                  <a:alpha val="70196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Consulting 1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Consulting 2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Consulting 3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92840" y="3564000"/>
            <a:ext cx="1373400" cy="1739880"/>
          </a:xfrm>
          <a:custGeom>
            <a:avLst/>
            <a:gdLst>
              <a:gd name="textAreaLeft" fmla="*/ 42840 w 1373400"/>
              <a:gd name="textAreaRight" fmla="*/ 1330560 w 1373400"/>
              <a:gd name="textAreaTop" fmla="*/ 42840 h 1739880"/>
              <a:gd name="textAreaBottom" fmla="*/ 1697040 h 1739880"/>
            </a:gdLst>
            <a:ahLst/>
            <a:rect l="textAreaLeft" t="textAreaTop" r="textAreaRight" b="textAreaBottom"/>
            <a:pathLst>
              <a:path w="21600" h="27362">
                <a:moveTo>
                  <a:pt x="2311" y="0"/>
                </a:moveTo>
                <a:arcTo wR="2311" hR="2311" stAng="16200000" swAng="-5400000"/>
                <a:lnTo>
                  <a:pt x="0" y="25051"/>
                </a:lnTo>
                <a:arcTo wR="2311" hR="2311" stAng="10800000" swAng="-5400000"/>
                <a:lnTo>
                  <a:pt x="19289" y="27362"/>
                </a:lnTo>
                <a:arcTo wR="2311" hR="2311" stAng="5400000" swAng="-5400000"/>
                <a:lnTo>
                  <a:pt x="21600" y="2311"/>
                </a:lnTo>
                <a:arcTo wR="2311" hR="2311" stAng="0" swAng="-5400000"/>
                <a:close/>
              </a:path>
            </a:pathLst>
          </a:custGeom>
          <a:gradFill rotWithShape="0">
            <a:gsLst>
              <a:gs pos="0">
                <a:srgbClr val="c0c0c0">
                  <a:alpha val="70196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eBiz 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Solution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97160" y="3525840"/>
            <a:ext cx="140796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cc00"/>
              </a:gs>
              <a:gs pos="50000">
                <a:srgbClr val="003300"/>
              </a:gs>
              <a:gs pos="100000">
                <a:srgbClr val="99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HY헤드라인M"/>
              </a:rPr>
              <a:t>SI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5200" y="3525840"/>
            <a:ext cx="140832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cc00"/>
              </a:gs>
              <a:gs pos="50000">
                <a:srgbClr val="003300"/>
              </a:gs>
              <a:gs pos="100000">
                <a:srgbClr val="99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HY헤드라인M"/>
              </a:rPr>
              <a:t>INFRA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73640" y="3525840"/>
            <a:ext cx="140976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cc00"/>
              </a:gs>
              <a:gs pos="50000">
                <a:srgbClr val="003300"/>
              </a:gs>
              <a:gs pos="100000">
                <a:srgbClr val="99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Consulting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62600" y="3525840"/>
            <a:ext cx="140976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cc00"/>
              </a:gs>
              <a:gs pos="50000">
                <a:srgbClr val="003300"/>
              </a:gs>
              <a:gs pos="100000">
                <a:srgbClr val="99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HY헤드라인M"/>
              </a:rPr>
              <a:t>R&amp;D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8200" y="3525840"/>
            <a:ext cx="140796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cc00"/>
              </a:gs>
              <a:gs pos="50000">
                <a:srgbClr val="003300"/>
              </a:gs>
              <a:gs pos="100000">
                <a:srgbClr val="99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HY헤드라인M"/>
              </a:rPr>
              <a:t>BSP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未知"/>
          <p:cNvSpPr/>
          <p:nvPr/>
        </p:nvSpPr>
        <p:spPr>
          <a:xfrm>
            <a:off x="1933560" y="3247920"/>
            <a:ext cx="5953320" cy="38160"/>
          </a:xfrm>
          <a:custGeom>
            <a:avLst/>
            <a:gdLst/>
            <a:ahLst/>
            <a:rect l="l" t="t" r="r" b="b"/>
            <a:pathLst>
              <a:path w="3750" h="24">
                <a:moveTo>
                  <a:pt x="0" y="0"/>
                </a:moveTo>
                <a:lnTo>
                  <a:pt x="936" y="12"/>
                </a:lnTo>
                <a:lnTo>
                  <a:pt x="1878" y="12"/>
                </a:lnTo>
                <a:lnTo>
                  <a:pt x="2802" y="24"/>
                </a:lnTo>
                <a:lnTo>
                  <a:pt x="3750" y="12"/>
                </a:lnTo>
              </a:path>
            </a:pathLst>
          </a:custGeom>
          <a:noFill/>
          <a:ln w="9360">
            <a:solidFill>
              <a:srgbClr val="969696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103" idx="0"/>
            <a:endCxn id="104" idx="0"/>
          </p:cNvCxnSpPr>
          <p:nvPr/>
        </p:nvCxnSpPr>
        <p:spPr>
          <a:xfrm flipV="1">
            <a:off x="1512360" y="3247920"/>
            <a:ext cx="421560" cy="278280"/>
          </a:xfrm>
          <a:prstGeom prst="straightConnector1">
            <a:avLst/>
          </a:prstGeom>
          <a:ln w="9360">
            <a:solidFill>
              <a:srgbClr val="969696">
                <a:alpha val="50000"/>
              </a:srgbClr>
            </a:solidFill>
            <a:miter/>
          </a:ln>
        </p:spPr>
      </p:cxnSp>
      <p:cxnSp>
        <p:nvCxnSpPr>
          <p:cNvPr id="106" name=""/>
          <p:cNvCxnSpPr>
            <a:stCxn id="99" idx="0"/>
            <a:endCxn id="104" idx="1"/>
          </p:cNvCxnSpPr>
          <p:nvPr/>
        </p:nvCxnSpPr>
        <p:spPr>
          <a:xfrm flipV="1">
            <a:off x="3002040" y="3266280"/>
            <a:ext cx="418320" cy="259560"/>
          </a:xfrm>
          <a:prstGeom prst="straightConnector1">
            <a:avLst/>
          </a:prstGeom>
          <a:ln w="9360">
            <a:solidFill>
              <a:srgbClr val="969696">
                <a:alpha val="50000"/>
              </a:srgbClr>
            </a:solidFill>
            <a:miter/>
          </a:ln>
        </p:spPr>
      </p:cxnSp>
      <p:cxnSp>
        <p:nvCxnSpPr>
          <p:cNvPr id="107" name=""/>
          <p:cNvCxnSpPr>
            <a:stCxn id="100" idx="0"/>
            <a:endCxn id="104" idx="2"/>
          </p:cNvCxnSpPr>
          <p:nvPr/>
        </p:nvCxnSpPr>
        <p:spPr>
          <a:xfrm flipV="1">
            <a:off x="4509720" y="3266280"/>
            <a:ext cx="405720" cy="259560"/>
          </a:xfrm>
          <a:prstGeom prst="straightConnector1">
            <a:avLst/>
          </a:prstGeom>
          <a:ln w="9360">
            <a:solidFill>
              <a:srgbClr val="969696">
                <a:alpha val="50000"/>
              </a:srgbClr>
            </a:solidFill>
            <a:miter/>
          </a:ln>
        </p:spPr>
      </p:cxnSp>
      <p:cxnSp>
        <p:nvCxnSpPr>
          <p:cNvPr id="108" name=""/>
          <p:cNvCxnSpPr>
            <a:stCxn id="101" idx="0"/>
            <a:endCxn id="104" idx="3"/>
          </p:cNvCxnSpPr>
          <p:nvPr/>
        </p:nvCxnSpPr>
        <p:spPr>
          <a:xfrm flipV="1">
            <a:off x="5978520" y="3285720"/>
            <a:ext cx="403920" cy="240480"/>
          </a:xfrm>
          <a:prstGeom prst="straightConnector1">
            <a:avLst/>
          </a:prstGeom>
          <a:ln w="9360">
            <a:solidFill>
              <a:srgbClr val="969696">
                <a:alpha val="50000"/>
              </a:srgbClr>
            </a:solidFill>
            <a:miter/>
          </a:ln>
        </p:spPr>
      </p:cxnSp>
      <p:cxnSp>
        <p:nvCxnSpPr>
          <p:cNvPr id="109" name=""/>
          <p:cNvCxnSpPr>
            <a:stCxn id="102" idx="0"/>
            <a:endCxn id="104" idx="4"/>
          </p:cNvCxnSpPr>
          <p:nvPr/>
        </p:nvCxnSpPr>
        <p:spPr>
          <a:xfrm flipV="1">
            <a:off x="7467120" y="3266280"/>
            <a:ext cx="420120" cy="259560"/>
          </a:xfrm>
          <a:prstGeom prst="straightConnector1">
            <a:avLst/>
          </a:prstGeom>
          <a:ln w="9360">
            <a:solidFill>
              <a:srgbClr val="969696">
                <a:alpha val="50000"/>
              </a:srgbClr>
            </a:solidFill>
            <a:miter/>
          </a:ln>
        </p:spPr>
      </p:cxnSp>
      <p:cxnSp>
        <p:nvCxnSpPr>
          <p:cNvPr id="110" name=""/>
          <p:cNvCxnSpPr>
            <a:stCxn id="104" idx="5"/>
            <a:endCxn id="88" idx="2"/>
          </p:cNvCxnSpPr>
          <p:nvPr/>
        </p:nvCxnSpPr>
        <p:spPr>
          <a:xfrm flipV="1">
            <a:off x="4914720" y="2193480"/>
            <a:ext cx="1502280" cy="1073520"/>
          </a:xfrm>
          <a:prstGeom prst="straightConnector1">
            <a:avLst/>
          </a:prstGeom>
          <a:ln w="9360">
            <a:solidFill>
              <a:srgbClr val="969696">
                <a:alpha val="50000"/>
              </a:srgbClr>
            </a:solidFill>
            <a:miter/>
          </a:ln>
        </p:spPr>
      </p:cxnSp>
      <p:cxnSp>
        <p:nvCxnSpPr>
          <p:cNvPr id="111" name=""/>
          <p:cNvCxnSpPr>
            <a:stCxn id="87" idx="3"/>
            <a:endCxn id="86" idx="1"/>
          </p:cNvCxnSpPr>
          <p:nvPr/>
        </p:nvCxnSpPr>
        <p:spPr>
          <a:xfrm>
            <a:off x="5179680" y="2705040"/>
            <a:ext cx="957960" cy="16560"/>
          </a:xfrm>
          <a:prstGeom prst="straightConnector1">
            <a:avLst/>
          </a:prstGeom>
          <a:ln w="9360">
            <a:solidFill>
              <a:srgbClr val="969696">
                <a:alpha val="50000"/>
              </a:srgbClr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单击此处添加标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4920" y="1566720"/>
            <a:ext cx="828036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配色方案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格式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设计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配色方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编辑配色方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添加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修改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调整。直接选择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删除或修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体格式的设置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和文本格式的设置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默认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首页主标题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（中文黑体英文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加粗加阴影；副标题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6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（中文黑体英文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加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页标题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6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（中文黑体英文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加粗加阴影；内页内容文字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（宋体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1093680" y="4187880"/>
            <a:ext cx="7276680" cy="1031040"/>
            <a:chOff x="1093680" y="4187880"/>
            <a:chExt cx="7276680" cy="1031040"/>
          </a:xfrm>
        </p:grpSpPr>
        <p:sp>
          <p:nvSpPr>
            <p:cNvPr id="115" name=""/>
            <p:cNvSpPr/>
            <p:nvPr/>
          </p:nvSpPr>
          <p:spPr>
            <a:xfrm>
              <a:off x="1204200" y="4249080"/>
              <a:ext cx="7010280" cy="9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      </a:t>
              </a:r>
              <a:r>
                <a:rPr b="0" lang="zh-TW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eeppt.com- </a:t>
              </a:r>
              <a:r>
                <a:rPr b="0" lang="zh-TW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为您免费提供大量</a:t>
              </a:r>
              <a:r>
                <a:rPr b="0" lang="zh-TW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PPT</a:t>
              </a:r>
              <a:r>
                <a:rPr b="0" lang="zh-TW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模板下载包括</a:t>
              </a:r>
              <a:r>
                <a:rPr b="0" lang="zh-TW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PPT</a:t>
              </a:r>
              <a:r>
                <a:rPr b="0" lang="zh-TW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模板</a:t>
              </a:r>
              <a:r>
                <a:rPr b="0" lang="zh-TW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,PPT</a:t>
              </a:r>
              <a:r>
                <a:rPr b="0" lang="zh-TW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背景图片</a:t>
              </a:r>
              <a:r>
                <a:rPr b="0" lang="zh-TW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,PPT</a:t>
              </a:r>
              <a:r>
                <a:rPr b="0" lang="zh-TW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素材</a:t>
              </a:r>
              <a:r>
                <a:rPr b="0" lang="zh-TW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,PPT</a:t>
              </a:r>
              <a:r>
                <a:rPr b="0" lang="zh-TW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图表</a:t>
              </a:r>
              <a:r>
                <a:rPr b="0" lang="zh-TW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,</a:t>
              </a:r>
              <a:r>
                <a:rPr b="0" lang="zh-TW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动态</a:t>
              </a:r>
              <a:r>
                <a:rPr b="0" lang="zh-TW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PPT</a:t>
              </a:r>
              <a:r>
                <a:rPr b="0" lang="zh-TW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模板</a:t>
              </a:r>
              <a:r>
                <a:rPr b="0" lang="zh-TW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,PowerPoint</a:t>
              </a:r>
              <a:r>
                <a:rPr b="0" lang="zh-TW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模板等各类幻灯片模板。让您轻松制作出精美好看的</a:t>
              </a:r>
              <a:r>
                <a:rPr b="0" lang="zh-TW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PPT</a:t>
              </a:r>
              <a:r>
                <a:rPr b="0" lang="zh-TW" sz="16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模板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93680" y="4187880"/>
              <a:ext cx="727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-33480" y="3789360"/>
            <a:ext cx="9064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分享者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: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PPT模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iterate type="lt">
                                    <p:tmAbs val="116.666999816895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1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3333cc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3333cc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3333cc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08:47:46Z</dcterms:created>
  <dc:creator/>
  <dc:description/>
  <dc:language>en-US</dc:language>
  <cp:lastModifiedBy>MC SYSTEM</cp:lastModifiedBy>
  <cp:lastPrinted>1899-12-30T00:00:00Z</cp:lastPrinted>
  <dcterms:modified xsi:type="dcterms:W3CDTF">2014-05-15T06:55:26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