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1B6-D2D9-43C2-B046-7943DC29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385380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6EA-36C8-4A25-BCB8-F76788F2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836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F51-A01E-450A-B378-EAC3EC10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328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424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328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424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DB7-562B-494C-A52A-E61804C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42C-91D3-4020-A1A3-EEFCFEE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D88-827F-4EF2-A1B6-037DFBF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99C-DF1E-44DE-A2C0-79F736A2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A6D-B0C2-4F7A-BF0B-403B67D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777960"/>
            <a:ext cx="75438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8A9-6B1F-4370-AB1A-72F64016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51A-FA11-45A9-9A38-7926205D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836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BE2-9D8A-42BA-8429-728C75C3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00C-150D-4282-8D54-BD142A3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E6F0-A14A-44B7-9AA9-CA9D83A956BD}" type="datetime">
              <a:rPr b="0" lang="zh-CN" sz="1200" spc="-1" strike="noStrike">
                <a:solidFill>
                  <a:srgbClr val="7f7f7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2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16536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253-120E-4F90-8A30-68C4E3BEBE44}" type="slidenum">
              <a:rPr b="0" lang="zh-CN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9"/>
          <p:cNvSpPr/>
          <p:nvPr/>
        </p:nvSpPr>
        <p:spPr>
          <a:xfrm>
            <a:off x="755640" y="777960"/>
            <a:ext cx="7543800" cy="525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1" marL="457200" indent="4572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2" marL="9144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3" marL="1371600" indent="-4572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4" marL="1828800" indent="-9144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7" name="椭圆 8">
            <a:hlinkClick r:id="" action="ppaction://hlinkshowjump?jump=firstslide"/>
          </p:cNvPr>
          <p:cNvSpPr/>
          <p:nvPr/>
        </p:nvSpPr>
        <p:spPr>
          <a:xfrm>
            <a:off x="8461440" y="3200400"/>
            <a:ext cx="41904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561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2040" y="3428640"/>
            <a:ext cx="7566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Verdana"/>
              </a:rPr>
              <a:t>点击此处添加副标题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5667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dcterms:modified xsi:type="dcterms:W3CDTF">2014-10-23T16:51:47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