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1DE-E1B4-40D9-B2D3-9D294954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DE2-90E0-4ADE-B3C6-DCC46CD1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475-290F-4776-9345-644B1F13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0DF-F699-4526-B7EC-69BED0A0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89A-3BA7-4F2A-B387-863D1C1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ADB-3BBD-4CD9-BC23-E3508BE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55D-F720-4FEE-A7A3-4B65F0C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297-0A99-4341-AE9D-8FA056A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131-75F5-4EF7-869D-C44CC447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4C5-8C31-4882-87B0-0BFFDEBD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662B-375C-405D-81D4-31B1020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4D2-0A37-4609-964C-289A031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8519-A78B-4E17-B37B-A35003D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B38-7983-499C-BC0B-D977B12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C745-ABC8-43DF-B17C-D043B641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B14-BFC8-4D35-801F-C3B9EC1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5DD4-FE1A-44DF-8D65-20A955C9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66D-EA95-4AC1-AF5A-D538CB0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896-E75A-4ADB-BF91-8E77856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FBD-52E7-4615-A592-8B9386FB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899-C4E4-4711-B3C9-4B474B4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2D9-C88F-42A8-B6DB-C326F2C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9B4-C485-4939-AC33-0B8C172E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FDB-E4B4-4189-9AA3-7F3A304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D67-CF21-4D32-91BA-23E1165AE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64000" y="2205000"/>
            <a:ext cx="36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30CB-DFFE-4A45-B9AE-B62603DC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64000" y="2205000"/>
            <a:ext cx="36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5800" y="3717720"/>
            <a:ext cx="367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921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8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53:02Z</dcterms:created>
  <dc:creator>Administrator</dc:creator>
  <dc:description/>
  <dc:language>en-US</dc:language>
  <cp:lastModifiedBy/>
  <cp:lastPrinted>1899-12-30T00:00:00Z</cp:lastPrinted>
  <dcterms:modified xsi:type="dcterms:W3CDTF">2014-06-05T07:45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