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D23-51E1-41D5-99F3-5B1EE490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B92-A7E9-4F7E-B144-3BB6D09B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BD3-F76F-41FB-AED3-2007BEBF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F90-861C-41E3-A155-7F26630D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4B3-04FC-4867-A069-8231A05E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DDB2-0D71-4E81-9386-F9F624B4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7F38-218B-4A26-B2BB-FAF4CC4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2FE0-0896-4CAE-829A-D364EB1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4EB-8BCE-4396-B65A-3F54327B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BDB-76C5-41B4-8E93-395D28C1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415-DE2B-4B6A-9BF8-B00C3F2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1A7-2186-45EB-8636-CBC8FBE0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A4B5-D736-4F4F-B3AC-C616210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5065-CA68-41E2-AE4A-4C032DA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BD07-B07A-4771-AD29-F7C5775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2F84-E549-44BA-ABCD-9E35BE12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0B26-99B0-444B-ACC7-2D04C9EF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A77-927F-4FCB-A192-23D8C30C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77D-09E8-4EC7-878A-3A33E20B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05F-0B60-407C-A65D-4C43AB10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E21-3D3A-4621-B0A5-826F7478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62D-2D2B-490E-98DA-02359D3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E56-DE51-4FDC-A7F7-5F554FC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BAA-1EAA-41BC-9A4E-B24346E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1472-A305-4258-A2ED-0F33D11271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5B2-C7AC-4846-BDF3-9134747F71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0" y="4076640"/>
            <a:ext cx="42800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4444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黑体"/>
              </a:rPr>
              <a:t>POWERPOIN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4444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44444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72360" y="4797360"/>
            <a:ext cx="23763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5981760" y="1214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6459480" y="192888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98280" y="6292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3:56:16Z</dcterms:created>
  <dc:creator/>
  <dc:description/>
  <dc:language>en-US</dc:language>
  <cp:lastModifiedBy>雨林木风</cp:lastModifiedBy>
  <cp:lastPrinted>1899-12-30T00:00:00Z</cp:lastPrinted>
  <dcterms:modified xsi:type="dcterms:W3CDTF">2014-05-27T05:30:42Z</dcterms:modified>
  <cp:revision>3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