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D95-6AD1-4434-A1FC-3F72BFDC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BDB-D547-423B-8E64-7D205ACC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D19-3304-420D-90AD-EB73818C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71A-A42A-4941-9A14-37A6F590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CE28-01B2-49BD-9C2C-622AEA30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8AFA-D1B6-4DA8-AA48-C0CB794E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F3D9-4EAD-488A-BE3B-821D7F06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3FF7-B6BD-401D-9188-C2756B73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3C7C-3BEA-418E-B2B2-6B1AF1AA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89BE-32BF-4BA7-9FAF-C4AA720D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15FA-CACD-43F8-9249-4B3D47D8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BD6-F2C1-44F4-B96B-BE9D76F5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ABFD-54F7-4E00-A2FC-422B4EA7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F71A-DCD8-4AAD-AF46-49559951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3254-FFDB-4081-AFAF-E20EF569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DE09-773F-4D0C-A346-CA0BA2F4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4ABB-89F2-46C6-9A6B-FDDB5A72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00705-AAA0-4BBF-900E-F963A69B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1BF5A-8003-41F2-A86F-EE378E14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EE135-23E7-4CF2-B5B5-F5DCDDDD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349B5-D268-4BBA-A6AA-D6A3C566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A8881-84C4-4EF3-898C-2053EB50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1B3-08DE-4AAD-B1D4-58E54F87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F4BCE-E692-47AB-92E6-11F81F21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3A823-4CD4-4E41-8A05-FC63E01C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EB764-A709-4E36-A861-9404156D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D7B2-36F2-4283-BDFA-219FF02A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F3C30-2FAC-499B-9F70-30456A3D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97093-A391-4CCC-B7B7-6E232C08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3EDC9-70AE-473D-ABF9-50DF6486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36E-1F3D-4E70-8DC3-BBE79FD1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A44-3664-4E18-A44B-DC63958E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DEC-991D-4B4B-9B98-D4F308AD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BF1-1172-4A6D-A169-AA6EF65A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850-5AD5-4FC5-B3BB-9FEBC2BB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553-3482-4F1D-AE6E-AD4AB977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59640" y="26028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0920" y="6337440"/>
            <a:ext cx="504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08360" y="6341760"/>
            <a:ext cx="1584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3E62-5A5B-430C-BF40-16E66E477164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51134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68000" y="188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00000" y="188640"/>
            <a:ext cx="45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308720" y="188640"/>
            <a:ext cx="1486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8D2E-E51B-47F3-8120-30AE339C28F5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8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E85C-BE58-4C16-8962-58B04956C1B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5472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95280" y="3024000"/>
            <a:ext cx="51134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800000"/>
              </a:solidFill>
              <a:latin typeface="Arial"/>
              <a:ea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4:18:59Z</dcterms:created>
  <dc:creator>Alexey</dc:creator>
  <dc:description/>
  <dc:language>en-US</dc:language>
  <cp:lastModifiedBy>a</cp:lastModifiedBy>
  <dcterms:modified xsi:type="dcterms:W3CDTF">2014-10-23T15:47:17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