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0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0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0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112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112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0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0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0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11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7450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11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7450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450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7450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450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7450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112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112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7450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7450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7450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0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0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0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11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60720"/>
            <a:ext cx="77724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16320"/>
            <a:ext cx="82292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60720"/>
            <a:ext cx="77724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600000"/>
            <a:ext cx="64008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33640" y="6093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8466120" cy="6480000"/>
            <a:chOff x="0" y="0"/>
            <a:chExt cx="8466120" cy="6480000"/>
          </a:xfrm>
        </p:grpSpPr>
        <p:sp>
          <p:nvSpPr>
            <p:cNvPr id="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620000"/>
              <a:ext cx="8466120" cy="48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Box 7"/>
            <p:cNvSpPr/>
            <p:nvPr/>
          </p:nvSpPr>
          <p:spPr>
            <a:xfrm rot="20926800">
              <a:off x="1926720" y="33746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2:56:04Z</dcterms:created>
  <dc:creator>Administrator</dc:creator>
  <dc:description/>
  <dc:language>en-US</dc:language>
  <cp:lastModifiedBy/>
  <dcterms:modified xsi:type="dcterms:W3CDTF">2014-10-23T16:44:5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