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610-FE93-4637-8206-C0A3D52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4C9-8816-4776-8A23-25C96A7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14C-F101-4CCD-B951-4A92FFD1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95D-4326-4FC9-B8B1-9FC8304B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EC6-C404-4A2C-BD9D-BC76716A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65E-7B4D-4A0D-8678-73A2E3F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C6E-FDE2-4A40-B114-B66B22E5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9E0-CA5D-4F67-A499-D06357C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627-3B53-44DF-A29C-70B83CB0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596-94C5-40FD-94BA-51CDDC5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829-C9EF-4F97-AB57-E5BF02E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09C-9E4E-4817-8128-04D4E1D4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B56E-0B21-4B21-BAFA-BE56622C02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hyperlink" Target="http://www.eeppt.com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55" descr=""/>
          <p:cNvPicPr/>
          <p:nvPr/>
        </p:nvPicPr>
        <p:blipFill>
          <a:blip r:embed="rId26"/>
          <a:stretch/>
        </p:blipFill>
        <p:spPr>
          <a:xfrm>
            <a:off x="3773520" y="3376440"/>
            <a:ext cx="1676520" cy="9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32760" y="6237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90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720" y="2681640"/>
              <a:ext cx="3584880" cy="30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TextBox 67" descr=""/>
          <p:cNvPicPr/>
          <p:nvPr/>
        </p:nvPicPr>
        <p:blipFill>
          <a:blip r:embed="rId24"/>
          <a:stretch/>
        </p:blipFill>
        <p:spPr>
          <a:xfrm>
            <a:off x="2919240" y="1500120"/>
            <a:ext cx="344520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5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39:25Z</dcterms:created>
  <dc:creator/>
  <dc:description/>
  <dc:language>en-US</dc:language>
  <cp:lastModifiedBy>雨林木风</cp:lastModifiedBy>
  <cp:lastPrinted>1899-12-30T00:00:00Z</cp:lastPrinted>
  <dcterms:modified xsi:type="dcterms:W3CDTF">2014-05-24T09:20:16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