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01A-4930-4FF5-8340-6F7F3A4D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C56-95CE-4908-93D6-EF08B36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1B0-37FE-4DD2-B383-2AC6CD59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522-584E-4344-B396-31CF3373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E7FB-CF77-4CE2-8472-39FBA6E7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448-4D6C-4FE1-8C33-1FB2168B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7639-796D-4707-AD5D-2DE6E19F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35C-DCA0-4E6B-8648-F625CB5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B030-21DF-493B-AA44-96CBD56E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656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FC19-C3EC-4C6F-96F8-700B393F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9875-20AA-4795-8A66-BC78149A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BA9-2A6C-4742-AD58-025EE80D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6071-AB4C-4A40-89ED-3FAFD2FA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B500-12F1-4572-B5A1-962E4825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B36-9BA1-4341-9AF8-104034B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2285-C4BE-43B3-A286-EF80EE03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7557-9DEC-4A2B-A3A9-9BA9D228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762-F84C-4227-8936-8FE63F2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449-61BC-4071-8885-541787AB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C8D-FE9C-4355-A9A3-F585A570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656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106-E4A4-446A-BF81-7F4A875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2DF-0C06-4334-B6CC-8E0DB466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2FF-D65E-4445-9AA9-AD22980C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CE1B-75B9-4A95-A1D0-5E1391C3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2E7-51BC-452C-AAA9-54F3AA2E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633" b="0"/>
          <a:stretch/>
        </p:blipFill>
        <p:spPr>
          <a:xfrm>
            <a:off x="0" y="-22320"/>
            <a:ext cx="9144000" cy="6502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4654080"/>
            <a:ext cx="7850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DF1-21C8-43B6-BD70-22AE7D7E4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" y="4941360"/>
            <a:ext cx="785052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6200" y="5733720"/>
            <a:ext cx="6913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0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301720"/>
            <a:ext cx="7850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50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39:14Z</dcterms:created>
  <dc:creator/>
  <dc:description/>
  <dc:language>en-US</dc:language>
  <cp:lastModifiedBy/>
  <cp:lastPrinted>1899-12-30T00:00:00Z</cp:lastPrinted>
  <dcterms:modified xsi:type="dcterms:W3CDTF">2014-05-21T04:26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