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gif" ContentType="image/gif"/>
  <Override PartName="/ppt/embeddings/oleObject1.bin" ContentType="application/vnd.openxmlformats-officedocument.oleObje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C11-B52D-485D-8BD5-E3AB6010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864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209-D01B-41A7-BE0E-995D3DE1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56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A7A-BA45-4411-83B5-E082A89F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1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8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1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1B0-BFEE-4CBC-9A9F-9B4EB72F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8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8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CD7-0E9C-4F41-92BA-2EA818D8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56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64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56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1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8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1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2E27-924B-4FFB-8371-770F280E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8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5A22-16F0-41E3-BADB-C1968091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36A9-7E37-44C1-BBD5-D5739288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A85A-8411-43A8-8398-4CF09D88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9B99-4CB5-41CA-B7DD-F79243E1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CCB-823F-4851-B31E-CA2AD1F1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05CE-FA2E-40A2-80E0-73FE66B0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CB67-4E51-4FC0-B7A0-3D8D861C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56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EEF9-A7F0-47C2-A15A-71A93523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7FE8-EB11-4E28-984D-59EC6A17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864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FA78-FA36-4B55-B0D7-73485990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56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FF39-CC54-4088-9596-DCF68ED3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41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8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41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2D09-FCD3-423D-83ED-69370DDE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FC4-65AC-42C1-AC8C-F7257C72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4DD-08C1-4804-9466-2C89E7D1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E15-5957-4E8E-8343-8319E1F3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37F9-3153-44B6-AA57-3AE6212A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56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33A-4655-4063-9BF7-AA7FC45F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864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F46-78BD-43A6-B122-3A3EF6AB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0280"/>
            <a:ext cx="7596360" cy="57636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33360"/>
            <a:ext cx="7596360" cy="417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2340000" y="1441440"/>
          <a:ext cx="6804000" cy="541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1441440"/>
                    <a:ext cx="680400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468360" y="6526080"/>
            <a:ext cx="8351640" cy="1800"/>
          </a:xfrm>
          <a:prstGeom prst="line">
            <a:avLst/>
          </a:prstGeom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3560"/>
            <a:ext cx="9144000" cy="7308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Gulim"/>
              </a:rPr>
              <a:t>wps.cn/mob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67280" y="260280"/>
            <a:ext cx="13129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0B62-2FAB-401D-A201-84BB8B4D8A16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19280" y="2565360"/>
            <a:ext cx="55609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326880" y="6066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8fe3"/>
                </a:solidFill>
                <a:latin typeface="Arial"/>
                <a:ea typeface="Gulim"/>
              </a:rPr>
              <a:t>Company</a:t>
            </a:r>
            <a:r>
              <a:rPr b="1" lang="en-US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800" spc="-1" strike="noStrike">
                <a:solidFill>
                  <a:srgbClr val="1c3a8e"/>
                </a:solidFill>
                <a:latin typeface="Arial"/>
                <a:ea typeface="Gulim"/>
              </a:rPr>
              <a:t>LOGO</a:t>
            </a:r>
            <a:endParaRPr b="0" lang="en-US" sz="2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8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828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488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46BA-82C6-4F5D-9FD5-7170A99254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19280" y="2565360"/>
            <a:ext cx="55609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Presentation</a:t>
            </a:r>
            <a:r>
              <a:rPr b="0" lang="en-US" sz="3600" spc="-1" strike="noStrike">
                <a:solidFill>
                  <a:srgbClr val="ffffcc"/>
                </a:solidFill>
                <a:latin typeface="Verdana"/>
                <a:ea typeface="Gulim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Verdana"/>
                <a:ea typeface="Gulim"/>
              </a:rPr>
              <a:t>Template</a:t>
            </a:r>
            <a:endParaRPr b="1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54878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4168"/>
              </a:gs>
              <a:gs pos="50000">
                <a:srgbClr val="438fe3"/>
              </a:gs>
              <a:gs pos="100000">
                <a:srgbClr val="1e416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4168"/>
              </a:gs>
              <a:gs pos="50000">
                <a:srgbClr val="438fe3"/>
              </a:gs>
              <a:gs pos="100000">
                <a:srgbClr val="1e416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c3a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  <a:ea typeface="Gulim"/>
              </a:rPr>
              <a:t>Strengths</a:t>
            </a:r>
            <a:r>
              <a:rPr b="1" lang="en-US" sz="2800" spc="-1" strike="noStrike">
                <a:solidFill>
                  <a:srgbClr val="438fe3"/>
                </a:solidFill>
                <a:latin typeface="Verdana"/>
                <a:ea typeface="Gulim"/>
              </a:rPr>
              <a:t> 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32000" y="1155600"/>
            <a:ext cx="61196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51280" y="2225520"/>
            <a:ext cx="1368360" cy="1276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619280" y="3068640"/>
            <a:ext cx="583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8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1c3a8e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1c3a8e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2" name="矩形 4"/>
            <p:cNvSpPr/>
            <p:nvPr/>
          </p:nvSpPr>
          <p:spPr>
            <a:xfrm>
              <a:off x="576720" y="0"/>
              <a:ext cx="6745320" cy="7012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c3a8e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1c3a8e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1c3a8e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1c3a8e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1c3a8e"/>
                </a:solidFill>
                <a:latin typeface="Arial"/>
              </a:endParaRPr>
            </a:p>
          </p:txBody>
        </p:sp>
        <p:pic>
          <p:nvPicPr>
            <p:cNvPr id="1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7"/>
            <p:cNvSpPr/>
            <p:nvPr/>
          </p:nvSpPr>
          <p:spPr>
            <a:xfrm rot="20926800">
              <a:off x="1924200" y="3571920"/>
              <a:ext cx="466704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3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3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3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3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3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06:31:08Z</dcterms:created>
  <dc:creator>황정남</dc:creator>
  <dc:description/>
  <cp:keywords/>
  <dc:language>en-US</dc:language>
  <cp:lastModifiedBy>a</cp:lastModifiedBy>
  <dcterms:modified xsi:type="dcterms:W3CDTF">2014-05-15T00:57:17Z</dcterms:modified>
  <cp:revision>2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19</vt:lpwstr>
  </property>
</Properties>
</file>