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4AE-7984-4641-81CD-5D715E75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A38-5D82-4BB7-9D50-1514209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88B-2D09-4C9E-BEB1-8CB8900C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989-397C-43F2-86F7-C9F3F7C0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B378-363C-4D3C-B3FD-72B58CDE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DF41-FE13-4917-AFE5-A4D4DA58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43BA-A3B3-40AC-ACAF-97A27889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7C1E-BA64-4643-88C7-42FD8A16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55D0-79E1-4C5B-9E49-B9372F91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560" y="102960"/>
            <a:ext cx="471636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7BA7-028E-4C1D-9AE8-9267D0F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99A8-A20A-4A41-8964-BAF0EB1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862-CA7C-4B6D-AE24-F3A7F342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3873-6619-48B7-AB35-2FC6A1C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CC8-05B1-435A-9F38-AE67C2C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C28-C266-4167-BE0C-E32D2446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BECA-4758-4CB0-8741-BC3F7D0A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52E3-9759-4B13-B277-1BE61FCD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F29-7C57-4865-9A03-CE100ED5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C9E-4B8B-4AD8-B6CD-75A4E338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AE9-CFBE-4A28-BD13-81250B1D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560" y="102960"/>
            <a:ext cx="471636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16D-CB29-4BF1-8828-26E0119D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993-9CDD-4ED7-8B82-413D498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86E-575C-4045-800F-68FBA96E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C38-FEFD-4910-AEF3-3D5743A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29ED-4E02-4582-BF6D-D9B649A1073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049-B726-45EE-BE6A-097D9CE70147}" type="slidenum"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4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498312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6310440"/>
            <a:ext cx="705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66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66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66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5:29:32Z</dcterms:created>
  <dc:creator>x</dc:creator>
  <dc:description/>
  <dc:language>en-US</dc:language>
  <cp:lastModifiedBy>king</cp:lastModifiedBy>
  <cp:lastPrinted>1899-12-30T00:00:00Z</cp:lastPrinted>
  <dcterms:modified xsi:type="dcterms:W3CDTF">2014-06-08T04:46:2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