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10824840" y="9269280"/>
            <a:ext cx="22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Gill Sans"/>
              </a:rPr>
              <a:t>www.eeppt.co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753560" y="9269280"/>
            <a:ext cx="22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Gill Sans"/>
              </a:rPr>
              <a:t>www.eeppt.co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0753560" y="9340920"/>
            <a:ext cx="22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Gill Sans"/>
              </a:rPr>
              <a:t>www.eeppt.co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13004640" cy="9752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30200" y="8261280"/>
            <a:ext cx="8654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5:55:09Z</dcterms:created>
  <dc:creator/>
  <dc:description/>
  <dc:language>en-US</dc:language>
  <cp:lastModifiedBy>微软用户</cp:lastModifiedBy>
  <cp:lastPrinted>1899-12-30T00:00:00Z</cp:lastPrinted>
  <dcterms:modified xsi:type="dcterms:W3CDTF">2014-05-25T05:52:1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