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1D1-9FB0-4389-AFB6-6241793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5F1-4A08-480B-A843-5BA67214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40B-60DF-4123-B1D5-552EF54D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B8C-E88E-4AB3-AF50-28C8FF95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753-574C-4127-A395-FCF1898F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9B1-A061-49F5-A515-15E144E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7128-C96E-4F85-8F37-7208369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1ACB-220F-4517-8D0C-D646BA1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5756-EBDC-4066-A0B5-D26B954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627-C92E-46AE-8933-380EA67C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DD7-1B13-49FC-A71E-F687675C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15E-8CB7-465E-9616-2243B4B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C66-BBC5-4B2A-B961-9AB8BAE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97C-BA96-4115-BFCD-1DEE37D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AC5C-B16D-4B44-81B1-28ABAB2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ED7-7797-4B14-AE78-D2D5AA0E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0BD-0DC0-4699-8D63-B3D7F88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457-1252-435A-9F68-85E22DAB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13D-7AAA-42E5-9AD7-F64BA5B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A7C-CFBB-4EA4-A0E4-D2A6007A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3D5-36E7-4A80-85EB-C173F971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FCC-9559-4B36-AB5A-3BE3F30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5E0-9D77-433E-B297-FDCB4C2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CAA-CA85-48B6-9D4A-825421E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832A-C71A-446B-81AF-7C00DBA83F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53F-7C14-4548-A99A-C9FC336CFA2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886200" y="3200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月光曲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-34920" y="6381720"/>
            <a:ext cx="9142560" cy="405000"/>
          </a:xfrm>
          <a:prstGeom prst="rect">
            <a:avLst/>
          </a:prstGeom>
          <a:solidFill>
            <a:srgbClr val="3399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学语文课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81080" y="6526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155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用直线连接可以搭配的词语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幽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弱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302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美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烛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月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琴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724280"/>
            <a:ext cx="1828800" cy="99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29000" y="2286000"/>
            <a:ext cx="1905120" cy="99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2209680"/>
            <a:ext cx="2057400" cy="2438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3200400"/>
            <a:ext cx="1981080" cy="838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05320" y="4038120"/>
            <a:ext cx="182880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143680" cy="609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9920" y="457200"/>
            <a:ext cx="28191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贝多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770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27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德国著名作曲家，维也纳古典乐派的代表人之一。他一生创作了大量的举世闻名的音乐作品，他的作品，在欧洲音乐史上起到了继往开来的作用， 为世界文化做出了不朽的贡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060880" cy="5867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75600" y="762120"/>
            <a:ext cx="1277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位于维也纳的贝多芬雕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72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806400"/>
            <a:ext cx="8229600" cy="408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52480" y="5530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贝多芬使用的最后一台钢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课文朗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885080" y="6297480"/>
            <a:ext cx="933480" cy="560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1873440"/>
            <a:ext cx="87138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一百多年前，德国有个音乐家叫贝多芬，他谱写了许多著名的曲子。其中有一首著名的钢琴曲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月光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，传说是这样谱成的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有一年秋天，贝多芬去各地旅行演出，来到莱茵河边的一个小镇上。一天夜晚，他在幽静的小路上散步，听到断断续续的钢琴声从一所茅屋里传出来，弹的正是他的曲子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走近茅屋，琴声突然停了，屋子里有人在谈话。一个姑娘说∶“这首曲子多难弹啊！我只听别人弹过几遍，总是记不住该怎样弹，要是能听一听贝多芬自己是怎样弹的，那有多好啊！”一个男的说∶“是啊，可是音乐会的入场券太贵了，咱们又太穷。”姑娘说∶“哥哥，你别难过，我不过随便说说罢了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听到这里，就推开门，轻轻地走了进去。茅屋里点着一支蜡烛。在微弱的烛光下，男的正在做皮鞋。窗前有架旧钢琴，前面坐着个十六七岁的姑娘，脸很清秀，可是眼睛瞎了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看见进来个陌生人，站起来问∶“先生，您找谁？走错门了吧？”贝多芬说∶“不，我是来弹一首曲子给这位姑娘听的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姑娘连忙站起来让座。贝多芬坐在钢琴前面，弹起盲姑娘刚才弹的那首曲子来。盲姑娘听得入了神，一曲完了，她激动地说∶“弹得多纯熟啊！感情多深哪！您，您就是贝多芬先生吧？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没有回答，他问盲姑娘∶“您爱听吗？我再给您弹一首吧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一阵风把蜡烛吹灭了。月光照进窗子来，茅屋里的一切好像披上了银纱，显得格外清幽。贝多芬望了望站在他身旁的穷兄妹俩，借着清幽的月光，按起琴键来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静静地听着。他好像面对着大海，月光正从水天相接的地方升起来。微波粼粼的海面上，霎时间洒遍了银光。月亮越升越高，穿过一缕一缕轻纱似的微云。忽然，海面上刮起了大风，卷起了巨浪。被月光照得雪亮的浪花，一个连一个朝着岸边涌过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看看妹妹，月光正照在她那恬静的脸上，照着她睁得大大的眼睛，她仿佛也看到了，看到了她从来没有看到过的景象，在月光照耀下的波涛汹涌的大海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兄妹俩被美妙的琴声陶醉了。等他们苏醒过来，贝多芬早已离开了茅屋。他飞奔回客店，花了一夜工夫，把刚才弹的曲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—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月光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记录了下来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2120" y="652608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6448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907920"/>
            <a:ext cx="274320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文朗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2362320"/>
            <a:ext cx="281916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347920"/>
            <a:ext cx="270504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3789360"/>
            <a:ext cx="270504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练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24720" y="1341360"/>
            <a:ext cx="417600" cy="417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81520" y="907920"/>
            <a:ext cx="274320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曲欣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860640"/>
            <a:ext cx="27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贝多芬简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3132000" y="5157720"/>
            <a:ext cx="2665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结束教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644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7155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089680"/>
            <a:ext cx="2590920" cy="131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莱   茵  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79404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入场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08968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盲姑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3828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幽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79404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蜡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510552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陌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43828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微波粼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380988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波涛汹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45412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睛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78168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恬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琴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8168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恬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琴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66680" y="3962520"/>
            <a:ext cx="7086600" cy="1557360"/>
            <a:chOff x="1066680" y="3962520"/>
            <a:chExt cx="7086600" cy="1557360"/>
          </a:xfrm>
        </p:grpSpPr>
        <p:sp>
          <p:nvSpPr>
            <p:cNvPr id="119" name=""/>
            <p:cNvSpPr/>
            <p:nvPr/>
          </p:nvSpPr>
          <p:spPr>
            <a:xfrm>
              <a:off x="1143000" y="396252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曲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480060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弯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776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弹琴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776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子弹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音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5288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难过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遇难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437544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42991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560" y="43754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360" y="43754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61800" y="6381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38560" y="762120"/>
            <a:ext cx="26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81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贝多芬走进茅屋，为什么弹完一曲，又弹一曲？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429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皮鞋匠听着琴声，好像看到了什么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他为什么会看到这样的景象？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盲姑娘“仿佛也看到了”月光照耀下大海的变化，这说明了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86400" cy="448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6000" y="558972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7494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7002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比一比，组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98108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茵（   ） 券（   ） 腊（   ） 屡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菌（   ） 卷（   ） 蜡（   ） 缕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348768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（   ） 谱（   ） 盲（   ） 醒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（   ） 普（   ） 育（   ） 醉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9356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瞎（   ） 恬（   ） 键（   ） 涛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割（   ） 括（   ） 健（   ） 滔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00200" y="1981080"/>
            <a:ext cx="1219320" cy="1144440"/>
            <a:chOff x="1600200" y="1981080"/>
            <a:chExt cx="1219320" cy="1144440"/>
          </a:xfrm>
        </p:grpSpPr>
        <p:sp>
          <p:nvSpPr>
            <p:cNvPr id="145" name=""/>
            <p:cNvSpPr/>
            <p:nvPr/>
          </p:nvSpPr>
          <p:spPr>
            <a:xfrm>
              <a:off x="160020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绿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细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52680" y="1981080"/>
            <a:ext cx="1219320" cy="1144440"/>
            <a:chOff x="3352680" y="1981080"/>
            <a:chExt cx="1219320" cy="1144440"/>
          </a:xfrm>
        </p:grpSpPr>
        <p:sp>
          <p:nvSpPr>
            <p:cNvPr id="148" name=""/>
            <p:cNvSpPr/>
            <p:nvPr/>
          </p:nvSpPr>
          <p:spPr>
            <a:xfrm>
              <a:off x="335268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证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268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画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81480" y="1981080"/>
            <a:ext cx="1219320" cy="1144440"/>
            <a:chOff x="5181480" y="1981080"/>
            <a:chExt cx="1219320" cy="1144440"/>
          </a:xfrm>
        </p:grpSpPr>
        <p:sp>
          <p:nvSpPr>
            <p:cNvPr id="151" name=""/>
            <p:cNvSpPr/>
            <p:nvPr/>
          </p:nvSpPr>
          <p:spPr>
            <a:xfrm>
              <a:off x="518148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腊月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蜡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934320" y="1981080"/>
            <a:ext cx="1218960" cy="1144440"/>
            <a:chOff x="6934320" y="1981080"/>
            <a:chExt cx="1218960" cy="1144440"/>
          </a:xfrm>
        </p:grpSpPr>
        <p:sp>
          <p:nvSpPr>
            <p:cNvPr id="154" name=""/>
            <p:cNvSpPr/>
            <p:nvPr/>
          </p:nvSpPr>
          <p:spPr>
            <a:xfrm>
              <a:off x="6934320" y="19810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屡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4320" y="26049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一缕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00200" y="3505320"/>
            <a:ext cx="1219320" cy="1144440"/>
            <a:chOff x="1600200" y="3505320"/>
            <a:chExt cx="1219320" cy="1144440"/>
          </a:xfrm>
        </p:grpSpPr>
        <p:sp>
          <p:nvSpPr>
            <p:cNvPr id="157" name=""/>
            <p:cNvSpPr/>
            <p:nvPr/>
          </p:nvSpPr>
          <p:spPr>
            <a:xfrm>
              <a:off x="160020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吨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4129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纯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352680" y="3505320"/>
            <a:ext cx="1219320" cy="1144440"/>
            <a:chOff x="3352680" y="3505320"/>
            <a:chExt cx="1219320" cy="1144440"/>
          </a:xfrm>
        </p:grpSpPr>
        <p:sp>
          <p:nvSpPr>
            <p:cNvPr id="160" name=""/>
            <p:cNvSpPr/>
            <p:nvPr/>
          </p:nvSpPr>
          <p:spPr>
            <a:xfrm>
              <a:off x="335268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谱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2680" y="4129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普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81480" y="3505320"/>
            <a:ext cx="1219320" cy="1130040"/>
            <a:chOff x="5181480" y="3505320"/>
            <a:chExt cx="1219320" cy="1130040"/>
          </a:xfrm>
        </p:grpSpPr>
        <p:sp>
          <p:nvSpPr>
            <p:cNvPr id="163" name=""/>
            <p:cNvSpPr/>
            <p:nvPr/>
          </p:nvSpPr>
          <p:spPr>
            <a:xfrm>
              <a:off x="518148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盲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41148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培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934320" y="3505320"/>
            <a:ext cx="1218960" cy="1144440"/>
            <a:chOff x="6934320" y="3505320"/>
            <a:chExt cx="1218960" cy="1144440"/>
          </a:xfrm>
        </p:grpSpPr>
        <p:sp>
          <p:nvSpPr>
            <p:cNvPr id="166" name=""/>
            <p:cNvSpPr/>
            <p:nvPr/>
          </p:nvSpPr>
          <p:spPr>
            <a:xfrm>
              <a:off x="6934320" y="3505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苏醒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41292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陶醉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00200" y="4952880"/>
            <a:ext cx="1219320" cy="1144440"/>
            <a:chOff x="1600200" y="4952880"/>
            <a:chExt cx="1219320" cy="1144440"/>
          </a:xfrm>
        </p:grpSpPr>
        <p:sp>
          <p:nvSpPr>
            <p:cNvPr id="169" name=""/>
            <p:cNvSpPr/>
            <p:nvPr/>
          </p:nvSpPr>
          <p:spPr>
            <a:xfrm>
              <a:off x="160020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瞎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020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割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52680" y="4952880"/>
            <a:ext cx="1219320" cy="1144440"/>
            <a:chOff x="3352680" y="4952880"/>
            <a:chExt cx="1219320" cy="1144440"/>
          </a:xfrm>
        </p:grpSpPr>
        <p:sp>
          <p:nvSpPr>
            <p:cNvPr id="172" name=""/>
            <p:cNvSpPr/>
            <p:nvPr/>
          </p:nvSpPr>
          <p:spPr>
            <a:xfrm>
              <a:off x="335268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恬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5268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概括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81480" y="4952880"/>
            <a:ext cx="1219320" cy="1144440"/>
            <a:chOff x="5181480" y="4952880"/>
            <a:chExt cx="1219320" cy="1144440"/>
          </a:xfrm>
        </p:grpSpPr>
        <p:sp>
          <p:nvSpPr>
            <p:cNvPr id="175" name=""/>
            <p:cNvSpPr/>
            <p:nvPr/>
          </p:nvSpPr>
          <p:spPr>
            <a:xfrm>
              <a:off x="518148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关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健美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934320" y="4952880"/>
            <a:ext cx="1218960" cy="1130040"/>
            <a:chOff x="6934320" y="4952880"/>
            <a:chExt cx="1218960" cy="1130040"/>
          </a:xfrm>
        </p:grpSpPr>
        <p:sp>
          <p:nvSpPr>
            <p:cNvPr id="178" name=""/>
            <p:cNvSpPr/>
            <p:nvPr/>
          </p:nvSpPr>
          <p:spPr>
            <a:xfrm>
              <a:off x="6934320" y="49528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波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55623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滔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用直线连接可以搭配的词语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幽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弱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5302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美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烛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月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琴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744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5:24:46Z</dcterms:created>
  <dc:creator>wangliping</dc:creator>
  <dc:description/>
  <dc:language>en-US</dc:language>
  <cp:lastModifiedBy>微软用户</cp:lastModifiedBy>
  <dcterms:modified xsi:type="dcterms:W3CDTF">2014-05-17T08:38:49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