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805-CF82-4DC3-9898-E3918138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58D-0757-415B-808D-A3882376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147-A847-4A01-8676-46866568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823-A607-423A-B02C-D67F3541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456-8745-40DE-9D70-3E1A8C29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598-1AEC-4C6C-954D-E938D1AD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BE8-9F14-4A71-8846-6C5488CB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160-DA0C-4792-BD57-4638F355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8CE-6CB8-4896-BEDC-E87BEAD9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3E0-5453-4E08-9227-1D590F2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63C-6701-4CFC-8C43-A04927B5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DDD-1DE0-4A1F-B052-835F359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C46-A7EB-46A6-A5E2-F2B84B94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78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503280" y="-736560"/>
            <a:ext cx="10157040" cy="2725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503280" y="5805360"/>
            <a:ext cx="1015704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22320" y="2782800"/>
            <a:ext cx="1981080" cy="316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077840" y="2925720"/>
            <a:ext cx="173052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54560" y="2782800"/>
            <a:ext cx="1981080" cy="316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046920" y="2782800"/>
            <a:ext cx="1981080" cy="316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91280" y="2925720"/>
            <a:ext cx="1697040" cy="288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598920" y="2925720"/>
            <a:ext cx="16970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536840" y="2133720"/>
            <a:ext cx="5843520" cy="2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177920" y="1628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720" y="162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78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35640" y="-669960"/>
            <a:ext cx="3868560" cy="386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503280" y="-736560"/>
            <a:ext cx="10157040" cy="272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-503280" y="5805360"/>
            <a:ext cx="10157040" cy="12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536840" y="2133720"/>
            <a:ext cx="5843520" cy="2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720" y="162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24210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足球运动，是目前全球体育界最具影响力的单项体育运动，故有世界第一大运动的美称！主要以脚支配球为主，但也可以使用头、胸部等部位触球（除守门员外，其他队员不得用手或臂触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守门员出了本方的禁区，那也不能用手或臂触球）。两个队在同一场地内进行攻守的体育运动项目。一场精彩的足球比赛，吸引着数以亿计的观众，它已成为电视节目中的重要内容，有关足球的报道，占据  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着世界各种报刊的篇幅，当今足球运动已成为人们生活中不可缺少的组成部分。据不完全统计，现在世界上经常参加比赛的球队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支，登记注册的运动员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人，其中职业运动员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64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3 -0.31365 L 0.04063 0.01968 E">
                                      <p:cBhvr>
                                        <p:cTn id="2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1943280" cy="787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96000" cy="491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02640" y="31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BankGothic Lt BT"/>
                <a:ea typeface="华文新魏"/>
              </a:rPr>
              <a:t>谢谢欣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22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56:49Z</dcterms:created>
  <dc:creator>pc</dc:creator>
  <dc:description/>
  <dc:language>en-US</dc:language>
  <cp:lastModifiedBy>pc</cp:lastModifiedBy>
  <dcterms:modified xsi:type="dcterms:W3CDTF">2014-10-23T16:24:18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