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DDC-933A-452E-B4F4-369BE60D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D3E-79B7-49D9-BE71-08810E7F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E30-FBC7-48FA-9506-D3C22111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AE71-3845-40E6-AE47-509D9C3B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DE0E-B163-4723-8B96-7D73E170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B3B-E255-4E50-9B21-919E920F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63C-5873-470C-A707-E1E0CC4A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ED3-4F19-44A2-BD45-7C6400F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0C4-53A4-4E1E-8496-122824E2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05C-000B-41B5-B2D1-18B1A53C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52A-B847-412A-8872-D9F0A36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B755-A3BC-4F97-8753-0FA12C5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74B6-3912-44C8-912C-3C64CCA83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EEB2-F9A9-416C-92FF-ADAFCB85F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fbfbf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269120" y="2133720"/>
            <a:ext cx="824040" cy="3657600"/>
            <a:chOff x="7269120" y="2133720"/>
            <a:chExt cx="824040" cy="3657600"/>
          </a:xfrm>
        </p:grpSpPr>
        <p:sp>
          <p:nvSpPr>
            <p:cNvPr id="43" name="Freeform 7"/>
            <p:cNvSpPr/>
            <p:nvPr/>
          </p:nvSpPr>
          <p:spPr>
            <a:xfrm>
              <a:off x="7269120" y="2286000"/>
              <a:ext cx="824040" cy="35053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4"/>
            <p:cNvSpPr/>
            <p:nvPr/>
          </p:nvSpPr>
          <p:spPr>
            <a:xfrm>
              <a:off x="7269120" y="2133720"/>
              <a:ext cx="824040" cy="2743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315120" y="2895480"/>
            <a:ext cx="817560" cy="2878200"/>
            <a:chOff x="6315120" y="2895480"/>
            <a:chExt cx="817560" cy="2878200"/>
          </a:xfrm>
        </p:grpSpPr>
        <p:sp>
          <p:nvSpPr>
            <p:cNvPr id="46" name="Freeform 8"/>
            <p:cNvSpPr/>
            <p:nvPr/>
          </p:nvSpPr>
          <p:spPr>
            <a:xfrm>
              <a:off x="6315120" y="3047760"/>
              <a:ext cx="817560" cy="27259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6315120" y="2895480"/>
              <a:ext cx="817560" cy="2617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389560" y="3505320"/>
            <a:ext cx="822240" cy="2286000"/>
            <a:chOff x="5389560" y="3505320"/>
            <a:chExt cx="822240" cy="2286000"/>
          </a:xfrm>
        </p:grpSpPr>
        <p:sp>
          <p:nvSpPr>
            <p:cNvPr id="49" name="Freeform 9"/>
            <p:cNvSpPr/>
            <p:nvPr/>
          </p:nvSpPr>
          <p:spPr>
            <a:xfrm>
              <a:off x="5389560" y="3657600"/>
              <a:ext cx="822240" cy="21337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5389560" y="3505320"/>
              <a:ext cx="822240" cy="25236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464000" y="3949560"/>
            <a:ext cx="822240" cy="1841760"/>
            <a:chOff x="4464000" y="3949560"/>
            <a:chExt cx="822240" cy="1841760"/>
          </a:xfrm>
        </p:grpSpPr>
        <p:sp>
          <p:nvSpPr>
            <p:cNvPr id="52" name="Freeform 10"/>
            <p:cNvSpPr/>
            <p:nvPr/>
          </p:nvSpPr>
          <p:spPr>
            <a:xfrm>
              <a:off x="4464000" y="4098600"/>
              <a:ext cx="822240" cy="16927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7"/>
            <p:cNvSpPr/>
            <p:nvPr/>
          </p:nvSpPr>
          <p:spPr>
            <a:xfrm>
              <a:off x="4464000" y="3949560"/>
              <a:ext cx="822240" cy="3175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38440" y="4317840"/>
            <a:ext cx="822600" cy="1473480"/>
            <a:chOff x="3538440" y="4317840"/>
            <a:chExt cx="822600" cy="1473480"/>
          </a:xfrm>
        </p:grpSpPr>
        <p:sp>
          <p:nvSpPr>
            <p:cNvPr id="55" name="Freeform 11"/>
            <p:cNvSpPr/>
            <p:nvPr/>
          </p:nvSpPr>
          <p:spPr>
            <a:xfrm>
              <a:off x="3538440" y="4463640"/>
              <a:ext cx="822600" cy="13276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3538440" y="4317840"/>
              <a:ext cx="822600" cy="30492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612880" y="4633920"/>
            <a:ext cx="822600" cy="1157400"/>
            <a:chOff x="2612880" y="4633920"/>
            <a:chExt cx="822600" cy="1157400"/>
          </a:xfrm>
        </p:grpSpPr>
        <p:sp>
          <p:nvSpPr>
            <p:cNvPr id="58" name="Freeform 12"/>
            <p:cNvSpPr/>
            <p:nvPr/>
          </p:nvSpPr>
          <p:spPr>
            <a:xfrm>
              <a:off x="2612880" y="4775040"/>
              <a:ext cx="822600" cy="10162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2612880" y="4633920"/>
              <a:ext cx="82260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687680" y="5054760"/>
            <a:ext cx="822240" cy="736560"/>
            <a:chOff x="1687680" y="5054760"/>
            <a:chExt cx="822240" cy="736560"/>
          </a:xfrm>
        </p:grpSpPr>
        <p:sp>
          <p:nvSpPr>
            <p:cNvPr id="61" name="Freeform 13"/>
            <p:cNvSpPr/>
            <p:nvPr/>
          </p:nvSpPr>
          <p:spPr>
            <a:xfrm>
              <a:off x="1687680" y="5191200"/>
              <a:ext cx="822240" cy="60012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687680" y="5054760"/>
              <a:ext cx="82224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62120" y="5243400"/>
            <a:ext cx="817560" cy="547920"/>
            <a:chOff x="762120" y="5243400"/>
            <a:chExt cx="817560" cy="547920"/>
          </a:xfrm>
        </p:grpSpPr>
        <p:sp>
          <p:nvSpPr>
            <p:cNvPr id="64" name="Freeform 21"/>
            <p:cNvSpPr/>
            <p:nvPr/>
          </p:nvSpPr>
          <p:spPr>
            <a:xfrm>
              <a:off x="762120" y="5392440"/>
              <a:ext cx="817560" cy="398880"/>
            </a:xfrm>
            <a:prstGeom prst="pie">
              <a:avLst/>
            </a:prstGeom>
            <a:gradFill rotWithShape="0">
              <a:gsLst>
                <a:gs pos="0">
                  <a:srgbClr val="165ec3"/>
                </a:gs>
                <a:gs pos="100000">
                  <a:srgbClr val="217d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2"/>
            <p:cNvSpPr/>
            <p:nvPr/>
          </p:nvSpPr>
          <p:spPr>
            <a:xfrm>
              <a:off x="762120" y="5243400"/>
              <a:ext cx="817560" cy="274680"/>
            </a:xfrm>
            <a:prstGeom prst="pie">
              <a:avLst/>
            </a:prstGeom>
            <a:gradFill rotWithShape="0">
              <a:gsLst>
                <a:gs pos="0">
                  <a:srgbClr val="217df6"/>
                </a:gs>
                <a:gs pos="50000">
                  <a:srgbClr val="95eefc"/>
                </a:gs>
                <a:gs pos="100000">
                  <a:srgbClr val="217df6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Freeform 82"/>
          <p:cNvSpPr/>
          <p:nvPr/>
        </p:nvSpPr>
        <p:spPr>
          <a:xfrm rot="21196800">
            <a:off x="718920" y="1412640"/>
            <a:ext cx="7424640" cy="33130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404040"/>
              </a:gs>
            </a:gsLst>
            <a:lin ang="12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0" y="1752480"/>
            <a:ext cx="1660680" cy="3081600"/>
            <a:chOff x="2286000" y="1752480"/>
            <a:chExt cx="1660680" cy="3081600"/>
          </a:xfrm>
        </p:grpSpPr>
        <p:pic>
          <p:nvPicPr>
            <p:cNvPr id="68" name="Gruppe 113" descr=""/>
            <p:cNvPicPr/>
            <p:nvPr/>
          </p:nvPicPr>
          <p:blipFill>
            <a:blip r:embed="rId1"/>
            <a:stretch/>
          </p:blipFill>
          <p:spPr>
            <a:xfrm>
              <a:off x="2286000" y="1752480"/>
              <a:ext cx="1660680" cy="308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" name=""/>
            <p:cNvGrpSpPr/>
            <p:nvPr/>
          </p:nvGrpSpPr>
          <p:grpSpPr>
            <a:xfrm>
              <a:off x="3215160" y="2111400"/>
              <a:ext cx="354960" cy="772200"/>
              <a:chOff x="3215160" y="2111400"/>
              <a:chExt cx="354960" cy="772200"/>
            </a:xfrm>
          </p:grpSpPr>
          <p:sp>
            <p:nvSpPr>
              <p:cNvPr id="70" name="Freeform 24"/>
              <p:cNvSpPr/>
              <p:nvPr/>
            </p:nvSpPr>
            <p:spPr>
              <a:xfrm flipH="1">
                <a:off x="3215160" y="2111400"/>
                <a:ext cx="318960" cy="405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flipH="1">
                <a:off x="3265560" y="2233440"/>
                <a:ext cx="304200" cy="650160"/>
              </a:xfrm>
              <a:prstGeom prst="pie">
                <a:avLst/>
              </a:prstGeom>
              <a:solidFill>
                <a:srgbClr val="217d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741600" y="6400800"/>
            <a:ext cx="4833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2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0:37:12Z</dcterms:created>
  <dc:creator/>
  <dc:description/>
  <dc:language>en-US</dc:language>
  <cp:lastModifiedBy>echo</cp:lastModifiedBy>
  <dcterms:modified xsi:type="dcterms:W3CDTF">2014-11-06T01:20:23Z</dcterms:modified>
  <cp:revision>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