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01E-E4F1-40EC-8076-6FAE8D55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1096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E34-FCEB-4D6B-9A3B-2A0F517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432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218-3571-42FE-8A11-17680FC8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4832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264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4832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264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8D7-4508-48A7-9254-EEFF8A14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06CE-0175-460D-B09C-79C0C635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9D8F-09D6-447D-B218-0A6042E9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D9E3-33BA-469C-BDA2-646C0821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5AEB-42E7-4383-9214-B932CC34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51B3-1AAD-4C54-83E6-D6D0040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80B2-68A4-48EB-B728-9F54622C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755D-A7D3-444C-B709-F21D6DD9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7AC-62BC-42A6-A53F-441BB64F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6432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F7A5-73FD-48A3-BFFF-37158BE6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9030-122A-4E67-82CC-198A079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1096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7B9A-5C7B-401C-88EE-AACF673C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6432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4703-9338-4CCD-AC09-634CF100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4832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264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4832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1264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3E6B-D306-4F79-917F-8EFBA84C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8AE-60FA-4917-8570-4DF04A66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41E-FE07-4B06-8EB6-95C09C4A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485-604D-4E18-9072-B31CB59F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E6F-5B45-4B55-973B-8B7A6B9E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D86-CDD2-439C-A586-89F8966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432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1D1-9EBF-40EE-BC5C-E906E46F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F9E-F012-419D-A3BE-733F07E8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DCF5-398A-4792-9BC8-4F461EE30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F0A6-D576-49AF-B0D8-6109F64BD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Iceberg"/>
          <p:cNvPicPr/>
          <p:nvPr/>
        </p:nvPicPr>
        <p:blipFill>
          <a:blip r:embed="rId2"/>
          <a:stretch/>
        </p:blipFill>
        <p:spPr>
          <a:xfrm>
            <a:off x="5508720" y="2133720"/>
            <a:ext cx="361764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6200" y="1601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2360" y="334800"/>
            <a:ext cx="640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此输入公司说明介绍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85" name=""/>
          <p:cNvSpPr/>
          <p:nvPr/>
        </p:nvSpPr>
        <p:spPr>
          <a:xfrm>
            <a:off x="2304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Swis721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Swis721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Iceberg"/>
          <p:cNvPicPr/>
          <p:nvPr/>
        </p:nvPicPr>
        <p:blipFill>
          <a:blip r:embed="rId2"/>
          <a:stretch/>
        </p:blipFill>
        <p:spPr>
          <a:xfrm>
            <a:off x="4410000" y="981000"/>
            <a:ext cx="3618000" cy="4824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535320" y="3142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Swis721 Lt BT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1125360"/>
            <a:ext cx="4208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4 color 3d pie-iceblue"/>
          <p:cNvPicPr/>
          <p:nvPr/>
        </p:nvPicPr>
        <p:blipFill>
          <a:blip r:embed="rId2"/>
          <a:stretch/>
        </p:blipFill>
        <p:spPr>
          <a:xfrm>
            <a:off x="395280" y="1052640"/>
            <a:ext cx="7715160" cy="4941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2000" y="266400"/>
            <a:ext cx="1785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微软雅黑"/>
              </a:rPr>
              <a:t>冰动优势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411280" y="3789360"/>
            <a:ext cx="2449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796000" y="2205000"/>
            <a:ext cx="215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971640" y="2421000"/>
            <a:ext cx="1871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564000" y="1270080"/>
            <a:ext cx="2158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04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Swis721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Swis721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3920" y="256680"/>
            <a:ext cx="1685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微软雅黑"/>
              </a:rPr>
              <a:t>行业机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9" descr="3 blue Arrows in funnel gradients"/>
          <p:cNvPicPr/>
          <p:nvPr/>
        </p:nvPicPr>
        <p:blipFill>
          <a:blip r:embed="rId2"/>
          <a:stretch/>
        </p:blipFill>
        <p:spPr>
          <a:xfrm>
            <a:off x="1476360" y="2205000"/>
            <a:ext cx="6189840" cy="2390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1332000" y="1197000"/>
            <a:ext cx="1944720" cy="661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Swis721 Lt BT"/>
              </a:rPr>
              <a:t>在此添加内容</a:t>
            </a:r>
            <a:endParaRPr b="0" lang="en-US" sz="14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564000" y="1197000"/>
            <a:ext cx="1944720" cy="70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产品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796000" y="1197000"/>
            <a:ext cx="1944720" cy="70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客户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692360" y="4508640"/>
            <a:ext cx="5833800" cy="70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机遇所在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nd,thank you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感谢您的关注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360" y="334800"/>
            <a:ext cx="640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此输入公司说明介绍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107" name=""/>
          <p:cNvSpPr/>
          <p:nvPr/>
        </p:nvSpPr>
        <p:spPr>
          <a:xfrm>
            <a:off x="1144800" y="5445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Swis721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6:06:33Z</dcterms:created>
  <dc:creator/>
  <dc:description/>
  <dc:language>en-US</dc:language>
  <cp:lastModifiedBy>owner</cp:lastModifiedBy>
  <dcterms:modified xsi:type="dcterms:W3CDTF">2014-10-27T00:43:45Z</dcterms:modified>
  <cp:revision>4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