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0029-2664-42DA-9F45-1FF38286F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5F60-140C-4856-85D7-77BF9AADE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B2BC-6CFB-48E3-8E11-DF98610CA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25DC-18E6-4E79-B33E-2C792F3F5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4239-92E3-4D19-8EF1-7AEBF6E65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A071-A996-40BE-8D09-8DEB95F62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4760-B2E8-4DC2-938A-CF66BD051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10DA-488F-469E-99CB-762D896BB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EEC4-136E-4797-9336-1D9237980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72D6-63B3-4DDF-876A-54C36EC1A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8FAD-D6B6-478F-93D9-EA8FDEC7F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B52D-0F35-4C07-96F5-3A6F75178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9A480D7-42AD-420A-861B-EDAF607F7254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96" descr="bg1"/>
          <p:cNvPicPr/>
          <p:nvPr/>
        </p:nvPicPr>
        <p:blipFill>
          <a:blip r:embed="rId2"/>
          <a:stretch/>
        </p:blipFill>
        <p:spPr>
          <a:xfrm>
            <a:off x="-15840" y="0"/>
            <a:ext cx="917748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31640" y="1125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234756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936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FDBF6D8-64C8-484B-A43B-AB742F9733CE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2320" y="623736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26420a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26420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26420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26420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User</cp:lastModifiedBy>
  <cp:lastPrinted>1899-12-30T00:00:00Z</cp:lastPrinted>
  <dcterms:modified xsi:type="dcterms:W3CDTF">2014-05-15T06:55:50Z</dcterms:modified>
  <cp:revision>2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