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E0E-1DC5-4CE2-91A3-321C29C2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6DA-6749-4006-9BE1-10A49B78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ABE-2A30-4AA0-9470-CD34FE41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FA0-812A-4B99-B8C4-B28F7928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C3E-85AD-41EB-BFE1-DF6BBC5E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8AB-D8EF-4937-BF5A-C6729F5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22B-CAFD-45BB-944D-26216735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5FE-3B4C-4DEB-A3C6-C5280D68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120-8C6D-40F7-84B3-29B35F05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36F-0C82-44FC-8DB2-ECFE48FF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82B-B315-43B0-B54E-00075D6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A3C-4719-408F-ACB3-F3B6168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6A4-0BD3-4FC9-989C-B04AF465D05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7aa5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52000"/>
            <a:ext cx="64008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17aa5"/>
                </a:solidFill>
                <a:latin typeface="Calibri"/>
              </a:rPr>
              <a:t>Company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525800" y="47322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000" y="348840"/>
            <a:ext cx="6202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000" y="1344600"/>
            <a:ext cx="6202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666560" y="480384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071440" y="47322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20:51:42Z</dcterms:created>
  <dc:creator/>
  <dc:description/>
  <dc:language>en-US</dc:language>
  <cp:lastModifiedBy>Ric6000</cp:lastModifiedBy>
  <cp:lastPrinted>1899-12-30T00:00:00Z</cp:lastPrinted>
  <dcterms:modified xsi:type="dcterms:W3CDTF">2014-05-27T09:31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