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B62-A57A-45C1-B841-DCDE1EC2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AF0-E993-434F-A2D6-335D16B4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2A7-73B3-4BED-8E4C-96E0091F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5F7-322E-4F74-8CE5-41FFA56C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A6D2-49DD-4270-B0C3-ACC2E791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287E-A302-4A4B-95ED-7F458D95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BEBA-762C-4359-8A8F-127203D0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4C90-92C0-4427-9848-9927C2F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E611-09E0-415E-800E-C2BF87D6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F3BB-FDD0-462D-9EB4-DBA1EAFC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305E-B137-4C63-A2D8-C88DE3E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F2A-B151-4DA8-AD3F-4F5CE07C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9267-A33C-42F5-B816-C72E2F0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84CE-856E-461A-A317-3CC7F34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071F-B8B2-4E9B-AF46-0CE6D136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B751-AFDF-494D-95E5-A2635E36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058-7C08-409E-A9AE-49152B0B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AE3-68C5-4FDE-97D6-C7D8AC2D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A26-0772-4A92-B701-2FF37AC3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5EF-9D8B-4095-BD7B-44F7FCBA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2DC-EE40-4570-B7DB-531F4D3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860-9DB8-4096-A6CE-3B6460C7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846-D890-44B3-A9D4-36984F7C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704-8304-4FCE-BB2C-F0F5C36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AFD1-29E2-4489-B2AA-6F477916E7C4}" type="slidenum"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" y="4914720"/>
            <a:ext cx="62276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8DB-B156-411B-9A5B-E4A7D3594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66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966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" y="4914720"/>
            <a:ext cx="62276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棒球运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800" y="4365720"/>
            <a:ext cx="62276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4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8640" y="6343560"/>
            <a:ext cx="60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54:51Z</dcterms:created>
  <dc:creator>Administrator</dc:creator>
  <dc:description/>
  <dc:language>en-US</dc:language>
  <cp:lastModifiedBy/>
  <dcterms:modified xsi:type="dcterms:W3CDTF">2014-11-06T01:22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