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FC89-13B5-443A-9CEA-22A6F4B8F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23E8-89E8-4A5E-8FFB-1EFF4DCF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8396-9F06-4F0F-8E4A-F6CA596A4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F22B-8EBE-43C8-B511-EC61B1A8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D101-8132-4628-B10A-E6281464E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B598F-5F45-49AB-B673-46BD165D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9D1B-C36B-4FD5-AA88-C7028F56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9B85E-332D-4A91-96E2-F6051BCA0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3999-0600-4199-BE53-8BEF6D69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6D0B-F008-4135-8F5D-0C94405E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2F86-A8F4-4695-B848-C627A089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5E1-D7EF-4D22-A9D1-4C9A96061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FC16-0CD6-4985-98FE-B69C25A8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BC8A6-48E2-4A09-8E0B-FE9B2004E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DF8D5-A22E-4D93-A6F7-1FC87E0A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38D8-BC3C-4968-89F6-0CD97908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E5C7-5B82-48EB-A03F-218B35E73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EEE9-0E0C-412E-8CFB-C4775FD3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2BD1-DC4C-49F6-8047-B882BB55B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7BD-B931-4DDB-971D-CF06AAE7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47F3-A27C-43E7-AC56-E6FB59F56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C563-ED79-4E2B-B1A6-0A807CB21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6992-171F-4DC7-88F6-183941DF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EEB0-2D13-4EB5-B334-206F4AD0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4e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64e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4e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60D2-F9AC-454D-BAAE-61E8FE930403}" type="slidenum">
              <a:rPr b="0" lang="en-US" sz="1200" spc="-1" strike="noStrike">
                <a:solidFill>
                  <a:srgbClr val="064e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4a8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4e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64e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64e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3EA68-4A99-447B-9F69-C5E12EC48C2B}" type="slidenum">
              <a:rPr b="0" lang="en-US" sz="1200" spc="-1" strike="noStrike">
                <a:solidFill>
                  <a:srgbClr val="064e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206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6540120" y="6093000"/>
            <a:ext cx="232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51016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785880" y="57168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6007b"/>
                </a:solidFill>
                <a:latin typeface="宋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214200" y="114300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4a8"/>
                </a:solidFill>
                <a:latin typeface="宋体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5"/>
          <p:cNvSpPr/>
          <p:nvPr/>
        </p:nvSpPr>
        <p:spPr>
          <a:xfrm rot="21444000">
            <a:off x="5000760" y="503280"/>
            <a:ext cx="40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6007b"/>
                </a:solidFill>
                <a:latin typeface="宋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 rot="21435000">
            <a:off x="5008680" y="1041480"/>
            <a:ext cx="40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4a8"/>
                </a:solidFill>
                <a:latin typeface="宋体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214200" y="3794040"/>
            <a:ext cx="870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54a8"/>
                </a:solidFill>
                <a:latin typeface="宋体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Franklin Gothic Medium"/>
              <a:ea typeface="隶书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4a8"/>
              </a:solidFill>
              <a:latin typeface="Franklin Gothic Book"/>
            </a:endParaRPr>
          </a:p>
        </p:txBody>
      </p:sp>
      <p:sp>
        <p:nvSpPr>
          <p:cNvPr id="93" name=""/>
          <p:cNvSpPr/>
          <p:nvPr/>
        </p:nvSpPr>
        <p:spPr>
          <a:xfrm>
            <a:off x="1722960" y="623736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8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8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1:41:59Z</dcterms:created>
  <dc:creator/>
  <dc:description/>
  <dc:language>en-US</dc:language>
  <cp:lastModifiedBy/>
  <cp:lastPrinted>1899-12-30T00:00:00Z</cp:lastPrinted>
  <dcterms:modified xsi:type="dcterms:W3CDTF">2014-06-03T05:41:1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  <property fmtid="{D5CDD505-2E9C-101B-9397-08002B2CF9AE}" pid="3" name="_TemplateID">
    <vt:lpwstr>TC103626592052</vt:lpwstr>
  </property>
</Properties>
</file>